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1C8-BA54-4060-935E-6891DAD7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382-233F-4C82-96B9-31D5700B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2F5-A6CF-4011-88FF-B775A54C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A1B-F0FA-4445-B040-001C287B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CD08-2AE4-4052-B0F6-EF874189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C6C6-49D6-457A-A966-B3C3D223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35F9-AAED-43C0-9292-32C72F9F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45D0-8A1C-4495-8D9D-43705480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D877-ACF5-4A51-8385-F7E21739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E5BE-825D-4C03-9DA5-0F89F629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F479-2711-43AC-9D25-30A8DCE0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3C7-9E93-48FE-8CC9-48AAD514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9C37-AE2B-41F7-9284-20D45B95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56A2-5165-4F9D-8BDF-053DB9EC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71FB-F6E5-4795-8072-35B8B671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4E44-9F33-48C3-85E9-354AB4E6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3843-E6C8-4939-9645-BCA87E44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4F1-D744-4AA1-9ED5-7B037E64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490-F979-45D3-9FB8-99D126AD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EA6-108C-4BD5-873C-0FA58C0C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CFD-BD4A-441B-A452-DFE742C3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D31-12E9-45F6-8EE0-7FE76D8F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2EF-6F8D-4CCF-8171-07E1B1F2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6B7-62F3-4C10-B482-066DBF18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0C47-AFAD-421E-AFF3-66D56DD5A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663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8080" y="198396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i="1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025A-2EA5-493F-B933-F1C85765DE8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7200" spc="-1" strike="noStrike">
                <a:solidFill>
                  <a:srgbClr val="000000"/>
                </a:solidFill>
                <a:latin typeface="Times New Roman"/>
              </a:rPr>
              <a:t>Testosterone Effect</a:t>
            </a:r>
            <a:br>
              <a:rPr sz="7200"/>
            </a:br>
            <a:r>
              <a:rPr b="1" i="1" lang="en-AU" sz="7200" spc="-1" strike="noStrike">
                <a:solidFill>
                  <a:srgbClr val="000000"/>
                </a:solidFill>
                <a:latin typeface="Times New Roman"/>
              </a:rPr>
              <a:t>on</a:t>
            </a:r>
            <a:br>
              <a:rPr sz="7200"/>
            </a:br>
            <a:r>
              <a:rPr b="1" i="1" lang="en-AU" sz="7200" spc="-1" strike="noStrike">
                <a:solidFill>
                  <a:srgbClr val="000000"/>
                </a:solidFill>
                <a:latin typeface="Times New Roman"/>
              </a:rPr>
              <a:t>Lipids ,Bone Density</a:t>
            </a:r>
            <a:br>
              <a:rPr sz="7200"/>
            </a:br>
            <a:r>
              <a:rPr b="1" i="1" lang="en-AU" sz="7200" spc="-1" strike="noStrike">
                <a:solidFill>
                  <a:srgbClr val="000000"/>
                </a:solidFill>
                <a:latin typeface="Times New Roman"/>
              </a:rPr>
              <a:t>and Breast Cancer Incidence</a:t>
            </a:r>
            <a:endParaRPr b="0" i="1" lang="en-US" sz="7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586728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“ABC Stud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5244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otal no. attempted contact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536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uccessful contact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520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Unable to contact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 11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Gone o/s or i/s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Women receiving oestrogen replacement in the menopause have been given the expectation that it will give a cardioprotective effect at least in terms of the proxy markers of HDL and LDL cholesterol.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It would be of concern if that protective effect was lost with the introduction of testosterone.</a:t>
            </a:r>
            <a:br>
              <a:rPr sz="4400"/>
            </a:b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HDL and LDL were followed over the 12 year span.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cc0000"/>
                </a:solidFill>
                <a:latin typeface="Times New Roman"/>
              </a:rPr>
              <a:t>HDL Cholesterol 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43000" y="1295280"/>
          <a:ext cx="8001000" cy="53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80010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010280" y="4648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S.D. 0.3-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81080" y="2286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cc0000"/>
                </a:solidFill>
                <a:latin typeface="Times New Roman"/>
              </a:rPr>
              <a:t>LDL Cholestero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1219320"/>
          <a:ext cx="807732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807732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086600" y="4267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D 0.9-1.1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It would appear that there was no serious adverse effect by the testosterone on these two markers.</a:t>
            </a:r>
            <a:br>
              <a:rPr sz="4400"/>
            </a:b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mean levels while varying over time, would be acceptable.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addition of testosterone to conventional HRT has the reputation for improving bone density.</a:t>
            </a:r>
            <a:br>
              <a:rPr sz="4400"/>
            </a:b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is assertion was examined.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cc0000"/>
                </a:solidFill>
                <a:latin typeface="Times New Roman"/>
              </a:rPr>
              <a:t>Change in Lumbar Density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19320" y="2209680"/>
          <a:ext cx="7162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09680"/>
                    <a:ext cx="7162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238880" y="18288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77-1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8520" y="243828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+3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cc0000"/>
                </a:solidFill>
                <a:latin typeface="Times New Roman"/>
              </a:rPr>
              <a:t>Change in Hip Density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19320" y="2209680"/>
          <a:ext cx="7162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09680"/>
                    <a:ext cx="7162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391520" y="1905120"/>
            <a:ext cx="1523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0.77-1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+3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17760" y="2279520"/>
            <a:ext cx="6940440" cy="351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49640" y="3079800"/>
            <a:ext cx="4543200" cy="1712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49640" y="4363920"/>
            <a:ext cx="454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49640" y="3936960"/>
            <a:ext cx="454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49640" y="3508200"/>
            <a:ext cx="454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49640" y="3079800"/>
            <a:ext cx="454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49640" y="3079800"/>
            <a:ext cx="4543200" cy="17128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49640" y="3079800"/>
            <a:ext cx="144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93840" y="47926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3840" y="43639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3840" y="393696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93840" y="350820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93840" y="30798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49640" y="4792680"/>
            <a:ext cx="454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249640" y="4792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768840" y="4792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273640" y="47926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792840" y="479268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008160" y="4571640"/>
            <a:ext cx="1563840" cy="220680"/>
          </a:xfrm>
          <a:prstGeom prst="line">
            <a:avLst/>
          </a:prstGeom>
          <a:ln w="3348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27720" y="3355920"/>
            <a:ext cx="1506240" cy="1216080"/>
          </a:xfrm>
          <a:prstGeom prst="line">
            <a:avLst/>
          </a:prstGeom>
          <a:ln w="3348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67120" y="4751280"/>
            <a:ext cx="82440" cy="82800"/>
          </a:xfrm>
          <a:custGeom>
            <a:avLst/>
            <a:gdLst/>
            <a:ahLst/>
            <a:rect l="l" t="t" r="r" b="b"/>
            <a:pathLst>
              <a:path w="52" h="52">
                <a:moveTo>
                  <a:pt x="26" y="0"/>
                </a:moveTo>
                <a:lnTo>
                  <a:pt x="52" y="26"/>
                </a:lnTo>
                <a:lnTo>
                  <a:pt x="26" y="52"/>
                </a:lnTo>
                <a:lnTo>
                  <a:pt x="0" y="26"/>
                </a:lnTo>
                <a:lnTo>
                  <a:pt x="26" y="0"/>
                </a:lnTo>
                <a:close/>
              </a:path>
            </a:pathLst>
          </a:custGeom>
          <a:solidFill>
            <a:srgbClr val="ff6633"/>
          </a:solidFill>
          <a:ln w="3348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86320" y="4530600"/>
            <a:ext cx="82440" cy="82800"/>
          </a:xfrm>
          <a:custGeom>
            <a:avLst/>
            <a:gdLst/>
            <a:ahLst/>
            <a:rect l="l" t="t" r="r" b="b"/>
            <a:pathLst>
              <a:path w="52" h="52">
                <a:moveTo>
                  <a:pt x="26" y="0"/>
                </a:moveTo>
                <a:lnTo>
                  <a:pt x="52" y="26"/>
                </a:lnTo>
                <a:lnTo>
                  <a:pt x="26" y="52"/>
                </a:lnTo>
                <a:lnTo>
                  <a:pt x="0" y="26"/>
                </a:lnTo>
                <a:lnTo>
                  <a:pt x="26" y="0"/>
                </a:lnTo>
                <a:close/>
              </a:path>
            </a:pathLst>
          </a:custGeom>
          <a:solidFill>
            <a:srgbClr val="ff6633"/>
          </a:solidFill>
          <a:ln w="3348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92920" y="3314880"/>
            <a:ext cx="82440" cy="82440"/>
          </a:xfrm>
          <a:custGeom>
            <a:avLst/>
            <a:gdLst/>
            <a:ahLst/>
            <a:rect l="l" t="t" r="r" b="b"/>
            <a:pathLst>
              <a:path w="52" h="52">
                <a:moveTo>
                  <a:pt x="26" y="0"/>
                </a:moveTo>
                <a:lnTo>
                  <a:pt x="52" y="26"/>
                </a:lnTo>
                <a:lnTo>
                  <a:pt x="26" y="52"/>
                </a:lnTo>
                <a:lnTo>
                  <a:pt x="0" y="26"/>
                </a:lnTo>
                <a:lnTo>
                  <a:pt x="26" y="0"/>
                </a:lnTo>
                <a:close/>
              </a:path>
            </a:pathLst>
          </a:custGeom>
          <a:solidFill>
            <a:srgbClr val="ff6633"/>
          </a:solidFill>
          <a:ln w="3348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9840" y="1295280"/>
            <a:ext cx="6439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ange in LS BMD over  3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1360" y="4681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61360" y="4254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61360" y="3825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61360" y="3397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61360" y="2970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11320" y="494496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31960" y="494496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37120" y="494496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88440" y="526248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BMD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952200" y="4080240"/>
            <a:ext cx="187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% Change in B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3657600"/>
            <a:ext cx="1600200" cy="60948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3520" y="3963960"/>
            <a:ext cx="372960" cy="1440"/>
          </a:xfrm>
          <a:prstGeom prst="line">
            <a:avLst/>
          </a:prstGeom>
          <a:ln w="3348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51760" y="3922560"/>
            <a:ext cx="84240" cy="82800"/>
          </a:xfrm>
          <a:custGeom>
            <a:avLst/>
            <a:gdLst/>
            <a:ahLst/>
            <a:rect l="l" t="t" r="r" b="b"/>
            <a:pathLst>
              <a:path w="53" h="52">
                <a:moveTo>
                  <a:pt x="26" y="0"/>
                </a:moveTo>
                <a:lnTo>
                  <a:pt x="53" y="26"/>
                </a:lnTo>
                <a:lnTo>
                  <a:pt x="26" y="52"/>
                </a:lnTo>
                <a:lnTo>
                  <a:pt x="0" y="26"/>
                </a:lnTo>
                <a:lnTo>
                  <a:pt x="26" y="0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17760" y="2279520"/>
            <a:ext cx="662940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18240" y="3963960"/>
            <a:ext cx="68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90080" y="3809880"/>
            <a:ext cx="933480" cy="36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eri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is is a preliminary view of data collected on women receiving testosterone with oestrogen replacement in the menopause</a:t>
            </a:r>
            <a:br>
              <a:rPr sz="4400"/>
            </a:b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se data are yet to be finally analys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initial improvement in bone density of only 3.1% in either area fell short of expectation as did the overall loss.</a:t>
            </a:r>
            <a:br>
              <a:rPr sz="4400"/>
            </a:b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Declining densities in smaller numbers was attributed to non- responders to HRT.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As the years passed, it was noted that the testosterone appeared to have the capacity to reduce oestrogen stimulated breast soreness and the incidence of abnormal mammograms appeared to be reduc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25244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only possible exception to this would be when the woman was inadequately replaced with oestrogen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Under these circumstances it is believed that there may have been increased aromatisation of testosterone to oestrogen within the breast t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52440" y="60948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simplistic idea emerged that if  oestrogen was at least a promoter of breast cancer, and if testosterone reduced breast stimulation, might it not be shown to decrease the incidence of breast canc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524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Date of Incidence of the Can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76520" y="1943280"/>
          <a:ext cx="6877080" cy="45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43280"/>
                    <a:ext cx="6877080" cy="45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7010280" y="5867280"/>
            <a:ext cx="8985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52440" y="380880"/>
            <a:ext cx="7772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A survival analysis for the study group was undertaken.</a:t>
            </a:r>
            <a:br>
              <a:rPr sz="3600"/>
            </a:br>
            <a:br>
              <a:rPr sz="3600"/>
            </a:b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The starting date for the measurement of survival time was the date of first testosterone implant.</a:t>
            </a:r>
            <a:br>
              <a:rPr sz="3600"/>
            </a:b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The end time was the date of last follow up for those women not diagnosed with breast cancer, and date of diagnosis for those women diagnosed with breast canc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524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survival time was compared with data taken from the S. A. Cancer Regis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00200" y="53352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The 10-year breast cancer free survival rate for patients in the trial w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6629400" cy="12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400" spc="-1" strike="noStrike">
                <a:solidFill>
                  <a:srgbClr val="ff3300"/>
                </a:solidFill>
                <a:latin typeface="Times New Roman"/>
              </a:rPr>
              <a:t>97.41%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(95% confidence interval of 95.53% to 99.29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396252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AU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pected</a:t>
            </a:r>
            <a:r>
              <a:rPr b="1" i="1" lang="en-AU" sz="4000" spc="-1" strike="noStrike">
                <a:solidFill>
                  <a:srgbClr val="000000"/>
                </a:solidFill>
                <a:latin typeface="Times New Roman"/>
              </a:rPr>
              <a:t> 10-year breast cancer free survival rate for patients in the trial w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55627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400" spc="-1" strike="noStrike">
                <a:solidFill>
                  <a:srgbClr val="ff3300"/>
                </a:solidFill>
                <a:latin typeface="Times New Roman"/>
              </a:rPr>
              <a:t>97.52%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380880"/>
            <a:ext cx="75438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>
                <a:solidFill>
                  <a:srgbClr val="000000"/>
                </a:solidFill>
                <a:latin typeface="Times New Roman"/>
              </a:rPr>
              <a:t>It would appear then that the survival from the diagnosis breast cancer did not differ from that of the South Australian population at large of whom 44.3% were taking oestroge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380880"/>
            <a:ext cx="77724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It would have been optimal to compare the study group with women taking oestrogen alone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A statistical estimate was made of expected rates if 100% of the women in the Omnibus Study had been taking oestrogen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R.R. of 1.35 (Beral et al) was used in this exerc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52440" y="609480"/>
            <a:ext cx="77724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A retrospective data collection was undertaken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A list of patients receiving testosterone were drawn from the computer billing record and contacted by telephone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interview was conducted by a research assistant with a standardised questionna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52440" y="609480"/>
            <a:ext cx="77724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S. A. Health Omnibus Study tells us that in 1997  the current use of oestrogen was a maximum of 44.3% and the ‘ever use’ was 63.6%,  and that only 5.4% of these had ever used testoster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The calculation shows that the </a:t>
            </a:r>
            <a:r>
              <a:rPr b="1" i="1" lang="en-AU" sz="3600" spc="-1" strike="noStrike" u="sng">
                <a:solidFill>
                  <a:srgbClr val="000000"/>
                </a:solidFill>
                <a:uFillTx/>
                <a:latin typeface="Times New Roman"/>
              </a:rPr>
              <a:t>expected</a:t>
            </a: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 10-year breast cancer free survival rate for patients in the trial w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9625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It might therefore be suspected that if the testosterone users were compared with oestrogen only users, the incidence of breast cancer would be re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1981080"/>
            <a:ext cx="6476760" cy="18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0000"/>
                </a:solidFill>
                <a:latin typeface="Times New Roman"/>
              </a:rPr>
              <a:t>?? </a:t>
            </a:r>
            <a:r>
              <a:rPr b="1" lang="en-A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5400" spc="-1" strike="noStrike">
                <a:solidFill>
                  <a:srgbClr val="000000"/>
                </a:solidFill>
                <a:latin typeface="Times New Roman"/>
              </a:rPr>
              <a:t>92%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A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AU" sz="5400" spc="-1" strike="noStrike">
                <a:solidFill>
                  <a:srgbClr val="000000"/>
                </a:solidFill>
                <a:latin typeface="Times New Roman"/>
              </a:rPr>
              <a:t>97.41%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(95% confidence interval of 95.53% to 99.29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410080" y="1600200"/>
            <a:ext cx="3353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0000"/>
                </a:solidFill>
                <a:latin typeface="Times New Roman"/>
              </a:rPr>
              <a:t>Thank you for   your attentio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359424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800"/>
                            </p:stCondLst>
                            <p:childTnLst>
                              <p:par>
                                <p:cTn id="3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44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520 women received testosterone and oestrogen by implant over 12 years.</a:t>
            </a:r>
            <a:br>
              <a:rPr sz="4400"/>
            </a:b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current population of women receiving both testosterone and oestrogen in my practice at that time was: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1000+/- patients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Oestrogen was given at 5-12 month intervals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estosterone was given at 5-6 monthly intervals. </a:t>
            </a:r>
            <a:br>
              <a:rPr sz="4400"/>
            </a:b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The dose of testosterone varied between 50 and 100 mgm and rarely 150 mgm.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dose of implant was selected on subjective response, checked  by objective measurement and reduced if adverse side effects emerged.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1600" y="380880"/>
            <a:ext cx="7543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measured total level would often exceed the premenopausal “normal range”.</a:t>
            </a:r>
            <a:br>
              <a:rPr sz="4400"/>
            </a:br>
            <a:br>
              <a:rPr sz="20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relevant level would be the bioavailable range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(testosterone </a:t>
            </a:r>
            <a:r>
              <a:rPr b="1" i="1" lang="en-AU" sz="4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HBG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“testosterone index”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762120"/>
            <a:ext cx="7772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Originally the testosterone was used in line with conventional medical wisdom to improve libido.</a:t>
            </a:r>
            <a:br>
              <a:rPr sz="4400"/>
            </a:b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Quite quickly it became apparent that this was not the major benefit that the hormone could confer on the wom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3808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The data included in addition to basic clinical informatio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2286000"/>
            <a:ext cx="746748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benign breas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breast c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HDL/ L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hip and spine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5T23:33:52Z</dcterms:created>
  <dc:creator>Robert A Jones</dc:creator>
  <dc:description/>
  <dc:language>en-US</dc:language>
  <cp:lastModifiedBy>Dr Robert A. Jones</cp:lastModifiedBy>
  <cp:lastPrinted>2000-10-26T07:41:44Z</cp:lastPrinted>
  <dcterms:modified xsi:type="dcterms:W3CDTF">2003-04-09T05:11:31Z</dcterms:modified>
  <cp:revision>12</cp:revision>
  <dc:subject/>
  <dc:title>Testosterone Effect on Lipids and Bone Density</dc:title>
</cp:coreProperties>
</file>