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0.wmf" ContentType="image/x-wmf"/>
  <Override PartName="/ppt/media/image17.wmf" ContentType="image/x-wmf"/>
  <Override PartName="/ppt/media/image16.jpeg" ContentType="image/jpeg"/>
  <Override PartName="/ppt/media/image15.png" ContentType="image/png"/>
  <Override PartName="/ppt/media/image5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9.wmf" ContentType="image/x-wmf"/>
  <Override PartName="/ppt/media/image14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6E7B-C885-4851-A982-6E35E7A87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6946-CAA4-453B-976D-CBF600A0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9F8F-7BD2-420A-BF02-27C6AE87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DBD1-BB23-450A-82CA-09F10209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B7830-DA62-42C2-AB78-21DAAF81A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B2974-B2CF-4656-BAA8-410DF22E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0031C-B704-4EEE-A786-D0591378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C07E0-5F2B-4610-BF64-4DABD0C0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3C57D-CADD-4660-9F55-DD009C39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240CE-CE78-4A4C-9147-540666DE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AD073-EA0D-4544-9168-4EC3603A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E9DE-D971-4D42-B524-B19F8C1D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86130-73E3-4440-9823-DAF14707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A484B-C8CE-4E51-AF16-B972E52E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300E9-D63E-4F93-8739-573FE925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33B45-A944-40A9-AD45-0C2A4085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BF96C-F076-4D0E-8201-89EF1B4C6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E41F-1C0E-4DE3-8CDC-7E173B49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FC2E-9E45-44AF-8805-594A6499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9FFA-F723-46AC-B562-0A67FCD2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C4B4-1458-43B4-A2A5-AA1EF979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0476-1385-4BE2-9FE5-42F88E23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AAE1-C8C3-4559-82DF-9AAC1DF4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71F9-484C-4300-A3A3-F3C2398C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618B-85EB-42AA-8DF1-615BEABA4702}" type="datetime3">
              <a:rPr b="0" lang="en-US" sz="1400" spc="-1" strike="noStrike">
                <a:solidFill>
                  <a:srgbClr val="ffff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276C-1212-4A06-AF5D-E2CE43936650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092D-581E-4686-B067-BB6132AB83EA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F6FE-52E2-4DD7-B184-02C46EAEFCD0}" type="datetime3">
              <a:rPr b="0" lang="en-US" sz="1400" spc="-1" strike="noStrike">
                <a:solidFill>
                  <a:srgbClr val="ffff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9081360" cy="5256360"/>
            <a:chOff x="0" y="0"/>
            <a:chExt cx="9081360" cy="5256360"/>
          </a:xfrm>
        </p:grpSpPr>
        <p:grpSp>
          <p:nvGrpSpPr>
            <p:cNvPr id="84" name=""/>
            <p:cNvGrpSpPr/>
            <p:nvPr/>
          </p:nvGrpSpPr>
          <p:grpSpPr>
            <a:xfrm>
              <a:off x="3624840" y="3240"/>
              <a:ext cx="5456520" cy="4889520"/>
              <a:chOff x="3624840" y="3240"/>
              <a:chExt cx="5456520" cy="488952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8279280" y="3111480"/>
                <a:ext cx="802080" cy="1781280"/>
                <a:chOff x="8279280" y="3111480"/>
                <a:chExt cx="802080" cy="1781280"/>
              </a:xfrm>
            </p:grpSpPr>
            <p:grpSp>
              <p:nvGrpSpPr>
                <p:cNvPr id="86" name=""/>
                <p:cNvGrpSpPr/>
                <p:nvPr/>
              </p:nvGrpSpPr>
              <p:grpSpPr>
                <a:xfrm>
                  <a:off x="8279280" y="4368960"/>
                  <a:ext cx="802080" cy="523800"/>
                  <a:chOff x="8279280" y="4368960"/>
                  <a:chExt cx="802080" cy="52380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>
                    <a:off x="8952120" y="4368960"/>
                    <a:ext cx="12924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200">
                        <a:moveTo>
                          <a:pt x="29" y="3"/>
                        </a:moveTo>
                        <a:lnTo>
                          <a:pt x="37" y="0"/>
                        </a:lnTo>
                        <a:lnTo>
                          <a:pt x="53" y="22"/>
                        </a:lnTo>
                        <a:lnTo>
                          <a:pt x="51" y="86"/>
                        </a:lnTo>
                        <a:lnTo>
                          <a:pt x="62" y="86"/>
                        </a:lnTo>
                        <a:lnTo>
                          <a:pt x="64" y="94"/>
                        </a:lnTo>
                        <a:lnTo>
                          <a:pt x="68" y="108"/>
                        </a:lnTo>
                        <a:lnTo>
                          <a:pt x="70" y="116"/>
                        </a:lnTo>
                        <a:lnTo>
                          <a:pt x="79" y="113"/>
                        </a:lnTo>
                        <a:lnTo>
                          <a:pt x="86" y="100"/>
                        </a:lnTo>
                        <a:lnTo>
                          <a:pt x="88" y="108"/>
                        </a:lnTo>
                        <a:lnTo>
                          <a:pt x="84" y="119"/>
                        </a:lnTo>
                        <a:lnTo>
                          <a:pt x="79" y="127"/>
                        </a:lnTo>
                        <a:lnTo>
                          <a:pt x="77" y="144"/>
                        </a:lnTo>
                        <a:lnTo>
                          <a:pt x="66" y="152"/>
                        </a:lnTo>
                        <a:lnTo>
                          <a:pt x="59" y="155"/>
                        </a:lnTo>
                        <a:lnTo>
                          <a:pt x="51" y="163"/>
                        </a:lnTo>
                        <a:lnTo>
                          <a:pt x="48" y="171"/>
                        </a:lnTo>
                        <a:lnTo>
                          <a:pt x="51" y="180"/>
                        </a:lnTo>
                        <a:lnTo>
                          <a:pt x="53" y="188"/>
                        </a:lnTo>
                        <a:lnTo>
                          <a:pt x="42" y="193"/>
                        </a:lnTo>
                        <a:lnTo>
                          <a:pt x="35" y="196"/>
                        </a:lnTo>
                        <a:lnTo>
                          <a:pt x="29" y="199"/>
                        </a:lnTo>
                        <a:lnTo>
                          <a:pt x="24" y="196"/>
                        </a:lnTo>
                        <a:lnTo>
                          <a:pt x="13" y="193"/>
                        </a:lnTo>
                        <a:lnTo>
                          <a:pt x="9" y="188"/>
                        </a:lnTo>
                        <a:lnTo>
                          <a:pt x="13" y="182"/>
                        </a:lnTo>
                        <a:lnTo>
                          <a:pt x="22" y="180"/>
                        </a:lnTo>
                        <a:lnTo>
                          <a:pt x="29" y="166"/>
                        </a:lnTo>
                        <a:lnTo>
                          <a:pt x="29" y="160"/>
                        </a:lnTo>
                        <a:lnTo>
                          <a:pt x="22" y="155"/>
                        </a:lnTo>
                        <a:lnTo>
                          <a:pt x="13" y="146"/>
                        </a:lnTo>
                        <a:lnTo>
                          <a:pt x="7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7" y="130"/>
                        </a:lnTo>
                        <a:lnTo>
                          <a:pt x="13" y="127"/>
                        </a:lnTo>
                        <a:lnTo>
                          <a:pt x="22" y="119"/>
                        </a:lnTo>
                        <a:lnTo>
                          <a:pt x="26" y="116"/>
                        </a:lnTo>
                        <a:lnTo>
                          <a:pt x="31" y="86"/>
                        </a:lnTo>
                        <a:lnTo>
                          <a:pt x="26" y="77"/>
                        </a:lnTo>
                        <a:lnTo>
                          <a:pt x="20" y="72"/>
                        </a:lnTo>
                        <a:lnTo>
                          <a:pt x="18" y="55"/>
                        </a:lnTo>
                        <a:lnTo>
                          <a:pt x="20" y="39"/>
                        </a:lnTo>
                        <a:lnTo>
                          <a:pt x="22" y="28"/>
                        </a:lnTo>
                        <a:lnTo>
                          <a:pt x="29" y="3"/>
                        </a:lnTo>
                      </a:path>
                    </a:pathLst>
                  </a:custGeom>
                  <a:solidFill>
                    <a:srgbClr val="00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8706960" y="4622760"/>
                    <a:ext cx="23760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70">
                        <a:moveTo>
                          <a:pt x="115" y="0"/>
                        </a:moveTo>
                        <a:lnTo>
                          <a:pt x="134" y="0"/>
                        </a:lnTo>
                        <a:lnTo>
                          <a:pt x="163" y="44"/>
                        </a:lnTo>
                        <a:lnTo>
                          <a:pt x="132" y="83"/>
                        </a:lnTo>
                        <a:lnTo>
                          <a:pt x="132" y="100"/>
                        </a:lnTo>
                        <a:lnTo>
                          <a:pt x="126" y="105"/>
                        </a:lnTo>
                        <a:lnTo>
                          <a:pt x="108" y="105"/>
                        </a:lnTo>
                        <a:lnTo>
                          <a:pt x="86" y="127"/>
                        </a:lnTo>
                        <a:lnTo>
                          <a:pt x="66" y="150"/>
                        </a:lnTo>
                        <a:lnTo>
                          <a:pt x="53" y="169"/>
                        </a:lnTo>
                        <a:lnTo>
                          <a:pt x="53" y="152"/>
                        </a:lnTo>
                        <a:lnTo>
                          <a:pt x="29" y="155"/>
                        </a:lnTo>
                        <a:lnTo>
                          <a:pt x="18" y="155"/>
                        </a:lnTo>
                        <a:lnTo>
                          <a:pt x="0" y="155"/>
                        </a:lnTo>
                        <a:lnTo>
                          <a:pt x="24" y="127"/>
                        </a:lnTo>
                        <a:lnTo>
                          <a:pt x="33" y="114"/>
                        </a:lnTo>
                        <a:lnTo>
                          <a:pt x="42" y="114"/>
                        </a:lnTo>
                        <a:lnTo>
                          <a:pt x="59" y="91"/>
                        </a:lnTo>
                        <a:lnTo>
                          <a:pt x="66" y="91"/>
                        </a:lnTo>
                        <a:lnTo>
                          <a:pt x="66" y="89"/>
                        </a:lnTo>
                        <a:lnTo>
                          <a:pt x="75" y="80"/>
                        </a:lnTo>
                        <a:lnTo>
                          <a:pt x="86" y="80"/>
                        </a:lnTo>
                        <a:lnTo>
                          <a:pt x="82" y="55"/>
                        </a:lnTo>
                        <a:lnTo>
                          <a:pt x="84" y="55"/>
                        </a:lnTo>
                        <a:lnTo>
                          <a:pt x="95" y="42"/>
                        </a:lnTo>
                        <a:lnTo>
                          <a:pt x="99" y="53"/>
                        </a:lnTo>
                        <a:lnTo>
                          <a:pt x="117" y="33"/>
                        </a:lnTo>
                        <a:lnTo>
                          <a:pt x="115" y="0"/>
                        </a:lnTo>
                      </a:path>
                    </a:pathLst>
                  </a:custGeom>
                  <a:solidFill>
                    <a:srgbClr val="00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8279280" y="4638600"/>
                    <a:ext cx="9108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90">
                        <a:moveTo>
                          <a:pt x="0" y="0"/>
                        </a:moveTo>
                        <a:lnTo>
                          <a:pt x="13" y="0"/>
                        </a:lnTo>
                        <a:lnTo>
                          <a:pt x="29" y="11"/>
                        </a:lnTo>
                        <a:lnTo>
                          <a:pt x="62" y="11"/>
                        </a:lnTo>
                        <a:lnTo>
                          <a:pt x="58" y="25"/>
                        </a:lnTo>
                        <a:lnTo>
                          <a:pt x="62" y="42"/>
                        </a:lnTo>
                        <a:lnTo>
                          <a:pt x="51" y="42"/>
                        </a:lnTo>
                        <a:lnTo>
                          <a:pt x="49" y="45"/>
                        </a:lnTo>
                        <a:lnTo>
                          <a:pt x="42" y="47"/>
                        </a:lnTo>
                        <a:lnTo>
                          <a:pt x="49" y="89"/>
                        </a:lnTo>
                        <a:lnTo>
                          <a:pt x="29" y="86"/>
                        </a:lnTo>
                        <a:lnTo>
                          <a:pt x="11" y="72"/>
                        </a:lnTo>
                        <a:lnTo>
                          <a:pt x="11" y="45"/>
                        </a:lnTo>
                        <a:lnTo>
                          <a:pt x="11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" name=""/>
                <p:cNvSpPr/>
                <p:nvPr/>
              </p:nvSpPr>
              <p:spPr>
                <a:xfrm>
                  <a:off x="8441640" y="3111480"/>
                  <a:ext cx="144720" cy="160200"/>
                </a:xfrm>
                <a:custGeom>
                  <a:avLst/>
                  <a:gdLst/>
                  <a:ahLst/>
                  <a:rect l="l" t="t" r="r" b="b"/>
                  <a:pathLst>
                    <a:path w="100" h="101">
                      <a:moveTo>
                        <a:pt x="18" y="37"/>
                      </a:moveTo>
                      <a:lnTo>
                        <a:pt x="0" y="80"/>
                      </a:lnTo>
                      <a:lnTo>
                        <a:pt x="7" y="97"/>
                      </a:lnTo>
                      <a:lnTo>
                        <a:pt x="35" y="100"/>
                      </a:lnTo>
                      <a:lnTo>
                        <a:pt x="59" y="100"/>
                      </a:lnTo>
                      <a:lnTo>
                        <a:pt x="68" y="83"/>
                      </a:lnTo>
                      <a:lnTo>
                        <a:pt x="73" y="66"/>
                      </a:lnTo>
                      <a:lnTo>
                        <a:pt x="99" y="66"/>
                      </a:lnTo>
                      <a:lnTo>
                        <a:pt x="95" y="40"/>
                      </a:lnTo>
                      <a:lnTo>
                        <a:pt x="95" y="14"/>
                      </a:lnTo>
                      <a:lnTo>
                        <a:pt x="68" y="0"/>
                      </a:lnTo>
                      <a:lnTo>
                        <a:pt x="66" y="29"/>
                      </a:lnTo>
                      <a:lnTo>
                        <a:pt x="81" y="46"/>
                      </a:lnTo>
                      <a:lnTo>
                        <a:pt x="57" y="46"/>
                      </a:lnTo>
                      <a:lnTo>
                        <a:pt x="48" y="57"/>
                      </a:lnTo>
                      <a:lnTo>
                        <a:pt x="18" y="37"/>
                      </a:lnTo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6854760" y="776160"/>
                <a:ext cx="1690920" cy="3799080"/>
                <a:chOff x="6854760" y="776160"/>
                <a:chExt cx="1690920" cy="3799080"/>
              </a:xfrm>
            </p:grpSpPr>
            <p:grpSp>
              <p:nvGrpSpPr>
                <p:cNvPr id="92" name=""/>
                <p:cNvGrpSpPr/>
                <p:nvPr/>
              </p:nvGrpSpPr>
              <p:grpSpPr>
                <a:xfrm>
                  <a:off x="7127280" y="1163520"/>
                  <a:ext cx="376560" cy="1141560"/>
                  <a:chOff x="7127280" y="1163520"/>
                  <a:chExt cx="376560" cy="114156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>
                    <a:off x="7127280" y="2187720"/>
                    <a:ext cx="896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74">
                        <a:moveTo>
                          <a:pt x="0" y="56"/>
                        </a:moveTo>
                        <a:lnTo>
                          <a:pt x="11" y="70"/>
                        </a:lnTo>
                        <a:lnTo>
                          <a:pt x="24" y="67"/>
                        </a:lnTo>
                        <a:lnTo>
                          <a:pt x="44" y="73"/>
                        </a:lnTo>
                        <a:lnTo>
                          <a:pt x="59" y="73"/>
                        </a:lnTo>
                        <a:lnTo>
                          <a:pt x="61" y="48"/>
                        </a:lnTo>
                        <a:lnTo>
                          <a:pt x="57" y="31"/>
                        </a:lnTo>
                        <a:lnTo>
                          <a:pt x="46" y="11"/>
                        </a:lnTo>
                        <a:lnTo>
                          <a:pt x="35" y="11"/>
                        </a:lnTo>
                        <a:lnTo>
                          <a:pt x="31" y="0"/>
                        </a:lnTo>
                        <a:lnTo>
                          <a:pt x="15" y="0"/>
                        </a:lnTo>
                        <a:lnTo>
                          <a:pt x="15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366320" y="1984320"/>
                    <a:ext cx="8820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94">
                        <a:moveTo>
                          <a:pt x="13" y="0"/>
                        </a:moveTo>
                        <a:lnTo>
                          <a:pt x="40" y="3"/>
                        </a:lnTo>
                        <a:lnTo>
                          <a:pt x="49" y="28"/>
                        </a:lnTo>
                        <a:lnTo>
                          <a:pt x="60" y="42"/>
                        </a:lnTo>
                        <a:lnTo>
                          <a:pt x="51" y="54"/>
                        </a:lnTo>
                        <a:lnTo>
                          <a:pt x="60" y="68"/>
                        </a:lnTo>
                        <a:lnTo>
                          <a:pt x="56" y="85"/>
                        </a:lnTo>
                        <a:lnTo>
                          <a:pt x="47" y="93"/>
                        </a:lnTo>
                        <a:lnTo>
                          <a:pt x="29" y="90"/>
                        </a:lnTo>
                        <a:lnTo>
                          <a:pt x="18" y="90"/>
                        </a:lnTo>
                        <a:lnTo>
                          <a:pt x="11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00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350120" y="1163520"/>
                    <a:ext cx="15372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87">
                        <a:moveTo>
                          <a:pt x="15" y="0"/>
                        </a:moveTo>
                        <a:lnTo>
                          <a:pt x="28" y="14"/>
                        </a:lnTo>
                        <a:lnTo>
                          <a:pt x="42" y="11"/>
                        </a:lnTo>
                        <a:lnTo>
                          <a:pt x="61" y="14"/>
                        </a:lnTo>
                        <a:lnTo>
                          <a:pt x="79" y="14"/>
                        </a:lnTo>
                        <a:lnTo>
                          <a:pt x="88" y="22"/>
                        </a:lnTo>
                        <a:lnTo>
                          <a:pt x="98" y="42"/>
                        </a:lnTo>
                        <a:lnTo>
                          <a:pt x="105" y="50"/>
                        </a:lnTo>
                        <a:lnTo>
                          <a:pt x="81" y="55"/>
                        </a:lnTo>
                        <a:lnTo>
                          <a:pt x="74" y="61"/>
                        </a:lnTo>
                        <a:lnTo>
                          <a:pt x="81" y="72"/>
                        </a:lnTo>
                        <a:lnTo>
                          <a:pt x="81" y="83"/>
                        </a:lnTo>
                        <a:lnTo>
                          <a:pt x="57" y="72"/>
                        </a:lnTo>
                        <a:lnTo>
                          <a:pt x="37" y="64"/>
                        </a:lnTo>
                        <a:lnTo>
                          <a:pt x="28" y="67"/>
                        </a:lnTo>
                        <a:lnTo>
                          <a:pt x="28" y="83"/>
                        </a:lnTo>
                        <a:lnTo>
                          <a:pt x="15" y="86"/>
                        </a:lnTo>
                        <a:lnTo>
                          <a:pt x="9" y="72"/>
                        </a:lnTo>
                        <a:lnTo>
                          <a:pt x="7" y="55"/>
                        </a:lnTo>
                        <a:lnTo>
                          <a:pt x="0" y="53"/>
                        </a:lnTo>
                        <a:lnTo>
                          <a:pt x="7" y="36"/>
                        </a:lnTo>
                        <a:lnTo>
                          <a:pt x="18" y="31"/>
                        </a:lnTo>
                        <a:lnTo>
                          <a:pt x="15" y="0"/>
                        </a:lnTo>
                      </a:path>
                    </a:pathLst>
                  </a:custGeom>
                  <a:solidFill>
                    <a:srgbClr val="00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6" name=""/>
                <p:cNvSpPr/>
                <p:nvPr/>
              </p:nvSpPr>
              <p:spPr>
                <a:xfrm>
                  <a:off x="7479720" y="3473280"/>
                  <a:ext cx="1065960" cy="1101960"/>
                </a:xfrm>
                <a:custGeom>
                  <a:avLst/>
                  <a:gdLst/>
                  <a:ahLst/>
                  <a:rect l="l" t="t" r="r" b="b"/>
                  <a:pathLst>
                    <a:path w="735" h="694">
                      <a:moveTo>
                        <a:pt x="529" y="0"/>
                      </a:moveTo>
                      <a:lnTo>
                        <a:pt x="568" y="0"/>
                      </a:lnTo>
                      <a:lnTo>
                        <a:pt x="568" y="56"/>
                      </a:lnTo>
                      <a:lnTo>
                        <a:pt x="583" y="70"/>
                      </a:lnTo>
                      <a:lnTo>
                        <a:pt x="588" y="78"/>
                      </a:lnTo>
                      <a:lnTo>
                        <a:pt x="596" y="78"/>
                      </a:lnTo>
                      <a:lnTo>
                        <a:pt x="601" y="89"/>
                      </a:lnTo>
                      <a:lnTo>
                        <a:pt x="605" y="145"/>
                      </a:lnTo>
                      <a:lnTo>
                        <a:pt x="627" y="181"/>
                      </a:lnTo>
                      <a:lnTo>
                        <a:pt x="660" y="234"/>
                      </a:lnTo>
                      <a:lnTo>
                        <a:pt x="660" y="242"/>
                      </a:lnTo>
                      <a:lnTo>
                        <a:pt x="695" y="287"/>
                      </a:lnTo>
                      <a:lnTo>
                        <a:pt x="695" y="295"/>
                      </a:lnTo>
                      <a:lnTo>
                        <a:pt x="730" y="331"/>
                      </a:lnTo>
                      <a:lnTo>
                        <a:pt x="734" y="395"/>
                      </a:lnTo>
                      <a:lnTo>
                        <a:pt x="730" y="454"/>
                      </a:lnTo>
                      <a:lnTo>
                        <a:pt x="719" y="481"/>
                      </a:lnTo>
                      <a:lnTo>
                        <a:pt x="706" y="495"/>
                      </a:lnTo>
                      <a:lnTo>
                        <a:pt x="701" y="523"/>
                      </a:lnTo>
                      <a:lnTo>
                        <a:pt x="688" y="548"/>
                      </a:lnTo>
                      <a:lnTo>
                        <a:pt x="677" y="559"/>
                      </a:lnTo>
                      <a:lnTo>
                        <a:pt x="679" y="568"/>
                      </a:lnTo>
                      <a:lnTo>
                        <a:pt x="666" y="584"/>
                      </a:lnTo>
                      <a:lnTo>
                        <a:pt x="660" y="621"/>
                      </a:lnTo>
                      <a:lnTo>
                        <a:pt x="658" y="640"/>
                      </a:lnTo>
                      <a:lnTo>
                        <a:pt x="644" y="648"/>
                      </a:lnTo>
                      <a:lnTo>
                        <a:pt x="642" y="657"/>
                      </a:lnTo>
                      <a:lnTo>
                        <a:pt x="634" y="674"/>
                      </a:lnTo>
                      <a:lnTo>
                        <a:pt x="618" y="676"/>
                      </a:lnTo>
                      <a:lnTo>
                        <a:pt x="607" y="682"/>
                      </a:lnTo>
                      <a:lnTo>
                        <a:pt x="592" y="693"/>
                      </a:lnTo>
                      <a:lnTo>
                        <a:pt x="572" y="671"/>
                      </a:lnTo>
                      <a:lnTo>
                        <a:pt x="551" y="674"/>
                      </a:lnTo>
                      <a:lnTo>
                        <a:pt x="544" y="674"/>
                      </a:lnTo>
                      <a:lnTo>
                        <a:pt x="513" y="679"/>
                      </a:lnTo>
                      <a:lnTo>
                        <a:pt x="494" y="657"/>
                      </a:lnTo>
                      <a:lnTo>
                        <a:pt x="481" y="635"/>
                      </a:lnTo>
                      <a:lnTo>
                        <a:pt x="472" y="637"/>
                      </a:lnTo>
                      <a:lnTo>
                        <a:pt x="463" y="618"/>
                      </a:lnTo>
                      <a:lnTo>
                        <a:pt x="459" y="601"/>
                      </a:lnTo>
                      <a:lnTo>
                        <a:pt x="454" y="596"/>
                      </a:lnTo>
                      <a:lnTo>
                        <a:pt x="454" y="568"/>
                      </a:lnTo>
                      <a:lnTo>
                        <a:pt x="457" y="551"/>
                      </a:lnTo>
                      <a:lnTo>
                        <a:pt x="452" y="540"/>
                      </a:lnTo>
                      <a:lnTo>
                        <a:pt x="435" y="545"/>
                      </a:lnTo>
                      <a:lnTo>
                        <a:pt x="426" y="548"/>
                      </a:lnTo>
                      <a:lnTo>
                        <a:pt x="411" y="548"/>
                      </a:lnTo>
                      <a:lnTo>
                        <a:pt x="404" y="548"/>
                      </a:lnTo>
                      <a:lnTo>
                        <a:pt x="398" y="548"/>
                      </a:lnTo>
                      <a:lnTo>
                        <a:pt x="387" y="532"/>
                      </a:lnTo>
                      <a:lnTo>
                        <a:pt x="376" y="509"/>
                      </a:lnTo>
                      <a:lnTo>
                        <a:pt x="374" y="512"/>
                      </a:lnTo>
                      <a:lnTo>
                        <a:pt x="354" y="512"/>
                      </a:lnTo>
                      <a:lnTo>
                        <a:pt x="352" y="504"/>
                      </a:lnTo>
                      <a:lnTo>
                        <a:pt x="341" y="512"/>
                      </a:lnTo>
                      <a:lnTo>
                        <a:pt x="330" y="509"/>
                      </a:lnTo>
                      <a:lnTo>
                        <a:pt x="312" y="509"/>
                      </a:lnTo>
                      <a:lnTo>
                        <a:pt x="301" y="504"/>
                      </a:lnTo>
                      <a:lnTo>
                        <a:pt x="297" y="512"/>
                      </a:lnTo>
                      <a:lnTo>
                        <a:pt x="280" y="515"/>
                      </a:lnTo>
                      <a:lnTo>
                        <a:pt x="275" y="509"/>
                      </a:lnTo>
                      <a:lnTo>
                        <a:pt x="264" y="523"/>
                      </a:lnTo>
                      <a:lnTo>
                        <a:pt x="251" y="537"/>
                      </a:lnTo>
                      <a:lnTo>
                        <a:pt x="242" y="537"/>
                      </a:lnTo>
                      <a:lnTo>
                        <a:pt x="229" y="554"/>
                      </a:lnTo>
                      <a:lnTo>
                        <a:pt x="210" y="554"/>
                      </a:lnTo>
                      <a:lnTo>
                        <a:pt x="194" y="559"/>
                      </a:lnTo>
                      <a:lnTo>
                        <a:pt x="177" y="568"/>
                      </a:lnTo>
                      <a:lnTo>
                        <a:pt x="168" y="579"/>
                      </a:lnTo>
                      <a:lnTo>
                        <a:pt x="162" y="576"/>
                      </a:lnTo>
                      <a:lnTo>
                        <a:pt x="155" y="587"/>
                      </a:lnTo>
                      <a:lnTo>
                        <a:pt x="146" y="590"/>
                      </a:lnTo>
                      <a:lnTo>
                        <a:pt x="135" y="604"/>
                      </a:lnTo>
                      <a:lnTo>
                        <a:pt x="100" y="604"/>
                      </a:lnTo>
                      <a:lnTo>
                        <a:pt x="85" y="584"/>
                      </a:lnTo>
                      <a:lnTo>
                        <a:pt x="83" y="576"/>
                      </a:lnTo>
                      <a:lnTo>
                        <a:pt x="79" y="584"/>
                      </a:lnTo>
                      <a:lnTo>
                        <a:pt x="72" y="571"/>
                      </a:lnTo>
                      <a:lnTo>
                        <a:pt x="74" y="534"/>
                      </a:lnTo>
                      <a:lnTo>
                        <a:pt x="79" y="512"/>
                      </a:lnTo>
                      <a:lnTo>
                        <a:pt x="72" y="495"/>
                      </a:lnTo>
                      <a:lnTo>
                        <a:pt x="66" y="479"/>
                      </a:lnTo>
                      <a:lnTo>
                        <a:pt x="63" y="459"/>
                      </a:lnTo>
                      <a:lnTo>
                        <a:pt x="52" y="451"/>
                      </a:lnTo>
                      <a:lnTo>
                        <a:pt x="50" y="448"/>
                      </a:lnTo>
                      <a:lnTo>
                        <a:pt x="48" y="440"/>
                      </a:lnTo>
                      <a:lnTo>
                        <a:pt x="33" y="415"/>
                      </a:lnTo>
                      <a:lnTo>
                        <a:pt x="13" y="353"/>
                      </a:lnTo>
                      <a:lnTo>
                        <a:pt x="7" y="312"/>
                      </a:lnTo>
                      <a:lnTo>
                        <a:pt x="7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9" y="245"/>
                      </a:lnTo>
                      <a:lnTo>
                        <a:pt x="33" y="214"/>
                      </a:lnTo>
                      <a:lnTo>
                        <a:pt x="57" y="217"/>
                      </a:lnTo>
                      <a:lnTo>
                        <a:pt x="61" y="223"/>
                      </a:lnTo>
                      <a:lnTo>
                        <a:pt x="92" y="223"/>
                      </a:lnTo>
                      <a:lnTo>
                        <a:pt x="94" y="214"/>
                      </a:lnTo>
                      <a:lnTo>
                        <a:pt x="100" y="217"/>
                      </a:lnTo>
                      <a:lnTo>
                        <a:pt x="109" y="209"/>
                      </a:lnTo>
                      <a:lnTo>
                        <a:pt x="116" y="212"/>
                      </a:lnTo>
                      <a:lnTo>
                        <a:pt x="122" y="206"/>
                      </a:lnTo>
                      <a:lnTo>
                        <a:pt x="120" y="198"/>
                      </a:lnTo>
                      <a:lnTo>
                        <a:pt x="127" y="178"/>
                      </a:lnTo>
                      <a:lnTo>
                        <a:pt x="135" y="170"/>
                      </a:lnTo>
                      <a:lnTo>
                        <a:pt x="131" y="164"/>
                      </a:lnTo>
                      <a:lnTo>
                        <a:pt x="135" y="159"/>
                      </a:lnTo>
                      <a:lnTo>
                        <a:pt x="131" y="150"/>
                      </a:lnTo>
                      <a:lnTo>
                        <a:pt x="144" y="136"/>
                      </a:lnTo>
                      <a:lnTo>
                        <a:pt x="164" y="134"/>
                      </a:lnTo>
                      <a:lnTo>
                        <a:pt x="184" y="100"/>
                      </a:lnTo>
                      <a:lnTo>
                        <a:pt x="208" y="72"/>
                      </a:lnTo>
                      <a:lnTo>
                        <a:pt x="218" y="70"/>
                      </a:lnTo>
                      <a:lnTo>
                        <a:pt x="225" y="64"/>
                      </a:lnTo>
                      <a:lnTo>
                        <a:pt x="236" y="64"/>
                      </a:lnTo>
                      <a:lnTo>
                        <a:pt x="256" y="86"/>
                      </a:lnTo>
                      <a:lnTo>
                        <a:pt x="262" y="89"/>
                      </a:lnTo>
                      <a:lnTo>
                        <a:pt x="269" y="78"/>
                      </a:lnTo>
                      <a:lnTo>
                        <a:pt x="282" y="64"/>
                      </a:lnTo>
                      <a:lnTo>
                        <a:pt x="291" y="61"/>
                      </a:lnTo>
                      <a:lnTo>
                        <a:pt x="299" y="39"/>
                      </a:lnTo>
                      <a:lnTo>
                        <a:pt x="308" y="36"/>
                      </a:lnTo>
                      <a:lnTo>
                        <a:pt x="319" y="28"/>
                      </a:lnTo>
                      <a:lnTo>
                        <a:pt x="330" y="19"/>
                      </a:lnTo>
                      <a:lnTo>
                        <a:pt x="341" y="19"/>
                      </a:lnTo>
                      <a:lnTo>
                        <a:pt x="350" y="8"/>
                      </a:lnTo>
                      <a:lnTo>
                        <a:pt x="363" y="8"/>
                      </a:lnTo>
                      <a:lnTo>
                        <a:pt x="378" y="8"/>
                      </a:lnTo>
                      <a:lnTo>
                        <a:pt x="398" y="14"/>
                      </a:lnTo>
                      <a:lnTo>
                        <a:pt x="411" y="25"/>
                      </a:lnTo>
                      <a:lnTo>
                        <a:pt x="413" y="33"/>
                      </a:lnTo>
                      <a:lnTo>
                        <a:pt x="415" y="39"/>
                      </a:lnTo>
                      <a:lnTo>
                        <a:pt x="417" y="53"/>
                      </a:lnTo>
                      <a:lnTo>
                        <a:pt x="415" y="58"/>
                      </a:lnTo>
                      <a:lnTo>
                        <a:pt x="415" y="70"/>
                      </a:lnTo>
                      <a:lnTo>
                        <a:pt x="413" y="78"/>
                      </a:lnTo>
                      <a:lnTo>
                        <a:pt x="446" y="109"/>
                      </a:lnTo>
                      <a:lnTo>
                        <a:pt x="457" y="125"/>
                      </a:lnTo>
                      <a:lnTo>
                        <a:pt x="470" y="131"/>
                      </a:lnTo>
                      <a:lnTo>
                        <a:pt x="483" y="139"/>
                      </a:lnTo>
                      <a:lnTo>
                        <a:pt x="492" y="142"/>
                      </a:lnTo>
                      <a:lnTo>
                        <a:pt x="505" y="134"/>
                      </a:lnTo>
                      <a:lnTo>
                        <a:pt x="516" y="109"/>
                      </a:lnTo>
                      <a:lnTo>
                        <a:pt x="520" y="89"/>
                      </a:lnTo>
                      <a:lnTo>
                        <a:pt x="524" y="53"/>
                      </a:lnTo>
                      <a:lnTo>
                        <a:pt x="529" y="36"/>
                      </a:lnTo>
                      <a:lnTo>
                        <a:pt x="529" y="0"/>
                      </a:lnTo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228800" y="3235320"/>
                  <a:ext cx="592920" cy="150840"/>
                </a:xfrm>
                <a:custGeom>
                  <a:avLst/>
                  <a:gdLst/>
                  <a:ahLst/>
                  <a:rect l="l" t="t" r="r" b="b"/>
                  <a:pathLst>
                    <a:path w="409" h="95">
                      <a:moveTo>
                        <a:pt x="0" y="0"/>
                      </a:moveTo>
                      <a:lnTo>
                        <a:pt x="31" y="14"/>
                      </a:lnTo>
                      <a:lnTo>
                        <a:pt x="57" y="14"/>
                      </a:lnTo>
                      <a:lnTo>
                        <a:pt x="81" y="14"/>
                      </a:lnTo>
                      <a:lnTo>
                        <a:pt x="99" y="14"/>
                      </a:lnTo>
                      <a:lnTo>
                        <a:pt x="112" y="17"/>
                      </a:lnTo>
                      <a:lnTo>
                        <a:pt x="129" y="25"/>
                      </a:lnTo>
                      <a:lnTo>
                        <a:pt x="138" y="44"/>
                      </a:lnTo>
                      <a:lnTo>
                        <a:pt x="147" y="53"/>
                      </a:lnTo>
                      <a:lnTo>
                        <a:pt x="162" y="50"/>
                      </a:lnTo>
                      <a:lnTo>
                        <a:pt x="180" y="50"/>
                      </a:lnTo>
                      <a:lnTo>
                        <a:pt x="200" y="61"/>
                      </a:lnTo>
                      <a:lnTo>
                        <a:pt x="213" y="66"/>
                      </a:lnTo>
                      <a:lnTo>
                        <a:pt x="222" y="66"/>
                      </a:lnTo>
                      <a:lnTo>
                        <a:pt x="224" y="53"/>
                      </a:lnTo>
                      <a:lnTo>
                        <a:pt x="230" y="44"/>
                      </a:lnTo>
                      <a:lnTo>
                        <a:pt x="257" y="50"/>
                      </a:lnTo>
                      <a:lnTo>
                        <a:pt x="279" y="50"/>
                      </a:lnTo>
                      <a:lnTo>
                        <a:pt x="298" y="50"/>
                      </a:lnTo>
                      <a:lnTo>
                        <a:pt x="314" y="58"/>
                      </a:lnTo>
                      <a:lnTo>
                        <a:pt x="322" y="64"/>
                      </a:lnTo>
                      <a:lnTo>
                        <a:pt x="338" y="61"/>
                      </a:lnTo>
                      <a:lnTo>
                        <a:pt x="349" y="55"/>
                      </a:lnTo>
                      <a:lnTo>
                        <a:pt x="355" y="50"/>
                      </a:lnTo>
                      <a:lnTo>
                        <a:pt x="373" y="50"/>
                      </a:lnTo>
                      <a:lnTo>
                        <a:pt x="384" y="44"/>
                      </a:lnTo>
                      <a:lnTo>
                        <a:pt x="399" y="39"/>
                      </a:lnTo>
                      <a:lnTo>
                        <a:pt x="408" y="39"/>
                      </a:lnTo>
                      <a:lnTo>
                        <a:pt x="406" y="58"/>
                      </a:lnTo>
                      <a:lnTo>
                        <a:pt x="401" y="66"/>
                      </a:lnTo>
                      <a:lnTo>
                        <a:pt x="393" y="75"/>
                      </a:lnTo>
                      <a:lnTo>
                        <a:pt x="384" y="75"/>
                      </a:lnTo>
                      <a:lnTo>
                        <a:pt x="382" y="75"/>
                      </a:lnTo>
                      <a:lnTo>
                        <a:pt x="371" y="77"/>
                      </a:lnTo>
                      <a:lnTo>
                        <a:pt x="362" y="88"/>
                      </a:lnTo>
                      <a:lnTo>
                        <a:pt x="353" y="86"/>
                      </a:lnTo>
                      <a:lnTo>
                        <a:pt x="344" y="80"/>
                      </a:lnTo>
                      <a:lnTo>
                        <a:pt x="336" y="86"/>
                      </a:lnTo>
                      <a:lnTo>
                        <a:pt x="327" y="88"/>
                      </a:lnTo>
                      <a:lnTo>
                        <a:pt x="320" y="88"/>
                      </a:lnTo>
                      <a:lnTo>
                        <a:pt x="314" y="94"/>
                      </a:lnTo>
                      <a:lnTo>
                        <a:pt x="296" y="94"/>
                      </a:lnTo>
                      <a:lnTo>
                        <a:pt x="290" y="86"/>
                      </a:lnTo>
                      <a:lnTo>
                        <a:pt x="281" y="75"/>
                      </a:lnTo>
                      <a:lnTo>
                        <a:pt x="270" y="86"/>
                      </a:lnTo>
                      <a:lnTo>
                        <a:pt x="263" y="94"/>
                      </a:lnTo>
                      <a:lnTo>
                        <a:pt x="254" y="94"/>
                      </a:lnTo>
                      <a:lnTo>
                        <a:pt x="239" y="75"/>
                      </a:lnTo>
                      <a:lnTo>
                        <a:pt x="235" y="77"/>
                      </a:lnTo>
                      <a:lnTo>
                        <a:pt x="226" y="77"/>
                      </a:lnTo>
                      <a:lnTo>
                        <a:pt x="219" y="88"/>
                      </a:lnTo>
                      <a:lnTo>
                        <a:pt x="206" y="86"/>
                      </a:lnTo>
                      <a:lnTo>
                        <a:pt x="193" y="86"/>
                      </a:lnTo>
                      <a:lnTo>
                        <a:pt x="186" y="80"/>
                      </a:lnTo>
                      <a:lnTo>
                        <a:pt x="178" y="75"/>
                      </a:lnTo>
                      <a:lnTo>
                        <a:pt x="165" y="77"/>
                      </a:lnTo>
                      <a:lnTo>
                        <a:pt x="151" y="88"/>
                      </a:lnTo>
                      <a:lnTo>
                        <a:pt x="143" y="86"/>
                      </a:lnTo>
                      <a:lnTo>
                        <a:pt x="129" y="80"/>
                      </a:lnTo>
                      <a:lnTo>
                        <a:pt x="114" y="72"/>
                      </a:lnTo>
                      <a:lnTo>
                        <a:pt x="101" y="72"/>
                      </a:lnTo>
                      <a:lnTo>
                        <a:pt x="75" y="64"/>
                      </a:lnTo>
                      <a:lnTo>
                        <a:pt x="57" y="58"/>
                      </a:lnTo>
                      <a:lnTo>
                        <a:pt x="46" y="55"/>
                      </a:lnTo>
                      <a:lnTo>
                        <a:pt x="29" y="53"/>
                      </a:lnTo>
                      <a:lnTo>
                        <a:pt x="18" y="41"/>
                      </a:lnTo>
                      <a:lnTo>
                        <a:pt x="7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7552080" y="2941560"/>
                  <a:ext cx="269640" cy="289080"/>
                </a:xfrm>
                <a:custGeom>
                  <a:avLst/>
                  <a:gdLst/>
                  <a:ahLst/>
                  <a:rect l="l" t="t" r="r" b="b"/>
                  <a:pathLst>
                    <a:path w="186" h="182">
                      <a:moveTo>
                        <a:pt x="46" y="0"/>
                      </a:moveTo>
                      <a:lnTo>
                        <a:pt x="90" y="3"/>
                      </a:lnTo>
                      <a:lnTo>
                        <a:pt x="132" y="3"/>
                      </a:lnTo>
                      <a:lnTo>
                        <a:pt x="154" y="0"/>
                      </a:lnTo>
                      <a:lnTo>
                        <a:pt x="185" y="17"/>
                      </a:lnTo>
                      <a:lnTo>
                        <a:pt x="165" y="22"/>
                      </a:lnTo>
                      <a:lnTo>
                        <a:pt x="154" y="31"/>
                      </a:lnTo>
                      <a:lnTo>
                        <a:pt x="148" y="36"/>
                      </a:lnTo>
                      <a:lnTo>
                        <a:pt x="143" y="42"/>
                      </a:lnTo>
                      <a:lnTo>
                        <a:pt x="143" y="47"/>
                      </a:lnTo>
                      <a:lnTo>
                        <a:pt x="143" y="56"/>
                      </a:lnTo>
                      <a:lnTo>
                        <a:pt x="130" y="61"/>
                      </a:lnTo>
                      <a:lnTo>
                        <a:pt x="119" y="61"/>
                      </a:lnTo>
                      <a:lnTo>
                        <a:pt x="115" y="64"/>
                      </a:lnTo>
                      <a:lnTo>
                        <a:pt x="104" y="64"/>
                      </a:lnTo>
                      <a:lnTo>
                        <a:pt x="99" y="56"/>
                      </a:lnTo>
                      <a:lnTo>
                        <a:pt x="90" y="45"/>
                      </a:lnTo>
                      <a:lnTo>
                        <a:pt x="81" y="36"/>
                      </a:lnTo>
                      <a:lnTo>
                        <a:pt x="64" y="36"/>
                      </a:lnTo>
                      <a:lnTo>
                        <a:pt x="59" y="36"/>
                      </a:lnTo>
                      <a:lnTo>
                        <a:pt x="55" y="50"/>
                      </a:lnTo>
                      <a:lnTo>
                        <a:pt x="57" y="64"/>
                      </a:lnTo>
                      <a:lnTo>
                        <a:pt x="57" y="72"/>
                      </a:lnTo>
                      <a:lnTo>
                        <a:pt x="59" y="81"/>
                      </a:lnTo>
                      <a:lnTo>
                        <a:pt x="68" y="78"/>
                      </a:lnTo>
                      <a:lnTo>
                        <a:pt x="81" y="70"/>
                      </a:lnTo>
                      <a:lnTo>
                        <a:pt x="90" y="70"/>
                      </a:lnTo>
                      <a:lnTo>
                        <a:pt x="97" y="75"/>
                      </a:lnTo>
                      <a:lnTo>
                        <a:pt x="97" y="81"/>
                      </a:lnTo>
                      <a:lnTo>
                        <a:pt x="93" y="92"/>
                      </a:lnTo>
                      <a:lnTo>
                        <a:pt x="90" y="97"/>
                      </a:lnTo>
                      <a:lnTo>
                        <a:pt x="90" y="103"/>
                      </a:lnTo>
                      <a:lnTo>
                        <a:pt x="88" y="111"/>
                      </a:lnTo>
                      <a:lnTo>
                        <a:pt x="93" y="120"/>
                      </a:lnTo>
                      <a:lnTo>
                        <a:pt x="101" y="131"/>
                      </a:lnTo>
                      <a:lnTo>
                        <a:pt x="104" y="128"/>
                      </a:lnTo>
                      <a:lnTo>
                        <a:pt x="104" y="139"/>
                      </a:lnTo>
                      <a:lnTo>
                        <a:pt x="99" y="148"/>
                      </a:lnTo>
                      <a:lnTo>
                        <a:pt x="95" y="156"/>
                      </a:lnTo>
                      <a:lnTo>
                        <a:pt x="93" y="170"/>
                      </a:lnTo>
                      <a:lnTo>
                        <a:pt x="84" y="175"/>
                      </a:lnTo>
                      <a:lnTo>
                        <a:pt x="77" y="175"/>
                      </a:lnTo>
                      <a:lnTo>
                        <a:pt x="70" y="175"/>
                      </a:lnTo>
                      <a:lnTo>
                        <a:pt x="70" y="164"/>
                      </a:lnTo>
                      <a:lnTo>
                        <a:pt x="68" y="145"/>
                      </a:lnTo>
                      <a:lnTo>
                        <a:pt x="62" y="139"/>
                      </a:lnTo>
                      <a:lnTo>
                        <a:pt x="59" y="131"/>
                      </a:lnTo>
                      <a:lnTo>
                        <a:pt x="62" y="114"/>
                      </a:lnTo>
                      <a:lnTo>
                        <a:pt x="55" y="109"/>
                      </a:lnTo>
                      <a:lnTo>
                        <a:pt x="40" y="114"/>
                      </a:lnTo>
                      <a:lnTo>
                        <a:pt x="33" y="109"/>
                      </a:lnTo>
                      <a:lnTo>
                        <a:pt x="26" y="117"/>
                      </a:lnTo>
                      <a:lnTo>
                        <a:pt x="33" y="123"/>
                      </a:lnTo>
                      <a:lnTo>
                        <a:pt x="44" y="128"/>
                      </a:lnTo>
                      <a:lnTo>
                        <a:pt x="46" y="134"/>
                      </a:lnTo>
                      <a:lnTo>
                        <a:pt x="53" y="145"/>
                      </a:lnTo>
                      <a:lnTo>
                        <a:pt x="53" y="153"/>
                      </a:lnTo>
                      <a:lnTo>
                        <a:pt x="46" y="167"/>
                      </a:lnTo>
                      <a:lnTo>
                        <a:pt x="37" y="178"/>
                      </a:lnTo>
                      <a:lnTo>
                        <a:pt x="33" y="181"/>
                      </a:lnTo>
                      <a:lnTo>
                        <a:pt x="33" y="173"/>
                      </a:lnTo>
                      <a:lnTo>
                        <a:pt x="33" y="164"/>
                      </a:lnTo>
                      <a:lnTo>
                        <a:pt x="35" y="153"/>
                      </a:lnTo>
                      <a:lnTo>
                        <a:pt x="24" y="145"/>
                      </a:lnTo>
                      <a:lnTo>
                        <a:pt x="13" y="136"/>
                      </a:lnTo>
                      <a:lnTo>
                        <a:pt x="11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1" y="100"/>
                      </a:lnTo>
                      <a:lnTo>
                        <a:pt x="18" y="86"/>
                      </a:lnTo>
                      <a:lnTo>
                        <a:pt x="24" y="72"/>
                      </a:lnTo>
                      <a:lnTo>
                        <a:pt x="26" y="58"/>
                      </a:lnTo>
                      <a:lnTo>
                        <a:pt x="24" y="45"/>
                      </a:lnTo>
                      <a:lnTo>
                        <a:pt x="29" y="39"/>
                      </a:lnTo>
                      <a:lnTo>
                        <a:pt x="33" y="33"/>
                      </a:lnTo>
                      <a:lnTo>
                        <a:pt x="26" y="22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7272360" y="2813040"/>
                  <a:ext cx="295920" cy="395280"/>
                </a:xfrm>
                <a:custGeom>
                  <a:avLst/>
                  <a:gdLst/>
                  <a:ahLst/>
                  <a:rect l="l" t="t" r="r" b="b"/>
                  <a:pathLst>
                    <a:path w="204" h="249">
                      <a:moveTo>
                        <a:pt x="0" y="83"/>
                      </a:moveTo>
                      <a:lnTo>
                        <a:pt x="41" y="44"/>
                      </a:lnTo>
                      <a:lnTo>
                        <a:pt x="63" y="28"/>
                      </a:lnTo>
                      <a:lnTo>
                        <a:pt x="74" y="14"/>
                      </a:lnTo>
                      <a:lnTo>
                        <a:pt x="107" y="0"/>
                      </a:lnTo>
                      <a:lnTo>
                        <a:pt x="124" y="30"/>
                      </a:lnTo>
                      <a:lnTo>
                        <a:pt x="142" y="17"/>
                      </a:lnTo>
                      <a:lnTo>
                        <a:pt x="148" y="8"/>
                      </a:lnTo>
                      <a:lnTo>
                        <a:pt x="164" y="0"/>
                      </a:lnTo>
                      <a:lnTo>
                        <a:pt x="172" y="0"/>
                      </a:lnTo>
                      <a:lnTo>
                        <a:pt x="175" y="11"/>
                      </a:lnTo>
                      <a:lnTo>
                        <a:pt x="175" y="19"/>
                      </a:lnTo>
                      <a:lnTo>
                        <a:pt x="166" y="33"/>
                      </a:lnTo>
                      <a:lnTo>
                        <a:pt x="166" y="41"/>
                      </a:lnTo>
                      <a:lnTo>
                        <a:pt x="190" y="77"/>
                      </a:lnTo>
                      <a:lnTo>
                        <a:pt x="194" y="99"/>
                      </a:lnTo>
                      <a:lnTo>
                        <a:pt x="201" y="99"/>
                      </a:lnTo>
                      <a:lnTo>
                        <a:pt x="203" y="110"/>
                      </a:lnTo>
                      <a:lnTo>
                        <a:pt x="194" y="121"/>
                      </a:lnTo>
                      <a:lnTo>
                        <a:pt x="188" y="116"/>
                      </a:lnTo>
                      <a:lnTo>
                        <a:pt x="172" y="124"/>
                      </a:lnTo>
                      <a:lnTo>
                        <a:pt x="175" y="146"/>
                      </a:lnTo>
                      <a:lnTo>
                        <a:pt x="157" y="160"/>
                      </a:lnTo>
                      <a:lnTo>
                        <a:pt x="157" y="196"/>
                      </a:lnTo>
                      <a:lnTo>
                        <a:pt x="157" y="220"/>
                      </a:lnTo>
                      <a:lnTo>
                        <a:pt x="148" y="231"/>
                      </a:lnTo>
                      <a:lnTo>
                        <a:pt x="142" y="248"/>
                      </a:lnTo>
                      <a:lnTo>
                        <a:pt x="133" y="245"/>
                      </a:lnTo>
                      <a:lnTo>
                        <a:pt x="120" y="237"/>
                      </a:lnTo>
                      <a:lnTo>
                        <a:pt x="109" y="229"/>
                      </a:lnTo>
                      <a:lnTo>
                        <a:pt x="100" y="215"/>
                      </a:lnTo>
                      <a:lnTo>
                        <a:pt x="70" y="218"/>
                      </a:lnTo>
                      <a:lnTo>
                        <a:pt x="44" y="209"/>
                      </a:lnTo>
                      <a:lnTo>
                        <a:pt x="26" y="187"/>
                      </a:lnTo>
                      <a:lnTo>
                        <a:pt x="15" y="171"/>
                      </a:lnTo>
                      <a:lnTo>
                        <a:pt x="7" y="157"/>
                      </a:lnTo>
                      <a:lnTo>
                        <a:pt x="7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7900200" y="3038400"/>
                  <a:ext cx="567360" cy="372960"/>
                </a:xfrm>
                <a:custGeom>
                  <a:avLst/>
                  <a:gdLst/>
                  <a:ahLst/>
                  <a:rect l="l" t="t" r="r" b="b"/>
                  <a:pathLst>
                    <a:path w="391" h="235">
                      <a:moveTo>
                        <a:pt x="0" y="0"/>
                      </a:moveTo>
                      <a:lnTo>
                        <a:pt x="35" y="3"/>
                      </a:lnTo>
                      <a:lnTo>
                        <a:pt x="64" y="6"/>
                      </a:lnTo>
                      <a:lnTo>
                        <a:pt x="77" y="39"/>
                      </a:lnTo>
                      <a:lnTo>
                        <a:pt x="79" y="50"/>
                      </a:lnTo>
                      <a:lnTo>
                        <a:pt x="83" y="56"/>
                      </a:lnTo>
                      <a:lnTo>
                        <a:pt x="92" y="47"/>
                      </a:lnTo>
                      <a:lnTo>
                        <a:pt x="107" y="47"/>
                      </a:lnTo>
                      <a:lnTo>
                        <a:pt x="116" y="56"/>
                      </a:lnTo>
                      <a:lnTo>
                        <a:pt x="121" y="53"/>
                      </a:lnTo>
                      <a:lnTo>
                        <a:pt x="134" y="39"/>
                      </a:lnTo>
                      <a:lnTo>
                        <a:pt x="136" y="39"/>
                      </a:lnTo>
                      <a:lnTo>
                        <a:pt x="147" y="31"/>
                      </a:lnTo>
                      <a:lnTo>
                        <a:pt x="158" y="31"/>
                      </a:lnTo>
                      <a:lnTo>
                        <a:pt x="193" y="47"/>
                      </a:lnTo>
                      <a:lnTo>
                        <a:pt x="208" y="47"/>
                      </a:lnTo>
                      <a:lnTo>
                        <a:pt x="223" y="61"/>
                      </a:lnTo>
                      <a:lnTo>
                        <a:pt x="239" y="67"/>
                      </a:lnTo>
                      <a:lnTo>
                        <a:pt x="252" y="78"/>
                      </a:lnTo>
                      <a:lnTo>
                        <a:pt x="263" y="81"/>
                      </a:lnTo>
                      <a:lnTo>
                        <a:pt x="291" y="92"/>
                      </a:lnTo>
                      <a:lnTo>
                        <a:pt x="305" y="111"/>
                      </a:lnTo>
                      <a:lnTo>
                        <a:pt x="311" y="123"/>
                      </a:lnTo>
                      <a:lnTo>
                        <a:pt x="309" y="128"/>
                      </a:lnTo>
                      <a:lnTo>
                        <a:pt x="320" y="139"/>
                      </a:lnTo>
                      <a:lnTo>
                        <a:pt x="329" y="142"/>
                      </a:lnTo>
                      <a:lnTo>
                        <a:pt x="333" y="145"/>
                      </a:lnTo>
                      <a:lnTo>
                        <a:pt x="344" y="148"/>
                      </a:lnTo>
                      <a:lnTo>
                        <a:pt x="362" y="164"/>
                      </a:lnTo>
                      <a:lnTo>
                        <a:pt x="362" y="176"/>
                      </a:lnTo>
                      <a:lnTo>
                        <a:pt x="372" y="187"/>
                      </a:lnTo>
                      <a:lnTo>
                        <a:pt x="375" y="192"/>
                      </a:lnTo>
                      <a:lnTo>
                        <a:pt x="390" y="215"/>
                      </a:lnTo>
                      <a:lnTo>
                        <a:pt x="377" y="234"/>
                      </a:lnTo>
                      <a:lnTo>
                        <a:pt x="372" y="234"/>
                      </a:lnTo>
                      <a:lnTo>
                        <a:pt x="359" y="234"/>
                      </a:lnTo>
                      <a:lnTo>
                        <a:pt x="355" y="226"/>
                      </a:lnTo>
                      <a:lnTo>
                        <a:pt x="348" y="226"/>
                      </a:lnTo>
                      <a:lnTo>
                        <a:pt x="342" y="228"/>
                      </a:lnTo>
                      <a:lnTo>
                        <a:pt x="309" y="184"/>
                      </a:lnTo>
                      <a:lnTo>
                        <a:pt x="289" y="187"/>
                      </a:lnTo>
                      <a:lnTo>
                        <a:pt x="269" y="184"/>
                      </a:lnTo>
                      <a:lnTo>
                        <a:pt x="263" y="189"/>
                      </a:lnTo>
                      <a:lnTo>
                        <a:pt x="256" y="198"/>
                      </a:lnTo>
                      <a:lnTo>
                        <a:pt x="254" y="192"/>
                      </a:lnTo>
                      <a:lnTo>
                        <a:pt x="245" y="206"/>
                      </a:lnTo>
                      <a:lnTo>
                        <a:pt x="232" y="226"/>
                      </a:lnTo>
                      <a:lnTo>
                        <a:pt x="221" y="217"/>
                      </a:lnTo>
                      <a:lnTo>
                        <a:pt x="208" y="212"/>
                      </a:lnTo>
                      <a:lnTo>
                        <a:pt x="199" y="212"/>
                      </a:lnTo>
                      <a:lnTo>
                        <a:pt x="186" y="206"/>
                      </a:lnTo>
                      <a:lnTo>
                        <a:pt x="180" y="212"/>
                      </a:lnTo>
                      <a:lnTo>
                        <a:pt x="171" y="184"/>
                      </a:lnTo>
                      <a:lnTo>
                        <a:pt x="156" y="159"/>
                      </a:lnTo>
                      <a:lnTo>
                        <a:pt x="140" y="128"/>
                      </a:lnTo>
                      <a:lnTo>
                        <a:pt x="127" y="111"/>
                      </a:lnTo>
                      <a:lnTo>
                        <a:pt x="116" y="95"/>
                      </a:lnTo>
                      <a:lnTo>
                        <a:pt x="92" y="95"/>
                      </a:lnTo>
                      <a:lnTo>
                        <a:pt x="70" y="103"/>
                      </a:lnTo>
                      <a:lnTo>
                        <a:pt x="59" y="92"/>
                      </a:lnTo>
                      <a:lnTo>
                        <a:pt x="37" y="84"/>
                      </a:lnTo>
                      <a:lnTo>
                        <a:pt x="26" y="75"/>
                      </a:lnTo>
                      <a:lnTo>
                        <a:pt x="26" y="42"/>
                      </a:lnTo>
                      <a:lnTo>
                        <a:pt x="28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6854760" y="2773440"/>
                  <a:ext cx="340560" cy="492120"/>
                </a:xfrm>
                <a:custGeom>
                  <a:avLst/>
                  <a:gdLst/>
                  <a:ahLst/>
                  <a:rect l="l" t="t" r="r" b="b"/>
                  <a:pathLst>
                    <a:path w="235" h="310">
                      <a:moveTo>
                        <a:pt x="0" y="8"/>
                      </a:moveTo>
                      <a:lnTo>
                        <a:pt x="24" y="0"/>
                      </a:lnTo>
                      <a:lnTo>
                        <a:pt x="52" y="14"/>
                      </a:lnTo>
                      <a:lnTo>
                        <a:pt x="56" y="28"/>
                      </a:lnTo>
                      <a:lnTo>
                        <a:pt x="56" y="33"/>
                      </a:lnTo>
                      <a:lnTo>
                        <a:pt x="63" y="36"/>
                      </a:lnTo>
                      <a:lnTo>
                        <a:pt x="63" y="42"/>
                      </a:lnTo>
                      <a:lnTo>
                        <a:pt x="72" y="45"/>
                      </a:lnTo>
                      <a:lnTo>
                        <a:pt x="72" y="56"/>
                      </a:lnTo>
                      <a:lnTo>
                        <a:pt x="100" y="89"/>
                      </a:lnTo>
                      <a:lnTo>
                        <a:pt x="104" y="89"/>
                      </a:lnTo>
                      <a:lnTo>
                        <a:pt x="108" y="97"/>
                      </a:lnTo>
                      <a:lnTo>
                        <a:pt x="113" y="106"/>
                      </a:lnTo>
                      <a:lnTo>
                        <a:pt x="117" y="106"/>
                      </a:lnTo>
                      <a:lnTo>
                        <a:pt x="137" y="117"/>
                      </a:lnTo>
                      <a:lnTo>
                        <a:pt x="173" y="122"/>
                      </a:lnTo>
                      <a:lnTo>
                        <a:pt x="176" y="161"/>
                      </a:lnTo>
                      <a:lnTo>
                        <a:pt x="184" y="167"/>
                      </a:lnTo>
                      <a:lnTo>
                        <a:pt x="182" y="181"/>
                      </a:lnTo>
                      <a:lnTo>
                        <a:pt x="204" y="200"/>
                      </a:lnTo>
                      <a:lnTo>
                        <a:pt x="223" y="209"/>
                      </a:lnTo>
                      <a:lnTo>
                        <a:pt x="223" y="273"/>
                      </a:lnTo>
                      <a:lnTo>
                        <a:pt x="234" y="298"/>
                      </a:lnTo>
                      <a:lnTo>
                        <a:pt x="228" y="306"/>
                      </a:lnTo>
                      <a:lnTo>
                        <a:pt x="215" y="309"/>
                      </a:lnTo>
                      <a:lnTo>
                        <a:pt x="212" y="287"/>
                      </a:lnTo>
                      <a:lnTo>
                        <a:pt x="191" y="309"/>
                      </a:lnTo>
                      <a:lnTo>
                        <a:pt x="176" y="276"/>
                      </a:lnTo>
                      <a:lnTo>
                        <a:pt x="167" y="253"/>
                      </a:lnTo>
                      <a:lnTo>
                        <a:pt x="141" y="223"/>
                      </a:lnTo>
                      <a:lnTo>
                        <a:pt x="134" y="223"/>
                      </a:lnTo>
                      <a:lnTo>
                        <a:pt x="111" y="206"/>
                      </a:lnTo>
                      <a:lnTo>
                        <a:pt x="106" y="189"/>
                      </a:lnTo>
                      <a:lnTo>
                        <a:pt x="106" y="178"/>
                      </a:lnTo>
                      <a:lnTo>
                        <a:pt x="87" y="134"/>
                      </a:lnTo>
                      <a:lnTo>
                        <a:pt x="78" y="106"/>
                      </a:lnTo>
                      <a:lnTo>
                        <a:pt x="54" y="81"/>
                      </a:lnTo>
                      <a:lnTo>
                        <a:pt x="22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7459560" y="2244600"/>
                  <a:ext cx="334800" cy="541440"/>
                </a:xfrm>
                <a:custGeom>
                  <a:avLst/>
                  <a:gdLst/>
                  <a:ahLst/>
                  <a:rect l="l" t="t" r="r" b="b"/>
                  <a:pathLst>
                    <a:path w="231" h="341">
                      <a:moveTo>
                        <a:pt x="15" y="0"/>
                      </a:moveTo>
                      <a:lnTo>
                        <a:pt x="35" y="0"/>
                      </a:lnTo>
                      <a:lnTo>
                        <a:pt x="58" y="36"/>
                      </a:lnTo>
                      <a:lnTo>
                        <a:pt x="53" y="70"/>
                      </a:lnTo>
                      <a:lnTo>
                        <a:pt x="66" y="81"/>
                      </a:lnTo>
                      <a:lnTo>
                        <a:pt x="73" y="103"/>
                      </a:lnTo>
                      <a:lnTo>
                        <a:pt x="88" y="114"/>
                      </a:lnTo>
                      <a:lnTo>
                        <a:pt x="106" y="117"/>
                      </a:lnTo>
                      <a:lnTo>
                        <a:pt x="133" y="134"/>
                      </a:lnTo>
                      <a:lnTo>
                        <a:pt x="150" y="153"/>
                      </a:lnTo>
                      <a:lnTo>
                        <a:pt x="155" y="153"/>
                      </a:lnTo>
                      <a:lnTo>
                        <a:pt x="177" y="170"/>
                      </a:lnTo>
                      <a:lnTo>
                        <a:pt x="177" y="212"/>
                      </a:lnTo>
                      <a:lnTo>
                        <a:pt x="184" y="231"/>
                      </a:lnTo>
                      <a:lnTo>
                        <a:pt x="190" y="242"/>
                      </a:lnTo>
                      <a:lnTo>
                        <a:pt x="199" y="254"/>
                      </a:lnTo>
                      <a:lnTo>
                        <a:pt x="208" y="268"/>
                      </a:lnTo>
                      <a:lnTo>
                        <a:pt x="212" y="284"/>
                      </a:lnTo>
                      <a:lnTo>
                        <a:pt x="230" y="298"/>
                      </a:lnTo>
                      <a:lnTo>
                        <a:pt x="228" y="315"/>
                      </a:lnTo>
                      <a:lnTo>
                        <a:pt x="210" y="318"/>
                      </a:lnTo>
                      <a:lnTo>
                        <a:pt x="203" y="304"/>
                      </a:lnTo>
                      <a:lnTo>
                        <a:pt x="190" y="304"/>
                      </a:lnTo>
                      <a:lnTo>
                        <a:pt x="190" y="340"/>
                      </a:lnTo>
                      <a:lnTo>
                        <a:pt x="179" y="340"/>
                      </a:lnTo>
                      <a:lnTo>
                        <a:pt x="166" y="323"/>
                      </a:lnTo>
                      <a:lnTo>
                        <a:pt x="157" y="315"/>
                      </a:lnTo>
                      <a:lnTo>
                        <a:pt x="157" y="295"/>
                      </a:lnTo>
                      <a:lnTo>
                        <a:pt x="137" y="295"/>
                      </a:lnTo>
                      <a:lnTo>
                        <a:pt x="130" y="315"/>
                      </a:lnTo>
                      <a:lnTo>
                        <a:pt x="124" y="295"/>
                      </a:lnTo>
                      <a:lnTo>
                        <a:pt x="122" y="276"/>
                      </a:lnTo>
                      <a:lnTo>
                        <a:pt x="146" y="268"/>
                      </a:lnTo>
                      <a:lnTo>
                        <a:pt x="159" y="273"/>
                      </a:lnTo>
                      <a:lnTo>
                        <a:pt x="161" y="240"/>
                      </a:lnTo>
                      <a:lnTo>
                        <a:pt x="148" y="229"/>
                      </a:lnTo>
                      <a:lnTo>
                        <a:pt x="139" y="201"/>
                      </a:lnTo>
                      <a:lnTo>
                        <a:pt x="133" y="167"/>
                      </a:lnTo>
                      <a:lnTo>
                        <a:pt x="108" y="156"/>
                      </a:lnTo>
                      <a:lnTo>
                        <a:pt x="97" y="142"/>
                      </a:lnTo>
                      <a:lnTo>
                        <a:pt x="77" y="134"/>
                      </a:lnTo>
                      <a:lnTo>
                        <a:pt x="88" y="164"/>
                      </a:lnTo>
                      <a:lnTo>
                        <a:pt x="66" y="178"/>
                      </a:lnTo>
                      <a:lnTo>
                        <a:pt x="53" y="145"/>
                      </a:lnTo>
                      <a:lnTo>
                        <a:pt x="42" y="137"/>
                      </a:lnTo>
                      <a:lnTo>
                        <a:pt x="42" y="117"/>
                      </a:lnTo>
                      <a:lnTo>
                        <a:pt x="27" y="95"/>
                      </a:lnTo>
                      <a:lnTo>
                        <a:pt x="9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8" y="61"/>
                      </a:lnTo>
                      <a:lnTo>
                        <a:pt x="22" y="47"/>
                      </a:lnTo>
                      <a:lnTo>
                        <a:pt x="18" y="28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7385400" y="1328760"/>
                  <a:ext cx="244800" cy="458640"/>
                </a:xfrm>
                <a:custGeom>
                  <a:avLst/>
                  <a:gdLst/>
                  <a:ahLst/>
                  <a:rect l="l" t="t" r="r" b="b"/>
                  <a:pathLst>
                    <a:path w="169" h="289">
                      <a:moveTo>
                        <a:pt x="35" y="0"/>
                      </a:moveTo>
                      <a:lnTo>
                        <a:pt x="68" y="20"/>
                      </a:lnTo>
                      <a:lnTo>
                        <a:pt x="87" y="36"/>
                      </a:lnTo>
                      <a:lnTo>
                        <a:pt x="100" y="62"/>
                      </a:lnTo>
                      <a:lnTo>
                        <a:pt x="111" y="62"/>
                      </a:lnTo>
                      <a:lnTo>
                        <a:pt x="109" y="78"/>
                      </a:lnTo>
                      <a:lnTo>
                        <a:pt x="122" y="89"/>
                      </a:lnTo>
                      <a:lnTo>
                        <a:pt x="131" y="106"/>
                      </a:lnTo>
                      <a:lnTo>
                        <a:pt x="153" y="140"/>
                      </a:lnTo>
                      <a:lnTo>
                        <a:pt x="168" y="179"/>
                      </a:lnTo>
                      <a:lnTo>
                        <a:pt x="140" y="176"/>
                      </a:lnTo>
                      <a:lnTo>
                        <a:pt x="118" y="171"/>
                      </a:lnTo>
                      <a:lnTo>
                        <a:pt x="133" y="199"/>
                      </a:lnTo>
                      <a:lnTo>
                        <a:pt x="133" y="215"/>
                      </a:lnTo>
                      <a:lnTo>
                        <a:pt x="133" y="232"/>
                      </a:lnTo>
                      <a:lnTo>
                        <a:pt x="124" y="224"/>
                      </a:lnTo>
                      <a:lnTo>
                        <a:pt x="113" y="210"/>
                      </a:lnTo>
                      <a:lnTo>
                        <a:pt x="94" y="193"/>
                      </a:lnTo>
                      <a:lnTo>
                        <a:pt x="83" y="185"/>
                      </a:lnTo>
                      <a:lnTo>
                        <a:pt x="65" y="193"/>
                      </a:lnTo>
                      <a:lnTo>
                        <a:pt x="55" y="199"/>
                      </a:lnTo>
                      <a:lnTo>
                        <a:pt x="61" y="213"/>
                      </a:lnTo>
                      <a:lnTo>
                        <a:pt x="79" y="224"/>
                      </a:lnTo>
                      <a:lnTo>
                        <a:pt x="96" y="235"/>
                      </a:lnTo>
                      <a:lnTo>
                        <a:pt x="103" y="254"/>
                      </a:lnTo>
                      <a:lnTo>
                        <a:pt x="100" y="280"/>
                      </a:lnTo>
                      <a:lnTo>
                        <a:pt x="100" y="288"/>
                      </a:lnTo>
                      <a:lnTo>
                        <a:pt x="94" y="288"/>
                      </a:lnTo>
                      <a:lnTo>
                        <a:pt x="83" y="280"/>
                      </a:lnTo>
                      <a:lnTo>
                        <a:pt x="79" y="277"/>
                      </a:lnTo>
                      <a:lnTo>
                        <a:pt x="72" y="271"/>
                      </a:lnTo>
                      <a:lnTo>
                        <a:pt x="65" y="285"/>
                      </a:lnTo>
                      <a:lnTo>
                        <a:pt x="55" y="288"/>
                      </a:lnTo>
                      <a:lnTo>
                        <a:pt x="46" y="277"/>
                      </a:lnTo>
                      <a:lnTo>
                        <a:pt x="46" y="252"/>
                      </a:lnTo>
                      <a:lnTo>
                        <a:pt x="44" y="238"/>
                      </a:lnTo>
                      <a:lnTo>
                        <a:pt x="33" y="229"/>
                      </a:lnTo>
                      <a:lnTo>
                        <a:pt x="22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7" y="187"/>
                      </a:lnTo>
                      <a:lnTo>
                        <a:pt x="15" y="143"/>
                      </a:lnTo>
                      <a:lnTo>
                        <a:pt x="15" y="131"/>
                      </a:lnTo>
                      <a:lnTo>
                        <a:pt x="28" y="129"/>
                      </a:lnTo>
                      <a:lnTo>
                        <a:pt x="39" y="140"/>
                      </a:lnTo>
                      <a:lnTo>
                        <a:pt x="59" y="145"/>
                      </a:lnTo>
                      <a:lnTo>
                        <a:pt x="59" y="126"/>
                      </a:lnTo>
                      <a:lnTo>
                        <a:pt x="50" y="115"/>
                      </a:lnTo>
                      <a:lnTo>
                        <a:pt x="46" y="106"/>
                      </a:lnTo>
                      <a:lnTo>
                        <a:pt x="52" y="106"/>
                      </a:lnTo>
                      <a:lnTo>
                        <a:pt x="57" y="106"/>
                      </a:lnTo>
                      <a:lnTo>
                        <a:pt x="61" y="106"/>
                      </a:lnTo>
                      <a:lnTo>
                        <a:pt x="65" y="106"/>
                      </a:lnTo>
                      <a:lnTo>
                        <a:pt x="72" y="98"/>
                      </a:lnTo>
                      <a:lnTo>
                        <a:pt x="70" y="89"/>
                      </a:lnTo>
                      <a:lnTo>
                        <a:pt x="63" y="70"/>
                      </a:lnTo>
                      <a:lnTo>
                        <a:pt x="50" y="50"/>
                      </a:lnTo>
                      <a:lnTo>
                        <a:pt x="33" y="39"/>
                      </a:lnTo>
                      <a:lnTo>
                        <a:pt x="26" y="28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7106760" y="776160"/>
                  <a:ext cx="269640" cy="376200"/>
                </a:xfrm>
                <a:custGeom>
                  <a:avLst/>
                  <a:gdLst/>
                  <a:ahLst/>
                  <a:rect l="l" t="t" r="r" b="b"/>
                  <a:pathLst>
                    <a:path w="186" h="2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4" y="17"/>
                      </a:lnTo>
                      <a:lnTo>
                        <a:pt x="48" y="42"/>
                      </a:lnTo>
                      <a:lnTo>
                        <a:pt x="59" y="69"/>
                      </a:lnTo>
                      <a:lnTo>
                        <a:pt x="77" y="72"/>
                      </a:lnTo>
                      <a:lnTo>
                        <a:pt x="90" y="78"/>
                      </a:lnTo>
                      <a:lnTo>
                        <a:pt x="101" y="89"/>
                      </a:lnTo>
                      <a:lnTo>
                        <a:pt x="115" y="89"/>
                      </a:lnTo>
                      <a:lnTo>
                        <a:pt x="130" y="106"/>
                      </a:lnTo>
                      <a:lnTo>
                        <a:pt x="143" y="119"/>
                      </a:lnTo>
                      <a:lnTo>
                        <a:pt x="159" y="128"/>
                      </a:lnTo>
                      <a:lnTo>
                        <a:pt x="156" y="136"/>
                      </a:lnTo>
                      <a:lnTo>
                        <a:pt x="148" y="142"/>
                      </a:lnTo>
                      <a:lnTo>
                        <a:pt x="139" y="142"/>
                      </a:lnTo>
                      <a:lnTo>
                        <a:pt x="134" y="150"/>
                      </a:lnTo>
                      <a:lnTo>
                        <a:pt x="152" y="167"/>
                      </a:lnTo>
                      <a:lnTo>
                        <a:pt x="165" y="183"/>
                      </a:lnTo>
                      <a:lnTo>
                        <a:pt x="185" y="200"/>
                      </a:lnTo>
                      <a:lnTo>
                        <a:pt x="172" y="219"/>
                      </a:lnTo>
                      <a:lnTo>
                        <a:pt x="161" y="225"/>
                      </a:lnTo>
                      <a:lnTo>
                        <a:pt x="163" y="236"/>
                      </a:lnTo>
                      <a:lnTo>
                        <a:pt x="143" y="236"/>
                      </a:lnTo>
                      <a:lnTo>
                        <a:pt x="137" y="228"/>
                      </a:lnTo>
                      <a:lnTo>
                        <a:pt x="121" y="205"/>
                      </a:lnTo>
                      <a:lnTo>
                        <a:pt x="110" y="186"/>
                      </a:lnTo>
                      <a:lnTo>
                        <a:pt x="93" y="153"/>
                      </a:lnTo>
                      <a:lnTo>
                        <a:pt x="73" y="128"/>
                      </a:lnTo>
                      <a:lnTo>
                        <a:pt x="51" y="92"/>
                      </a:lnTo>
                      <a:lnTo>
                        <a:pt x="37" y="81"/>
                      </a:lnTo>
                      <a:lnTo>
                        <a:pt x="26" y="72"/>
                      </a:lnTo>
                      <a:lnTo>
                        <a:pt x="22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3624840" y="3240"/>
                <a:ext cx="3895560" cy="4390920"/>
                <a:chOff x="3624840" y="3240"/>
                <a:chExt cx="3895560" cy="439092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624840" y="1538280"/>
                  <a:ext cx="1937520" cy="2855880"/>
                </a:xfrm>
                <a:custGeom>
                  <a:avLst/>
                  <a:gdLst/>
                  <a:ahLst/>
                  <a:rect l="l" t="t" r="r" b="b"/>
                  <a:pathLst>
                    <a:path w="1336" h="1799">
                      <a:moveTo>
                        <a:pt x="998" y="215"/>
                      </a:moveTo>
                      <a:lnTo>
                        <a:pt x="1020" y="290"/>
                      </a:lnTo>
                      <a:lnTo>
                        <a:pt x="1061" y="405"/>
                      </a:lnTo>
                      <a:lnTo>
                        <a:pt x="1145" y="589"/>
                      </a:lnTo>
                      <a:lnTo>
                        <a:pt x="1175" y="611"/>
                      </a:lnTo>
                      <a:lnTo>
                        <a:pt x="1195" y="664"/>
                      </a:lnTo>
                      <a:lnTo>
                        <a:pt x="1261" y="662"/>
                      </a:lnTo>
                      <a:lnTo>
                        <a:pt x="1304" y="645"/>
                      </a:lnTo>
                      <a:lnTo>
                        <a:pt x="1335" y="645"/>
                      </a:lnTo>
                      <a:lnTo>
                        <a:pt x="1333" y="718"/>
                      </a:lnTo>
                      <a:lnTo>
                        <a:pt x="1322" y="757"/>
                      </a:lnTo>
                      <a:lnTo>
                        <a:pt x="1202" y="919"/>
                      </a:lnTo>
                      <a:lnTo>
                        <a:pt x="1092" y="1086"/>
                      </a:lnTo>
                      <a:lnTo>
                        <a:pt x="1094" y="1150"/>
                      </a:lnTo>
                      <a:lnTo>
                        <a:pt x="1125" y="1198"/>
                      </a:lnTo>
                      <a:lnTo>
                        <a:pt x="1110" y="1234"/>
                      </a:lnTo>
                      <a:lnTo>
                        <a:pt x="1118" y="1281"/>
                      </a:lnTo>
                      <a:lnTo>
                        <a:pt x="1110" y="1318"/>
                      </a:lnTo>
                      <a:lnTo>
                        <a:pt x="1083" y="1349"/>
                      </a:lnTo>
                      <a:lnTo>
                        <a:pt x="1061" y="1349"/>
                      </a:lnTo>
                      <a:lnTo>
                        <a:pt x="1024" y="1402"/>
                      </a:lnTo>
                      <a:lnTo>
                        <a:pt x="991" y="1463"/>
                      </a:lnTo>
                      <a:lnTo>
                        <a:pt x="998" y="1530"/>
                      </a:lnTo>
                      <a:lnTo>
                        <a:pt x="965" y="1561"/>
                      </a:lnTo>
                      <a:lnTo>
                        <a:pt x="935" y="1630"/>
                      </a:lnTo>
                      <a:lnTo>
                        <a:pt x="899" y="1695"/>
                      </a:lnTo>
                      <a:lnTo>
                        <a:pt x="880" y="1720"/>
                      </a:lnTo>
                      <a:lnTo>
                        <a:pt x="862" y="1725"/>
                      </a:lnTo>
                      <a:lnTo>
                        <a:pt x="832" y="1767"/>
                      </a:lnTo>
                      <a:lnTo>
                        <a:pt x="781" y="1792"/>
                      </a:lnTo>
                      <a:lnTo>
                        <a:pt x="718" y="1798"/>
                      </a:lnTo>
                      <a:lnTo>
                        <a:pt x="683" y="1770"/>
                      </a:lnTo>
                      <a:lnTo>
                        <a:pt x="678" y="1742"/>
                      </a:lnTo>
                      <a:lnTo>
                        <a:pt x="672" y="1706"/>
                      </a:lnTo>
                      <a:lnTo>
                        <a:pt x="648" y="1686"/>
                      </a:lnTo>
                      <a:lnTo>
                        <a:pt x="628" y="1617"/>
                      </a:lnTo>
                      <a:lnTo>
                        <a:pt x="622" y="1583"/>
                      </a:lnTo>
                      <a:lnTo>
                        <a:pt x="619" y="1541"/>
                      </a:lnTo>
                      <a:lnTo>
                        <a:pt x="608" y="1510"/>
                      </a:lnTo>
                      <a:lnTo>
                        <a:pt x="606" y="1491"/>
                      </a:lnTo>
                      <a:lnTo>
                        <a:pt x="587" y="1460"/>
                      </a:lnTo>
                      <a:lnTo>
                        <a:pt x="565" y="1435"/>
                      </a:lnTo>
                      <a:lnTo>
                        <a:pt x="549" y="1393"/>
                      </a:lnTo>
                      <a:lnTo>
                        <a:pt x="538" y="1362"/>
                      </a:lnTo>
                      <a:lnTo>
                        <a:pt x="543" y="1312"/>
                      </a:lnTo>
                      <a:lnTo>
                        <a:pt x="576" y="1240"/>
                      </a:lnTo>
                      <a:lnTo>
                        <a:pt x="582" y="1159"/>
                      </a:lnTo>
                      <a:lnTo>
                        <a:pt x="558" y="1067"/>
                      </a:lnTo>
                      <a:lnTo>
                        <a:pt x="523" y="1030"/>
                      </a:lnTo>
                      <a:lnTo>
                        <a:pt x="499" y="980"/>
                      </a:lnTo>
                      <a:lnTo>
                        <a:pt x="508" y="902"/>
                      </a:lnTo>
                      <a:lnTo>
                        <a:pt x="490" y="843"/>
                      </a:lnTo>
                      <a:lnTo>
                        <a:pt x="449" y="838"/>
                      </a:lnTo>
                      <a:lnTo>
                        <a:pt x="405" y="793"/>
                      </a:lnTo>
                      <a:lnTo>
                        <a:pt x="350" y="768"/>
                      </a:lnTo>
                      <a:lnTo>
                        <a:pt x="293" y="807"/>
                      </a:lnTo>
                      <a:lnTo>
                        <a:pt x="144" y="796"/>
                      </a:lnTo>
                      <a:lnTo>
                        <a:pt x="63" y="698"/>
                      </a:lnTo>
                      <a:lnTo>
                        <a:pt x="0" y="567"/>
                      </a:lnTo>
                      <a:lnTo>
                        <a:pt x="11" y="522"/>
                      </a:lnTo>
                      <a:lnTo>
                        <a:pt x="39" y="489"/>
                      </a:lnTo>
                      <a:lnTo>
                        <a:pt x="53" y="396"/>
                      </a:lnTo>
                      <a:lnTo>
                        <a:pt x="72" y="329"/>
                      </a:lnTo>
                      <a:lnTo>
                        <a:pt x="129" y="260"/>
                      </a:lnTo>
                      <a:lnTo>
                        <a:pt x="188" y="229"/>
                      </a:lnTo>
                      <a:lnTo>
                        <a:pt x="243" y="156"/>
                      </a:lnTo>
                      <a:lnTo>
                        <a:pt x="256" y="126"/>
                      </a:lnTo>
                      <a:lnTo>
                        <a:pt x="328" y="47"/>
                      </a:lnTo>
                      <a:lnTo>
                        <a:pt x="374" y="78"/>
                      </a:lnTo>
                      <a:lnTo>
                        <a:pt x="407" y="75"/>
                      </a:lnTo>
                      <a:lnTo>
                        <a:pt x="446" y="34"/>
                      </a:lnTo>
                      <a:lnTo>
                        <a:pt x="492" y="28"/>
                      </a:lnTo>
                      <a:lnTo>
                        <a:pt x="523" y="39"/>
                      </a:lnTo>
                      <a:lnTo>
                        <a:pt x="552" y="6"/>
                      </a:lnTo>
                      <a:lnTo>
                        <a:pt x="589" y="0"/>
                      </a:lnTo>
                      <a:lnTo>
                        <a:pt x="597" y="61"/>
                      </a:lnTo>
                      <a:lnTo>
                        <a:pt x="622" y="106"/>
                      </a:lnTo>
                      <a:lnTo>
                        <a:pt x="689" y="151"/>
                      </a:lnTo>
                      <a:lnTo>
                        <a:pt x="746" y="159"/>
                      </a:lnTo>
                      <a:lnTo>
                        <a:pt x="753" y="109"/>
                      </a:lnTo>
                      <a:lnTo>
                        <a:pt x="797" y="109"/>
                      </a:lnTo>
                      <a:lnTo>
                        <a:pt x="849" y="140"/>
                      </a:lnTo>
                      <a:lnTo>
                        <a:pt x="906" y="156"/>
                      </a:lnTo>
                      <a:lnTo>
                        <a:pt x="954" y="137"/>
                      </a:lnTo>
                      <a:lnTo>
                        <a:pt x="998" y="215"/>
                      </a:lnTo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" name=""/>
                <p:cNvGrpSpPr/>
                <p:nvPr/>
              </p:nvGrpSpPr>
              <p:grpSpPr>
                <a:xfrm>
                  <a:off x="3756600" y="3240"/>
                  <a:ext cx="858240" cy="984240"/>
                  <a:chOff x="3756600" y="3240"/>
                  <a:chExt cx="858240" cy="984240"/>
                </a:xfrm>
              </p:grpSpPr>
              <p:grpSp>
                <p:nvGrpSpPr>
                  <p:cNvPr id="108" name=""/>
                  <p:cNvGrpSpPr/>
                  <p:nvPr/>
                </p:nvGrpSpPr>
                <p:grpSpPr>
                  <a:xfrm>
                    <a:off x="4095720" y="617400"/>
                    <a:ext cx="269280" cy="370080"/>
                    <a:chOff x="4095720" y="617400"/>
                    <a:chExt cx="269280" cy="370080"/>
                  </a:xfrm>
                </p:grpSpPr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4095720" y="752400"/>
                      <a:ext cx="12744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132">
                          <a:moveTo>
                            <a:pt x="20" y="40"/>
                          </a:moveTo>
                          <a:lnTo>
                            <a:pt x="27" y="26"/>
                          </a:lnTo>
                          <a:lnTo>
                            <a:pt x="42" y="26"/>
                          </a:lnTo>
                          <a:lnTo>
                            <a:pt x="65" y="0"/>
                          </a:lnTo>
                          <a:lnTo>
                            <a:pt x="71" y="17"/>
                          </a:lnTo>
                          <a:lnTo>
                            <a:pt x="83" y="17"/>
                          </a:lnTo>
                          <a:lnTo>
                            <a:pt x="87" y="26"/>
                          </a:lnTo>
                          <a:lnTo>
                            <a:pt x="80" y="40"/>
                          </a:lnTo>
                          <a:lnTo>
                            <a:pt x="71" y="46"/>
                          </a:lnTo>
                          <a:lnTo>
                            <a:pt x="71" y="57"/>
                          </a:lnTo>
                          <a:lnTo>
                            <a:pt x="69" y="63"/>
                          </a:lnTo>
                          <a:lnTo>
                            <a:pt x="67" y="71"/>
                          </a:lnTo>
                          <a:lnTo>
                            <a:pt x="71" y="83"/>
                          </a:lnTo>
                          <a:lnTo>
                            <a:pt x="65" y="94"/>
                          </a:lnTo>
                          <a:lnTo>
                            <a:pt x="58" y="100"/>
                          </a:lnTo>
                          <a:lnTo>
                            <a:pt x="51" y="100"/>
                          </a:lnTo>
                          <a:lnTo>
                            <a:pt x="49" y="103"/>
                          </a:lnTo>
                          <a:lnTo>
                            <a:pt x="47" y="111"/>
                          </a:lnTo>
                          <a:lnTo>
                            <a:pt x="36" y="114"/>
                          </a:lnTo>
                          <a:lnTo>
                            <a:pt x="33" y="111"/>
                          </a:lnTo>
                          <a:lnTo>
                            <a:pt x="25" y="120"/>
                          </a:lnTo>
                          <a:lnTo>
                            <a:pt x="22" y="122"/>
                          </a:lnTo>
                          <a:lnTo>
                            <a:pt x="11" y="131"/>
                          </a:lnTo>
                          <a:lnTo>
                            <a:pt x="7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7" y="91"/>
                          </a:lnTo>
                          <a:lnTo>
                            <a:pt x="13" y="85"/>
                          </a:lnTo>
                          <a:lnTo>
                            <a:pt x="18" y="74"/>
                          </a:lnTo>
                          <a:lnTo>
                            <a:pt x="25" y="74"/>
                          </a:lnTo>
                          <a:lnTo>
                            <a:pt x="29" y="77"/>
                          </a:lnTo>
                          <a:lnTo>
                            <a:pt x="36" y="74"/>
                          </a:lnTo>
                          <a:lnTo>
                            <a:pt x="29" y="71"/>
                          </a:lnTo>
                          <a:lnTo>
                            <a:pt x="20" y="40"/>
                          </a:lnTo>
                        </a:path>
                      </a:pathLst>
                    </a:cu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4211280" y="617400"/>
                      <a:ext cx="153720" cy="37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233">
                          <a:moveTo>
                            <a:pt x="34" y="34"/>
                          </a:moveTo>
                          <a:lnTo>
                            <a:pt x="40" y="25"/>
                          </a:lnTo>
                          <a:lnTo>
                            <a:pt x="60" y="28"/>
                          </a:lnTo>
                          <a:lnTo>
                            <a:pt x="65" y="22"/>
                          </a:lnTo>
                          <a:lnTo>
                            <a:pt x="69" y="14"/>
                          </a:lnTo>
                          <a:lnTo>
                            <a:pt x="74" y="14"/>
                          </a:lnTo>
                          <a:lnTo>
                            <a:pt x="78" y="11"/>
                          </a:lnTo>
                          <a:lnTo>
                            <a:pt x="85" y="6"/>
                          </a:lnTo>
                          <a:lnTo>
                            <a:pt x="94" y="0"/>
                          </a:lnTo>
                          <a:lnTo>
                            <a:pt x="105" y="3"/>
                          </a:lnTo>
                          <a:lnTo>
                            <a:pt x="103" y="14"/>
                          </a:lnTo>
                          <a:lnTo>
                            <a:pt x="98" y="22"/>
                          </a:lnTo>
                          <a:lnTo>
                            <a:pt x="94" y="25"/>
                          </a:lnTo>
                          <a:lnTo>
                            <a:pt x="89" y="28"/>
                          </a:lnTo>
                          <a:lnTo>
                            <a:pt x="76" y="34"/>
                          </a:lnTo>
                          <a:lnTo>
                            <a:pt x="76" y="45"/>
                          </a:lnTo>
                          <a:lnTo>
                            <a:pt x="78" y="50"/>
                          </a:lnTo>
                          <a:lnTo>
                            <a:pt x="92" y="45"/>
                          </a:lnTo>
                          <a:lnTo>
                            <a:pt x="103" y="39"/>
                          </a:lnTo>
                          <a:lnTo>
                            <a:pt x="105" y="45"/>
                          </a:lnTo>
                          <a:lnTo>
                            <a:pt x="105" y="61"/>
                          </a:lnTo>
                          <a:lnTo>
                            <a:pt x="96" y="64"/>
                          </a:lnTo>
                          <a:lnTo>
                            <a:pt x="87" y="64"/>
                          </a:lnTo>
                          <a:lnTo>
                            <a:pt x="80" y="73"/>
                          </a:lnTo>
                          <a:lnTo>
                            <a:pt x="78" y="78"/>
                          </a:lnTo>
                          <a:lnTo>
                            <a:pt x="78" y="87"/>
                          </a:lnTo>
                          <a:lnTo>
                            <a:pt x="85" y="98"/>
                          </a:lnTo>
                          <a:lnTo>
                            <a:pt x="92" y="106"/>
                          </a:lnTo>
                          <a:lnTo>
                            <a:pt x="96" y="115"/>
                          </a:lnTo>
                          <a:lnTo>
                            <a:pt x="98" y="126"/>
                          </a:lnTo>
                          <a:lnTo>
                            <a:pt x="101" y="137"/>
                          </a:lnTo>
                          <a:lnTo>
                            <a:pt x="105" y="151"/>
                          </a:lnTo>
                          <a:lnTo>
                            <a:pt x="105" y="171"/>
                          </a:lnTo>
                          <a:lnTo>
                            <a:pt x="101" y="182"/>
                          </a:lnTo>
                          <a:lnTo>
                            <a:pt x="92" y="190"/>
                          </a:lnTo>
                          <a:lnTo>
                            <a:pt x="89" y="196"/>
                          </a:lnTo>
                          <a:lnTo>
                            <a:pt x="94" y="207"/>
                          </a:lnTo>
                          <a:lnTo>
                            <a:pt x="98" y="218"/>
                          </a:lnTo>
                          <a:lnTo>
                            <a:pt x="85" y="218"/>
                          </a:lnTo>
                          <a:lnTo>
                            <a:pt x="74" y="218"/>
                          </a:lnTo>
                          <a:lnTo>
                            <a:pt x="69" y="215"/>
                          </a:lnTo>
                          <a:lnTo>
                            <a:pt x="60" y="215"/>
                          </a:lnTo>
                          <a:lnTo>
                            <a:pt x="49" y="218"/>
                          </a:lnTo>
                          <a:lnTo>
                            <a:pt x="40" y="224"/>
                          </a:lnTo>
                          <a:lnTo>
                            <a:pt x="34" y="224"/>
                          </a:lnTo>
                          <a:lnTo>
                            <a:pt x="29" y="226"/>
                          </a:lnTo>
                          <a:lnTo>
                            <a:pt x="18" y="232"/>
                          </a:lnTo>
                          <a:lnTo>
                            <a:pt x="16" y="229"/>
                          </a:lnTo>
                          <a:lnTo>
                            <a:pt x="11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1" y="193"/>
                          </a:lnTo>
                          <a:lnTo>
                            <a:pt x="18" y="190"/>
                          </a:lnTo>
                          <a:lnTo>
                            <a:pt x="27" y="190"/>
                          </a:lnTo>
                          <a:lnTo>
                            <a:pt x="27" y="187"/>
                          </a:lnTo>
                          <a:lnTo>
                            <a:pt x="18" y="182"/>
                          </a:lnTo>
                          <a:lnTo>
                            <a:pt x="18" y="173"/>
                          </a:lnTo>
                          <a:lnTo>
                            <a:pt x="18" y="168"/>
                          </a:lnTo>
                          <a:lnTo>
                            <a:pt x="27" y="162"/>
                          </a:lnTo>
                          <a:lnTo>
                            <a:pt x="31" y="159"/>
                          </a:lnTo>
                          <a:lnTo>
                            <a:pt x="36" y="157"/>
                          </a:lnTo>
                          <a:lnTo>
                            <a:pt x="42" y="157"/>
                          </a:lnTo>
                          <a:lnTo>
                            <a:pt x="47" y="154"/>
                          </a:lnTo>
                          <a:lnTo>
                            <a:pt x="49" y="131"/>
                          </a:lnTo>
                          <a:lnTo>
                            <a:pt x="56" y="115"/>
                          </a:lnTo>
                          <a:lnTo>
                            <a:pt x="56" y="106"/>
                          </a:lnTo>
                          <a:lnTo>
                            <a:pt x="40" y="103"/>
                          </a:lnTo>
                          <a:lnTo>
                            <a:pt x="45" y="89"/>
                          </a:lnTo>
                          <a:lnTo>
                            <a:pt x="34" y="81"/>
                          </a:lnTo>
                          <a:lnTo>
                            <a:pt x="22" y="84"/>
                          </a:lnTo>
                          <a:lnTo>
                            <a:pt x="36" y="64"/>
                          </a:lnTo>
                          <a:lnTo>
                            <a:pt x="34" y="34"/>
                          </a:lnTo>
                        </a:path>
                      </a:pathLst>
                    </a:cu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1" name=""/>
                  <p:cNvSpPr/>
                  <p:nvPr/>
                </p:nvSpPr>
                <p:spPr>
                  <a:xfrm>
                    <a:off x="3756600" y="3240"/>
                    <a:ext cx="85824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92" h="390">
                        <a:moveTo>
                          <a:pt x="0" y="389"/>
                        </a:moveTo>
                        <a:lnTo>
                          <a:pt x="37" y="381"/>
                        </a:lnTo>
                        <a:lnTo>
                          <a:pt x="50" y="364"/>
                        </a:lnTo>
                        <a:lnTo>
                          <a:pt x="59" y="353"/>
                        </a:lnTo>
                        <a:lnTo>
                          <a:pt x="63" y="344"/>
                        </a:lnTo>
                        <a:lnTo>
                          <a:pt x="72" y="344"/>
                        </a:lnTo>
                        <a:lnTo>
                          <a:pt x="81" y="336"/>
                        </a:lnTo>
                        <a:lnTo>
                          <a:pt x="92" y="336"/>
                        </a:lnTo>
                        <a:lnTo>
                          <a:pt x="99" y="336"/>
                        </a:lnTo>
                        <a:lnTo>
                          <a:pt x="107" y="336"/>
                        </a:lnTo>
                        <a:lnTo>
                          <a:pt x="112" y="336"/>
                        </a:lnTo>
                        <a:lnTo>
                          <a:pt x="120" y="325"/>
                        </a:lnTo>
                        <a:lnTo>
                          <a:pt x="125" y="316"/>
                        </a:lnTo>
                        <a:lnTo>
                          <a:pt x="136" y="308"/>
                        </a:lnTo>
                        <a:lnTo>
                          <a:pt x="144" y="305"/>
                        </a:lnTo>
                        <a:lnTo>
                          <a:pt x="151" y="299"/>
                        </a:lnTo>
                        <a:lnTo>
                          <a:pt x="160" y="297"/>
                        </a:lnTo>
                        <a:lnTo>
                          <a:pt x="166" y="291"/>
                        </a:lnTo>
                        <a:lnTo>
                          <a:pt x="175" y="285"/>
                        </a:lnTo>
                        <a:lnTo>
                          <a:pt x="184" y="280"/>
                        </a:lnTo>
                        <a:lnTo>
                          <a:pt x="195" y="271"/>
                        </a:lnTo>
                        <a:lnTo>
                          <a:pt x="206" y="274"/>
                        </a:lnTo>
                        <a:lnTo>
                          <a:pt x="223" y="280"/>
                        </a:lnTo>
                        <a:lnTo>
                          <a:pt x="241" y="280"/>
                        </a:lnTo>
                        <a:lnTo>
                          <a:pt x="260" y="271"/>
                        </a:lnTo>
                        <a:lnTo>
                          <a:pt x="269" y="269"/>
                        </a:lnTo>
                        <a:lnTo>
                          <a:pt x="276" y="252"/>
                        </a:lnTo>
                        <a:lnTo>
                          <a:pt x="285" y="241"/>
                        </a:lnTo>
                        <a:lnTo>
                          <a:pt x="300" y="227"/>
                        </a:lnTo>
                        <a:lnTo>
                          <a:pt x="304" y="218"/>
                        </a:lnTo>
                        <a:lnTo>
                          <a:pt x="304" y="207"/>
                        </a:lnTo>
                        <a:lnTo>
                          <a:pt x="317" y="199"/>
                        </a:lnTo>
                        <a:lnTo>
                          <a:pt x="324" y="190"/>
                        </a:lnTo>
                        <a:lnTo>
                          <a:pt x="328" y="182"/>
                        </a:lnTo>
                        <a:lnTo>
                          <a:pt x="333" y="182"/>
                        </a:lnTo>
                        <a:lnTo>
                          <a:pt x="355" y="165"/>
                        </a:lnTo>
                        <a:lnTo>
                          <a:pt x="355" y="182"/>
                        </a:lnTo>
                        <a:lnTo>
                          <a:pt x="350" y="188"/>
                        </a:lnTo>
                        <a:lnTo>
                          <a:pt x="355" y="196"/>
                        </a:lnTo>
                        <a:lnTo>
                          <a:pt x="370" y="199"/>
                        </a:lnTo>
                        <a:lnTo>
                          <a:pt x="379" y="199"/>
                        </a:lnTo>
                        <a:lnTo>
                          <a:pt x="387" y="190"/>
                        </a:lnTo>
                        <a:lnTo>
                          <a:pt x="394" y="182"/>
                        </a:lnTo>
                        <a:lnTo>
                          <a:pt x="394" y="174"/>
                        </a:lnTo>
                        <a:lnTo>
                          <a:pt x="401" y="165"/>
                        </a:lnTo>
                        <a:lnTo>
                          <a:pt x="401" y="157"/>
                        </a:lnTo>
                        <a:lnTo>
                          <a:pt x="407" y="146"/>
                        </a:lnTo>
                        <a:lnTo>
                          <a:pt x="412" y="140"/>
                        </a:lnTo>
                        <a:lnTo>
                          <a:pt x="422" y="140"/>
                        </a:lnTo>
                        <a:lnTo>
                          <a:pt x="444" y="140"/>
                        </a:lnTo>
                        <a:lnTo>
                          <a:pt x="462" y="129"/>
                        </a:lnTo>
                        <a:lnTo>
                          <a:pt x="477" y="112"/>
                        </a:lnTo>
                        <a:lnTo>
                          <a:pt x="495" y="106"/>
                        </a:lnTo>
                        <a:lnTo>
                          <a:pt x="510" y="92"/>
                        </a:lnTo>
                        <a:lnTo>
                          <a:pt x="521" y="70"/>
                        </a:lnTo>
                        <a:lnTo>
                          <a:pt x="545" y="45"/>
                        </a:lnTo>
                        <a:lnTo>
                          <a:pt x="560" y="34"/>
                        </a:lnTo>
                        <a:lnTo>
                          <a:pt x="576" y="22"/>
                        </a:lnTo>
                        <a:lnTo>
                          <a:pt x="591" y="8"/>
                        </a:lnTo>
                        <a:lnTo>
                          <a:pt x="565" y="0"/>
                        </a:lnTo>
                        <a:lnTo>
                          <a:pt x="538" y="0"/>
                        </a:lnTo>
                        <a:lnTo>
                          <a:pt x="512" y="14"/>
                        </a:lnTo>
                        <a:lnTo>
                          <a:pt x="499" y="22"/>
                        </a:lnTo>
                        <a:lnTo>
                          <a:pt x="477" y="28"/>
                        </a:lnTo>
                        <a:lnTo>
                          <a:pt x="453" y="31"/>
                        </a:lnTo>
                        <a:lnTo>
                          <a:pt x="440" y="36"/>
                        </a:lnTo>
                        <a:lnTo>
                          <a:pt x="412" y="50"/>
                        </a:lnTo>
                        <a:lnTo>
                          <a:pt x="394" y="59"/>
                        </a:lnTo>
                        <a:lnTo>
                          <a:pt x="376" y="67"/>
                        </a:lnTo>
                        <a:lnTo>
                          <a:pt x="355" y="73"/>
                        </a:lnTo>
                        <a:lnTo>
                          <a:pt x="333" y="81"/>
                        </a:lnTo>
                        <a:lnTo>
                          <a:pt x="313" y="92"/>
                        </a:lnTo>
                        <a:lnTo>
                          <a:pt x="298" y="106"/>
                        </a:lnTo>
                        <a:lnTo>
                          <a:pt x="285" y="120"/>
                        </a:lnTo>
                        <a:lnTo>
                          <a:pt x="271" y="132"/>
                        </a:lnTo>
                        <a:lnTo>
                          <a:pt x="260" y="140"/>
                        </a:lnTo>
                        <a:lnTo>
                          <a:pt x="236" y="157"/>
                        </a:lnTo>
                        <a:lnTo>
                          <a:pt x="212" y="174"/>
                        </a:lnTo>
                        <a:lnTo>
                          <a:pt x="184" y="190"/>
                        </a:lnTo>
                        <a:lnTo>
                          <a:pt x="164" y="215"/>
                        </a:lnTo>
                        <a:lnTo>
                          <a:pt x="142" y="235"/>
                        </a:lnTo>
                        <a:lnTo>
                          <a:pt x="123" y="246"/>
                        </a:lnTo>
                        <a:lnTo>
                          <a:pt x="103" y="271"/>
                        </a:lnTo>
                        <a:lnTo>
                          <a:pt x="90" y="288"/>
                        </a:lnTo>
                        <a:lnTo>
                          <a:pt x="72" y="305"/>
                        </a:lnTo>
                        <a:lnTo>
                          <a:pt x="55" y="316"/>
                        </a:lnTo>
                        <a:lnTo>
                          <a:pt x="37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5273640" y="3492360"/>
                  <a:ext cx="256680" cy="600120"/>
                </a:xfrm>
                <a:custGeom>
                  <a:avLst/>
                  <a:gdLst/>
                  <a:ahLst/>
                  <a:rect l="l" t="t" r="r" b="b"/>
                  <a:pathLst>
                    <a:path w="177" h="378">
                      <a:moveTo>
                        <a:pt x="33" y="117"/>
                      </a:moveTo>
                      <a:lnTo>
                        <a:pt x="29" y="193"/>
                      </a:lnTo>
                      <a:lnTo>
                        <a:pt x="13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20" y="371"/>
                      </a:lnTo>
                      <a:lnTo>
                        <a:pt x="33" y="374"/>
                      </a:lnTo>
                      <a:lnTo>
                        <a:pt x="44" y="374"/>
                      </a:lnTo>
                      <a:lnTo>
                        <a:pt x="57" y="377"/>
                      </a:lnTo>
                      <a:lnTo>
                        <a:pt x="64" y="357"/>
                      </a:lnTo>
                      <a:lnTo>
                        <a:pt x="70" y="307"/>
                      </a:lnTo>
                      <a:lnTo>
                        <a:pt x="90" y="274"/>
                      </a:lnTo>
                      <a:lnTo>
                        <a:pt x="95" y="223"/>
                      </a:lnTo>
                      <a:lnTo>
                        <a:pt x="103" y="204"/>
                      </a:lnTo>
                      <a:lnTo>
                        <a:pt x="112" y="190"/>
                      </a:lnTo>
                      <a:lnTo>
                        <a:pt x="119" y="154"/>
                      </a:lnTo>
                      <a:lnTo>
                        <a:pt x="132" y="131"/>
                      </a:lnTo>
                      <a:lnTo>
                        <a:pt x="141" y="114"/>
                      </a:lnTo>
                      <a:lnTo>
                        <a:pt x="150" y="101"/>
                      </a:lnTo>
                      <a:lnTo>
                        <a:pt x="150" y="92"/>
                      </a:lnTo>
                      <a:lnTo>
                        <a:pt x="169" y="73"/>
                      </a:lnTo>
                      <a:lnTo>
                        <a:pt x="172" y="42"/>
                      </a:lnTo>
                      <a:lnTo>
                        <a:pt x="176" y="22"/>
                      </a:lnTo>
                      <a:lnTo>
                        <a:pt x="158" y="14"/>
                      </a:lnTo>
                      <a:lnTo>
                        <a:pt x="147" y="0"/>
                      </a:lnTo>
                      <a:lnTo>
                        <a:pt x="132" y="14"/>
                      </a:lnTo>
                      <a:lnTo>
                        <a:pt x="119" y="47"/>
                      </a:lnTo>
                      <a:lnTo>
                        <a:pt x="103" y="70"/>
                      </a:lnTo>
                      <a:lnTo>
                        <a:pt x="90" y="89"/>
                      </a:lnTo>
                      <a:lnTo>
                        <a:pt x="84" y="89"/>
                      </a:lnTo>
                      <a:lnTo>
                        <a:pt x="70" y="101"/>
                      </a:lnTo>
                      <a:lnTo>
                        <a:pt x="64" y="112"/>
                      </a:lnTo>
                      <a:lnTo>
                        <a:pt x="33" y="117"/>
                      </a:lnTo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051080" y="63360"/>
                  <a:ext cx="3469320" cy="2840040"/>
                </a:xfrm>
                <a:custGeom>
                  <a:avLst/>
                  <a:gdLst/>
                  <a:ahLst/>
                  <a:rect l="l" t="t" r="r" b="b"/>
                  <a:pathLst>
                    <a:path w="2392" h="1789">
                      <a:moveTo>
                        <a:pt x="0" y="803"/>
                      </a:moveTo>
                      <a:lnTo>
                        <a:pt x="22" y="778"/>
                      </a:lnTo>
                      <a:lnTo>
                        <a:pt x="35" y="759"/>
                      </a:lnTo>
                      <a:lnTo>
                        <a:pt x="63" y="759"/>
                      </a:lnTo>
                      <a:lnTo>
                        <a:pt x="94" y="764"/>
                      </a:lnTo>
                      <a:lnTo>
                        <a:pt x="116" y="753"/>
                      </a:lnTo>
                      <a:lnTo>
                        <a:pt x="140" y="750"/>
                      </a:lnTo>
                      <a:lnTo>
                        <a:pt x="142" y="717"/>
                      </a:lnTo>
                      <a:lnTo>
                        <a:pt x="155" y="695"/>
                      </a:lnTo>
                      <a:lnTo>
                        <a:pt x="123" y="669"/>
                      </a:lnTo>
                      <a:lnTo>
                        <a:pt x="118" y="650"/>
                      </a:lnTo>
                      <a:lnTo>
                        <a:pt x="120" y="622"/>
                      </a:lnTo>
                      <a:lnTo>
                        <a:pt x="144" y="622"/>
                      </a:lnTo>
                      <a:lnTo>
                        <a:pt x="160" y="619"/>
                      </a:lnTo>
                      <a:lnTo>
                        <a:pt x="162" y="622"/>
                      </a:lnTo>
                      <a:lnTo>
                        <a:pt x="179" y="605"/>
                      </a:lnTo>
                      <a:lnTo>
                        <a:pt x="197" y="597"/>
                      </a:lnTo>
                      <a:lnTo>
                        <a:pt x="203" y="597"/>
                      </a:lnTo>
                      <a:lnTo>
                        <a:pt x="214" y="580"/>
                      </a:lnTo>
                      <a:lnTo>
                        <a:pt x="228" y="575"/>
                      </a:lnTo>
                      <a:lnTo>
                        <a:pt x="241" y="544"/>
                      </a:lnTo>
                      <a:lnTo>
                        <a:pt x="249" y="552"/>
                      </a:lnTo>
                      <a:lnTo>
                        <a:pt x="267" y="533"/>
                      </a:lnTo>
                      <a:lnTo>
                        <a:pt x="269" y="533"/>
                      </a:lnTo>
                      <a:lnTo>
                        <a:pt x="291" y="510"/>
                      </a:lnTo>
                      <a:lnTo>
                        <a:pt x="304" y="508"/>
                      </a:lnTo>
                      <a:lnTo>
                        <a:pt x="322" y="508"/>
                      </a:lnTo>
                      <a:lnTo>
                        <a:pt x="333" y="508"/>
                      </a:lnTo>
                      <a:lnTo>
                        <a:pt x="324" y="480"/>
                      </a:lnTo>
                      <a:lnTo>
                        <a:pt x="319" y="457"/>
                      </a:lnTo>
                      <a:lnTo>
                        <a:pt x="315" y="410"/>
                      </a:lnTo>
                      <a:lnTo>
                        <a:pt x="341" y="407"/>
                      </a:lnTo>
                      <a:lnTo>
                        <a:pt x="354" y="399"/>
                      </a:lnTo>
                      <a:lnTo>
                        <a:pt x="348" y="418"/>
                      </a:lnTo>
                      <a:lnTo>
                        <a:pt x="359" y="432"/>
                      </a:lnTo>
                      <a:lnTo>
                        <a:pt x="370" y="449"/>
                      </a:lnTo>
                      <a:lnTo>
                        <a:pt x="376" y="460"/>
                      </a:lnTo>
                      <a:lnTo>
                        <a:pt x="407" y="457"/>
                      </a:lnTo>
                      <a:lnTo>
                        <a:pt x="433" y="416"/>
                      </a:lnTo>
                      <a:lnTo>
                        <a:pt x="453" y="396"/>
                      </a:lnTo>
                      <a:lnTo>
                        <a:pt x="464" y="382"/>
                      </a:lnTo>
                      <a:lnTo>
                        <a:pt x="477" y="365"/>
                      </a:lnTo>
                      <a:lnTo>
                        <a:pt x="490" y="343"/>
                      </a:lnTo>
                      <a:lnTo>
                        <a:pt x="501" y="351"/>
                      </a:lnTo>
                      <a:lnTo>
                        <a:pt x="501" y="338"/>
                      </a:lnTo>
                      <a:lnTo>
                        <a:pt x="508" y="329"/>
                      </a:lnTo>
                      <a:lnTo>
                        <a:pt x="527" y="335"/>
                      </a:lnTo>
                      <a:lnTo>
                        <a:pt x="560" y="371"/>
                      </a:lnTo>
                      <a:lnTo>
                        <a:pt x="553" y="271"/>
                      </a:lnTo>
                      <a:lnTo>
                        <a:pt x="525" y="315"/>
                      </a:lnTo>
                      <a:lnTo>
                        <a:pt x="503" y="312"/>
                      </a:lnTo>
                      <a:lnTo>
                        <a:pt x="497" y="285"/>
                      </a:lnTo>
                      <a:lnTo>
                        <a:pt x="497" y="271"/>
                      </a:lnTo>
                      <a:lnTo>
                        <a:pt x="490" y="262"/>
                      </a:lnTo>
                      <a:lnTo>
                        <a:pt x="508" y="240"/>
                      </a:lnTo>
                      <a:lnTo>
                        <a:pt x="518" y="223"/>
                      </a:lnTo>
                      <a:lnTo>
                        <a:pt x="529" y="218"/>
                      </a:lnTo>
                      <a:lnTo>
                        <a:pt x="538" y="215"/>
                      </a:lnTo>
                      <a:lnTo>
                        <a:pt x="545" y="201"/>
                      </a:lnTo>
                      <a:lnTo>
                        <a:pt x="553" y="198"/>
                      </a:lnTo>
                      <a:lnTo>
                        <a:pt x="564" y="198"/>
                      </a:lnTo>
                      <a:lnTo>
                        <a:pt x="545" y="173"/>
                      </a:lnTo>
                      <a:lnTo>
                        <a:pt x="525" y="179"/>
                      </a:lnTo>
                      <a:lnTo>
                        <a:pt x="512" y="179"/>
                      </a:lnTo>
                      <a:lnTo>
                        <a:pt x="501" y="170"/>
                      </a:lnTo>
                      <a:lnTo>
                        <a:pt x="501" y="187"/>
                      </a:lnTo>
                      <a:lnTo>
                        <a:pt x="490" y="204"/>
                      </a:lnTo>
                      <a:lnTo>
                        <a:pt x="475" y="232"/>
                      </a:lnTo>
                      <a:lnTo>
                        <a:pt x="459" y="243"/>
                      </a:lnTo>
                      <a:lnTo>
                        <a:pt x="448" y="243"/>
                      </a:lnTo>
                      <a:lnTo>
                        <a:pt x="444" y="262"/>
                      </a:lnTo>
                      <a:lnTo>
                        <a:pt x="444" y="271"/>
                      </a:lnTo>
                      <a:lnTo>
                        <a:pt x="435" y="279"/>
                      </a:lnTo>
                      <a:lnTo>
                        <a:pt x="446" y="312"/>
                      </a:lnTo>
                      <a:lnTo>
                        <a:pt x="453" y="329"/>
                      </a:lnTo>
                      <a:lnTo>
                        <a:pt x="440" y="354"/>
                      </a:lnTo>
                      <a:lnTo>
                        <a:pt x="424" y="371"/>
                      </a:lnTo>
                      <a:lnTo>
                        <a:pt x="420" y="396"/>
                      </a:lnTo>
                      <a:lnTo>
                        <a:pt x="411" y="416"/>
                      </a:lnTo>
                      <a:lnTo>
                        <a:pt x="403" y="416"/>
                      </a:lnTo>
                      <a:lnTo>
                        <a:pt x="389" y="418"/>
                      </a:lnTo>
                      <a:lnTo>
                        <a:pt x="376" y="427"/>
                      </a:lnTo>
                      <a:lnTo>
                        <a:pt x="372" y="424"/>
                      </a:lnTo>
                      <a:lnTo>
                        <a:pt x="372" y="410"/>
                      </a:lnTo>
                      <a:lnTo>
                        <a:pt x="370" y="388"/>
                      </a:lnTo>
                      <a:lnTo>
                        <a:pt x="359" y="388"/>
                      </a:lnTo>
                      <a:lnTo>
                        <a:pt x="352" y="374"/>
                      </a:lnTo>
                      <a:lnTo>
                        <a:pt x="354" y="354"/>
                      </a:lnTo>
                      <a:lnTo>
                        <a:pt x="357" y="343"/>
                      </a:lnTo>
                      <a:lnTo>
                        <a:pt x="354" y="338"/>
                      </a:lnTo>
                      <a:lnTo>
                        <a:pt x="346" y="343"/>
                      </a:lnTo>
                      <a:lnTo>
                        <a:pt x="341" y="343"/>
                      </a:lnTo>
                      <a:lnTo>
                        <a:pt x="335" y="340"/>
                      </a:lnTo>
                      <a:lnTo>
                        <a:pt x="330" y="338"/>
                      </a:lnTo>
                      <a:lnTo>
                        <a:pt x="319" y="349"/>
                      </a:lnTo>
                      <a:lnTo>
                        <a:pt x="308" y="363"/>
                      </a:lnTo>
                      <a:lnTo>
                        <a:pt x="298" y="377"/>
                      </a:lnTo>
                      <a:lnTo>
                        <a:pt x="273" y="374"/>
                      </a:lnTo>
                      <a:lnTo>
                        <a:pt x="258" y="371"/>
                      </a:lnTo>
                      <a:lnTo>
                        <a:pt x="247" y="357"/>
                      </a:lnTo>
                      <a:lnTo>
                        <a:pt x="247" y="349"/>
                      </a:lnTo>
                      <a:lnTo>
                        <a:pt x="254" y="338"/>
                      </a:lnTo>
                      <a:lnTo>
                        <a:pt x="263" y="329"/>
                      </a:lnTo>
                      <a:lnTo>
                        <a:pt x="269" y="318"/>
                      </a:lnTo>
                      <a:lnTo>
                        <a:pt x="254" y="324"/>
                      </a:lnTo>
                      <a:lnTo>
                        <a:pt x="247" y="310"/>
                      </a:lnTo>
                      <a:lnTo>
                        <a:pt x="247" y="301"/>
                      </a:lnTo>
                      <a:lnTo>
                        <a:pt x="269" y="298"/>
                      </a:lnTo>
                      <a:lnTo>
                        <a:pt x="289" y="296"/>
                      </a:lnTo>
                      <a:lnTo>
                        <a:pt x="276" y="287"/>
                      </a:lnTo>
                      <a:lnTo>
                        <a:pt x="256" y="290"/>
                      </a:lnTo>
                      <a:lnTo>
                        <a:pt x="256" y="273"/>
                      </a:lnTo>
                      <a:lnTo>
                        <a:pt x="265" y="262"/>
                      </a:lnTo>
                      <a:lnTo>
                        <a:pt x="284" y="251"/>
                      </a:lnTo>
                      <a:lnTo>
                        <a:pt x="291" y="240"/>
                      </a:lnTo>
                      <a:lnTo>
                        <a:pt x="298" y="234"/>
                      </a:lnTo>
                      <a:lnTo>
                        <a:pt x="313" y="232"/>
                      </a:lnTo>
                      <a:lnTo>
                        <a:pt x="326" y="234"/>
                      </a:lnTo>
                      <a:lnTo>
                        <a:pt x="333" y="240"/>
                      </a:lnTo>
                      <a:lnTo>
                        <a:pt x="343" y="232"/>
                      </a:lnTo>
                      <a:lnTo>
                        <a:pt x="333" y="229"/>
                      </a:lnTo>
                      <a:lnTo>
                        <a:pt x="333" y="206"/>
                      </a:lnTo>
                      <a:lnTo>
                        <a:pt x="361" y="181"/>
                      </a:lnTo>
                      <a:lnTo>
                        <a:pt x="376" y="165"/>
                      </a:lnTo>
                      <a:lnTo>
                        <a:pt x="385" y="162"/>
                      </a:lnTo>
                      <a:lnTo>
                        <a:pt x="383" y="153"/>
                      </a:lnTo>
                      <a:lnTo>
                        <a:pt x="396" y="137"/>
                      </a:lnTo>
                      <a:lnTo>
                        <a:pt x="411" y="112"/>
                      </a:lnTo>
                      <a:lnTo>
                        <a:pt x="429" y="100"/>
                      </a:lnTo>
                      <a:lnTo>
                        <a:pt x="416" y="89"/>
                      </a:lnTo>
                      <a:lnTo>
                        <a:pt x="451" y="64"/>
                      </a:lnTo>
                      <a:lnTo>
                        <a:pt x="466" y="67"/>
                      </a:lnTo>
                      <a:lnTo>
                        <a:pt x="464" y="53"/>
                      </a:lnTo>
                      <a:lnTo>
                        <a:pt x="494" y="50"/>
                      </a:lnTo>
                      <a:lnTo>
                        <a:pt x="551" y="6"/>
                      </a:lnTo>
                      <a:lnTo>
                        <a:pt x="560" y="0"/>
                      </a:lnTo>
                      <a:lnTo>
                        <a:pt x="549" y="33"/>
                      </a:lnTo>
                      <a:lnTo>
                        <a:pt x="562" y="17"/>
                      </a:lnTo>
                      <a:lnTo>
                        <a:pt x="578" y="11"/>
                      </a:lnTo>
                      <a:lnTo>
                        <a:pt x="575" y="25"/>
                      </a:lnTo>
                      <a:lnTo>
                        <a:pt x="619" y="8"/>
                      </a:lnTo>
                      <a:lnTo>
                        <a:pt x="639" y="22"/>
                      </a:lnTo>
                      <a:lnTo>
                        <a:pt x="610" y="36"/>
                      </a:lnTo>
                      <a:lnTo>
                        <a:pt x="621" y="53"/>
                      </a:lnTo>
                      <a:lnTo>
                        <a:pt x="663" y="50"/>
                      </a:lnTo>
                      <a:lnTo>
                        <a:pt x="726" y="75"/>
                      </a:lnTo>
                      <a:lnTo>
                        <a:pt x="722" y="103"/>
                      </a:lnTo>
                      <a:lnTo>
                        <a:pt x="696" y="128"/>
                      </a:lnTo>
                      <a:lnTo>
                        <a:pt x="656" y="142"/>
                      </a:lnTo>
                      <a:lnTo>
                        <a:pt x="650" y="170"/>
                      </a:lnTo>
                      <a:lnTo>
                        <a:pt x="652" y="198"/>
                      </a:lnTo>
                      <a:lnTo>
                        <a:pt x="663" y="204"/>
                      </a:lnTo>
                      <a:lnTo>
                        <a:pt x="665" y="218"/>
                      </a:lnTo>
                      <a:lnTo>
                        <a:pt x="669" y="223"/>
                      </a:lnTo>
                      <a:lnTo>
                        <a:pt x="678" y="229"/>
                      </a:lnTo>
                      <a:lnTo>
                        <a:pt x="680" y="245"/>
                      </a:lnTo>
                      <a:lnTo>
                        <a:pt x="693" y="265"/>
                      </a:lnTo>
                      <a:lnTo>
                        <a:pt x="693" y="273"/>
                      </a:lnTo>
                      <a:lnTo>
                        <a:pt x="707" y="273"/>
                      </a:lnTo>
                      <a:lnTo>
                        <a:pt x="711" y="279"/>
                      </a:lnTo>
                      <a:lnTo>
                        <a:pt x="722" y="285"/>
                      </a:lnTo>
                      <a:lnTo>
                        <a:pt x="728" y="276"/>
                      </a:lnTo>
                      <a:lnTo>
                        <a:pt x="735" y="262"/>
                      </a:lnTo>
                      <a:lnTo>
                        <a:pt x="739" y="254"/>
                      </a:lnTo>
                      <a:lnTo>
                        <a:pt x="750" y="259"/>
                      </a:lnTo>
                      <a:lnTo>
                        <a:pt x="763" y="240"/>
                      </a:lnTo>
                      <a:lnTo>
                        <a:pt x="763" y="226"/>
                      </a:lnTo>
                      <a:lnTo>
                        <a:pt x="768" y="215"/>
                      </a:lnTo>
                      <a:lnTo>
                        <a:pt x="770" y="206"/>
                      </a:lnTo>
                      <a:lnTo>
                        <a:pt x="796" y="198"/>
                      </a:lnTo>
                      <a:lnTo>
                        <a:pt x="818" y="190"/>
                      </a:lnTo>
                      <a:lnTo>
                        <a:pt x="847" y="179"/>
                      </a:lnTo>
                      <a:lnTo>
                        <a:pt x="879" y="187"/>
                      </a:lnTo>
                      <a:lnTo>
                        <a:pt x="912" y="187"/>
                      </a:lnTo>
                      <a:lnTo>
                        <a:pt x="967" y="187"/>
                      </a:lnTo>
                      <a:lnTo>
                        <a:pt x="976" y="120"/>
                      </a:lnTo>
                      <a:lnTo>
                        <a:pt x="1006" y="123"/>
                      </a:lnTo>
                      <a:lnTo>
                        <a:pt x="1028" y="173"/>
                      </a:lnTo>
                      <a:lnTo>
                        <a:pt x="1033" y="131"/>
                      </a:lnTo>
                      <a:lnTo>
                        <a:pt x="1133" y="8"/>
                      </a:lnTo>
                      <a:lnTo>
                        <a:pt x="1173" y="8"/>
                      </a:lnTo>
                      <a:lnTo>
                        <a:pt x="1208" y="33"/>
                      </a:lnTo>
                      <a:lnTo>
                        <a:pt x="1253" y="31"/>
                      </a:lnTo>
                      <a:lnTo>
                        <a:pt x="1315" y="75"/>
                      </a:lnTo>
                      <a:lnTo>
                        <a:pt x="1385" y="100"/>
                      </a:lnTo>
                      <a:lnTo>
                        <a:pt x="1435" y="95"/>
                      </a:lnTo>
                      <a:lnTo>
                        <a:pt x="1501" y="123"/>
                      </a:lnTo>
                      <a:lnTo>
                        <a:pt x="1555" y="123"/>
                      </a:lnTo>
                      <a:lnTo>
                        <a:pt x="1582" y="103"/>
                      </a:lnTo>
                      <a:lnTo>
                        <a:pt x="1643" y="103"/>
                      </a:lnTo>
                      <a:lnTo>
                        <a:pt x="1676" y="126"/>
                      </a:lnTo>
                      <a:lnTo>
                        <a:pt x="1759" y="126"/>
                      </a:lnTo>
                      <a:lnTo>
                        <a:pt x="1829" y="162"/>
                      </a:lnTo>
                      <a:lnTo>
                        <a:pt x="1953" y="156"/>
                      </a:lnTo>
                      <a:lnTo>
                        <a:pt x="2157" y="173"/>
                      </a:lnTo>
                      <a:lnTo>
                        <a:pt x="2255" y="226"/>
                      </a:lnTo>
                      <a:lnTo>
                        <a:pt x="2338" y="259"/>
                      </a:lnTo>
                      <a:lnTo>
                        <a:pt x="2391" y="287"/>
                      </a:lnTo>
                      <a:lnTo>
                        <a:pt x="2376" y="296"/>
                      </a:lnTo>
                      <a:lnTo>
                        <a:pt x="2338" y="273"/>
                      </a:lnTo>
                      <a:lnTo>
                        <a:pt x="2253" y="265"/>
                      </a:lnTo>
                      <a:lnTo>
                        <a:pt x="2277" y="287"/>
                      </a:lnTo>
                      <a:lnTo>
                        <a:pt x="2314" y="298"/>
                      </a:lnTo>
                      <a:lnTo>
                        <a:pt x="2303" y="335"/>
                      </a:lnTo>
                      <a:lnTo>
                        <a:pt x="2264" y="357"/>
                      </a:lnTo>
                      <a:lnTo>
                        <a:pt x="2251" y="393"/>
                      </a:lnTo>
                      <a:lnTo>
                        <a:pt x="2303" y="427"/>
                      </a:lnTo>
                      <a:lnTo>
                        <a:pt x="2341" y="471"/>
                      </a:lnTo>
                      <a:lnTo>
                        <a:pt x="2360" y="536"/>
                      </a:lnTo>
                      <a:lnTo>
                        <a:pt x="2336" y="541"/>
                      </a:lnTo>
                      <a:lnTo>
                        <a:pt x="2284" y="522"/>
                      </a:lnTo>
                      <a:lnTo>
                        <a:pt x="2229" y="474"/>
                      </a:lnTo>
                      <a:lnTo>
                        <a:pt x="2207" y="449"/>
                      </a:lnTo>
                      <a:lnTo>
                        <a:pt x="2194" y="416"/>
                      </a:lnTo>
                      <a:lnTo>
                        <a:pt x="2181" y="365"/>
                      </a:lnTo>
                      <a:lnTo>
                        <a:pt x="2159" y="349"/>
                      </a:lnTo>
                      <a:lnTo>
                        <a:pt x="2139" y="346"/>
                      </a:lnTo>
                      <a:lnTo>
                        <a:pt x="2122" y="351"/>
                      </a:lnTo>
                      <a:lnTo>
                        <a:pt x="2142" y="391"/>
                      </a:lnTo>
                      <a:lnTo>
                        <a:pt x="2089" y="396"/>
                      </a:lnTo>
                      <a:lnTo>
                        <a:pt x="2065" y="377"/>
                      </a:lnTo>
                      <a:lnTo>
                        <a:pt x="2019" y="388"/>
                      </a:lnTo>
                      <a:lnTo>
                        <a:pt x="1984" y="418"/>
                      </a:lnTo>
                      <a:lnTo>
                        <a:pt x="1984" y="435"/>
                      </a:lnTo>
                      <a:lnTo>
                        <a:pt x="1997" y="463"/>
                      </a:lnTo>
                      <a:lnTo>
                        <a:pt x="2052" y="471"/>
                      </a:lnTo>
                      <a:lnTo>
                        <a:pt x="2096" y="505"/>
                      </a:lnTo>
                      <a:lnTo>
                        <a:pt x="2170" y="597"/>
                      </a:lnTo>
                      <a:lnTo>
                        <a:pt x="2201" y="658"/>
                      </a:lnTo>
                      <a:lnTo>
                        <a:pt x="2205" y="722"/>
                      </a:lnTo>
                      <a:lnTo>
                        <a:pt x="2198" y="775"/>
                      </a:lnTo>
                      <a:lnTo>
                        <a:pt x="2181" y="775"/>
                      </a:lnTo>
                      <a:lnTo>
                        <a:pt x="2161" y="756"/>
                      </a:lnTo>
                      <a:lnTo>
                        <a:pt x="2133" y="781"/>
                      </a:lnTo>
                      <a:lnTo>
                        <a:pt x="2104" y="803"/>
                      </a:lnTo>
                      <a:lnTo>
                        <a:pt x="2100" y="840"/>
                      </a:lnTo>
                      <a:lnTo>
                        <a:pt x="2131" y="884"/>
                      </a:lnTo>
                      <a:lnTo>
                        <a:pt x="2111" y="920"/>
                      </a:lnTo>
                      <a:lnTo>
                        <a:pt x="2104" y="982"/>
                      </a:lnTo>
                      <a:lnTo>
                        <a:pt x="2142" y="1021"/>
                      </a:lnTo>
                      <a:lnTo>
                        <a:pt x="2183" y="1032"/>
                      </a:lnTo>
                      <a:lnTo>
                        <a:pt x="2227" y="1074"/>
                      </a:lnTo>
                      <a:lnTo>
                        <a:pt x="2264" y="1130"/>
                      </a:lnTo>
                      <a:lnTo>
                        <a:pt x="2266" y="1213"/>
                      </a:lnTo>
                      <a:lnTo>
                        <a:pt x="2253" y="1252"/>
                      </a:lnTo>
                      <a:lnTo>
                        <a:pt x="2214" y="1286"/>
                      </a:lnTo>
                      <a:lnTo>
                        <a:pt x="2166" y="1303"/>
                      </a:lnTo>
                      <a:lnTo>
                        <a:pt x="2135" y="1328"/>
                      </a:lnTo>
                      <a:lnTo>
                        <a:pt x="2118" y="1314"/>
                      </a:lnTo>
                      <a:lnTo>
                        <a:pt x="2102" y="1328"/>
                      </a:lnTo>
                      <a:lnTo>
                        <a:pt x="2098" y="1389"/>
                      </a:lnTo>
                      <a:lnTo>
                        <a:pt x="2109" y="1425"/>
                      </a:lnTo>
                      <a:lnTo>
                        <a:pt x="2157" y="1467"/>
                      </a:lnTo>
                      <a:lnTo>
                        <a:pt x="2177" y="1509"/>
                      </a:lnTo>
                      <a:lnTo>
                        <a:pt x="2192" y="1531"/>
                      </a:lnTo>
                      <a:lnTo>
                        <a:pt x="2188" y="1576"/>
                      </a:lnTo>
                      <a:lnTo>
                        <a:pt x="2157" y="1612"/>
                      </a:lnTo>
                      <a:lnTo>
                        <a:pt x="2124" y="1612"/>
                      </a:lnTo>
                      <a:lnTo>
                        <a:pt x="2072" y="1559"/>
                      </a:lnTo>
                      <a:lnTo>
                        <a:pt x="2034" y="1540"/>
                      </a:lnTo>
                      <a:lnTo>
                        <a:pt x="2019" y="1529"/>
                      </a:lnTo>
                      <a:lnTo>
                        <a:pt x="2004" y="1556"/>
                      </a:lnTo>
                      <a:lnTo>
                        <a:pt x="2008" y="1596"/>
                      </a:lnTo>
                      <a:lnTo>
                        <a:pt x="2021" y="1626"/>
                      </a:lnTo>
                      <a:lnTo>
                        <a:pt x="2030" y="1674"/>
                      </a:lnTo>
                      <a:lnTo>
                        <a:pt x="2063" y="1690"/>
                      </a:lnTo>
                      <a:lnTo>
                        <a:pt x="2052" y="1715"/>
                      </a:lnTo>
                      <a:lnTo>
                        <a:pt x="2054" y="1752"/>
                      </a:lnTo>
                      <a:lnTo>
                        <a:pt x="2065" y="1788"/>
                      </a:lnTo>
                      <a:lnTo>
                        <a:pt x="2043" y="1785"/>
                      </a:lnTo>
                      <a:lnTo>
                        <a:pt x="2019" y="1743"/>
                      </a:lnTo>
                      <a:lnTo>
                        <a:pt x="2021" y="1699"/>
                      </a:lnTo>
                      <a:lnTo>
                        <a:pt x="2013" y="1685"/>
                      </a:lnTo>
                      <a:lnTo>
                        <a:pt x="2004" y="1635"/>
                      </a:lnTo>
                      <a:lnTo>
                        <a:pt x="1993" y="1621"/>
                      </a:lnTo>
                      <a:lnTo>
                        <a:pt x="1988" y="1551"/>
                      </a:lnTo>
                      <a:lnTo>
                        <a:pt x="1973" y="1509"/>
                      </a:lnTo>
                      <a:lnTo>
                        <a:pt x="1947" y="1470"/>
                      </a:lnTo>
                      <a:lnTo>
                        <a:pt x="1899" y="1448"/>
                      </a:lnTo>
                      <a:lnTo>
                        <a:pt x="1866" y="1411"/>
                      </a:lnTo>
                      <a:lnTo>
                        <a:pt x="1853" y="1384"/>
                      </a:lnTo>
                      <a:lnTo>
                        <a:pt x="1829" y="1353"/>
                      </a:lnTo>
                      <a:lnTo>
                        <a:pt x="1792" y="1283"/>
                      </a:lnTo>
                      <a:lnTo>
                        <a:pt x="1759" y="1289"/>
                      </a:lnTo>
                      <a:lnTo>
                        <a:pt x="1715" y="1322"/>
                      </a:lnTo>
                      <a:lnTo>
                        <a:pt x="1695" y="1350"/>
                      </a:lnTo>
                      <a:lnTo>
                        <a:pt x="1656" y="1403"/>
                      </a:lnTo>
                      <a:lnTo>
                        <a:pt x="1628" y="1459"/>
                      </a:lnTo>
                      <a:lnTo>
                        <a:pt x="1617" y="1478"/>
                      </a:lnTo>
                      <a:lnTo>
                        <a:pt x="1628" y="1543"/>
                      </a:lnTo>
                      <a:lnTo>
                        <a:pt x="1625" y="1607"/>
                      </a:lnTo>
                      <a:lnTo>
                        <a:pt x="1590" y="1651"/>
                      </a:lnTo>
                      <a:lnTo>
                        <a:pt x="1571" y="1654"/>
                      </a:lnTo>
                      <a:lnTo>
                        <a:pt x="1529" y="1562"/>
                      </a:lnTo>
                      <a:lnTo>
                        <a:pt x="1496" y="1498"/>
                      </a:lnTo>
                      <a:lnTo>
                        <a:pt x="1431" y="1375"/>
                      </a:lnTo>
                      <a:lnTo>
                        <a:pt x="1428" y="1328"/>
                      </a:lnTo>
                      <a:lnTo>
                        <a:pt x="1413" y="1305"/>
                      </a:lnTo>
                      <a:lnTo>
                        <a:pt x="1402" y="1336"/>
                      </a:lnTo>
                      <a:lnTo>
                        <a:pt x="1345" y="1266"/>
                      </a:lnTo>
                      <a:lnTo>
                        <a:pt x="1269" y="1213"/>
                      </a:lnTo>
                      <a:lnTo>
                        <a:pt x="1221" y="1225"/>
                      </a:lnTo>
                      <a:lnTo>
                        <a:pt x="1151" y="1219"/>
                      </a:lnTo>
                      <a:lnTo>
                        <a:pt x="1118" y="1180"/>
                      </a:lnTo>
                      <a:lnTo>
                        <a:pt x="1081" y="1185"/>
                      </a:lnTo>
                      <a:lnTo>
                        <a:pt x="1028" y="1169"/>
                      </a:lnTo>
                      <a:lnTo>
                        <a:pt x="919" y="1038"/>
                      </a:lnTo>
                      <a:lnTo>
                        <a:pt x="925" y="1091"/>
                      </a:lnTo>
                      <a:lnTo>
                        <a:pt x="958" y="1166"/>
                      </a:lnTo>
                      <a:lnTo>
                        <a:pt x="995" y="1219"/>
                      </a:lnTo>
                      <a:lnTo>
                        <a:pt x="1035" y="1247"/>
                      </a:lnTo>
                      <a:lnTo>
                        <a:pt x="1078" y="1225"/>
                      </a:lnTo>
                      <a:lnTo>
                        <a:pt x="1113" y="1225"/>
                      </a:lnTo>
                      <a:lnTo>
                        <a:pt x="1159" y="1272"/>
                      </a:lnTo>
                      <a:lnTo>
                        <a:pt x="1186" y="1308"/>
                      </a:lnTo>
                      <a:lnTo>
                        <a:pt x="1181" y="1331"/>
                      </a:lnTo>
                      <a:lnTo>
                        <a:pt x="1103" y="1434"/>
                      </a:lnTo>
                      <a:lnTo>
                        <a:pt x="1050" y="1473"/>
                      </a:lnTo>
                      <a:lnTo>
                        <a:pt x="941" y="1523"/>
                      </a:lnTo>
                      <a:lnTo>
                        <a:pt x="908" y="1540"/>
                      </a:lnTo>
                      <a:lnTo>
                        <a:pt x="888" y="1523"/>
                      </a:lnTo>
                      <a:lnTo>
                        <a:pt x="882" y="1503"/>
                      </a:lnTo>
                      <a:lnTo>
                        <a:pt x="879" y="1473"/>
                      </a:lnTo>
                      <a:lnTo>
                        <a:pt x="871" y="1442"/>
                      </a:lnTo>
                      <a:lnTo>
                        <a:pt x="855" y="1417"/>
                      </a:lnTo>
                      <a:lnTo>
                        <a:pt x="842" y="1395"/>
                      </a:lnTo>
                      <a:lnTo>
                        <a:pt x="823" y="1364"/>
                      </a:lnTo>
                      <a:lnTo>
                        <a:pt x="812" y="1344"/>
                      </a:lnTo>
                      <a:lnTo>
                        <a:pt x="803" y="1319"/>
                      </a:lnTo>
                      <a:lnTo>
                        <a:pt x="788" y="1297"/>
                      </a:lnTo>
                      <a:lnTo>
                        <a:pt x="763" y="1241"/>
                      </a:lnTo>
                      <a:lnTo>
                        <a:pt x="750" y="1219"/>
                      </a:lnTo>
                      <a:lnTo>
                        <a:pt x="733" y="1188"/>
                      </a:lnTo>
                      <a:lnTo>
                        <a:pt x="704" y="1146"/>
                      </a:lnTo>
                      <a:lnTo>
                        <a:pt x="689" y="1121"/>
                      </a:lnTo>
                      <a:lnTo>
                        <a:pt x="676" y="1105"/>
                      </a:lnTo>
                      <a:lnTo>
                        <a:pt x="661" y="1068"/>
                      </a:lnTo>
                      <a:lnTo>
                        <a:pt x="707" y="1035"/>
                      </a:lnTo>
                      <a:lnTo>
                        <a:pt x="726" y="962"/>
                      </a:lnTo>
                      <a:lnTo>
                        <a:pt x="683" y="943"/>
                      </a:lnTo>
                      <a:lnTo>
                        <a:pt x="623" y="954"/>
                      </a:lnTo>
                      <a:lnTo>
                        <a:pt x="610" y="946"/>
                      </a:lnTo>
                      <a:lnTo>
                        <a:pt x="604" y="946"/>
                      </a:lnTo>
                      <a:lnTo>
                        <a:pt x="595" y="946"/>
                      </a:lnTo>
                      <a:lnTo>
                        <a:pt x="588" y="946"/>
                      </a:lnTo>
                      <a:lnTo>
                        <a:pt x="586" y="932"/>
                      </a:lnTo>
                      <a:lnTo>
                        <a:pt x="582" y="920"/>
                      </a:lnTo>
                      <a:lnTo>
                        <a:pt x="582" y="898"/>
                      </a:lnTo>
                      <a:lnTo>
                        <a:pt x="571" y="887"/>
                      </a:lnTo>
                      <a:lnTo>
                        <a:pt x="569" y="873"/>
                      </a:lnTo>
                      <a:lnTo>
                        <a:pt x="562" y="870"/>
                      </a:lnTo>
                      <a:lnTo>
                        <a:pt x="556" y="859"/>
                      </a:lnTo>
                      <a:lnTo>
                        <a:pt x="553" y="848"/>
                      </a:lnTo>
                      <a:lnTo>
                        <a:pt x="549" y="837"/>
                      </a:lnTo>
                      <a:lnTo>
                        <a:pt x="545" y="831"/>
                      </a:lnTo>
                      <a:lnTo>
                        <a:pt x="532" y="831"/>
                      </a:lnTo>
                      <a:lnTo>
                        <a:pt x="523" y="831"/>
                      </a:lnTo>
                      <a:lnTo>
                        <a:pt x="518" y="831"/>
                      </a:lnTo>
                      <a:lnTo>
                        <a:pt x="516" y="845"/>
                      </a:lnTo>
                      <a:lnTo>
                        <a:pt x="516" y="859"/>
                      </a:lnTo>
                      <a:lnTo>
                        <a:pt x="516" y="876"/>
                      </a:lnTo>
                      <a:lnTo>
                        <a:pt x="516" y="893"/>
                      </a:lnTo>
                      <a:lnTo>
                        <a:pt x="516" y="904"/>
                      </a:lnTo>
                      <a:lnTo>
                        <a:pt x="505" y="909"/>
                      </a:lnTo>
                      <a:lnTo>
                        <a:pt x="497" y="920"/>
                      </a:lnTo>
                      <a:lnTo>
                        <a:pt x="483" y="904"/>
                      </a:lnTo>
                      <a:lnTo>
                        <a:pt x="475" y="881"/>
                      </a:lnTo>
                      <a:lnTo>
                        <a:pt x="477" y="856"/>
                      </a:lnTo>
                      <a:lnTo>
                        <a:pt x="464" y="823"/>
                      </a:lnTo>
                      <a:lnTo>
                        <a:pt x="457" y="801"/>
                      </a:lnTo>
                      <a:lnTo>
                        <a:pt x="442" y="787"/>
                      </a:lnTo>
                      <a:lnTo>
                        <a:pt x="424" y="773"/>
                      </a:lnTo>
                      <a:lnTo>
                        <a:pt x="416" y="753"/>
                      </a:lnTo>
                      <a:lnTo>
                        <a:pt x="409" y="739"/>
                      </a:lnTo>
                      <a:lnTo>
                        <a:pt x="394" y="736"/>
                      </a:lnTo>
                      <a:lnTo>
                        <a:pt x="389" y="728"/>
                      </a:lnTo>
                      <a:lnTo>
                        <a:pt x="378" y="728"/>
                      </a:lnTo>
                      <a:lnTo>
                        <a:pt x="370" y="742"/>
                      </a:lnTo>
                      <a:lnTo>
                        <a:pt x="361" y="753"/>
                      </a:lnTo>
                      <a:lnTo>
                        <a:pt x="381" y="767"/>
                      </a:lnTo>
                      <a:lnTo>
                        <a:pt x="392" y="787"/>
                      </a:lnTo>
                      <a:lnTo>
                        <a:pt x="411" y="812"/>
                      </a:lnTo>
                      <a:lnTo>
                        <a:pt x="420" y="823"/>
                      </a:lnTo>
                      <a:lnTo>
                        <a:pt x="435" y="831"/>
                      </a:lnTo>
                      <a:lnTo>
                        <a:pt x="446" y="848"/>
                      </a:lnTo>
                      <a:lnTo>
                        <a:pt x="433" y="868"/>
                      </a:lnTo>
                      <a:lnTo>
                        <a:pt x="431" y="859"/>
                      </a:lnTo>
                      <a:lnTo>
                        <a:pt x="431" y="848"/>
                      </a:lnTo>
                      <a:lnTo>
                        <a:pt x="424" y="873"/>
                      </a:lnTo>
                      <a:lnTo>
                        <a:pt x="422" y="895"/>
                      </a:lnTo>
                      <a:lnTo>
                        <a:pt x="409" y="901"/>
                      </a:lnTo>
                      <a:lnTo>
                        <a:pt x="413" y="873"/>
                      </a:lnTo>
                      <a:lnTo>
                        <a:pt x="411" y="859"/>
                      </a:lnTo>
                      <a:lnTo>
                        <a:pt x="396" y="851"/>
                      </a:lnTo>
                      <a:lnTo>
                        <a:pt x="389" y="845"/>
                      </a:lnTo>
                      <a:lnTo>
                        <a:pt x="383" y="834"/>
                      </a:lnTo>
                      <a:lnTo>
                        <a:pt x="370" y="828"/>
                      </a:lnTo>
                      <a:lnTo>
                        <a:pt x="361" y="820"/>
                      </a:lnTo>
                      <a:lnTo>
                        <a:pt x="352" y="803"/>
                      </a:lnTo>
                      <a:lnTo>
                        <a:pt x="341" y="795"/>
                      </a:lnTo>
                      <a:lnTo>
                        <a:pt x="335" y="778"/>
                      </a:lnTo>
                      <a:lnTo>
                        <a:pt x="333" y="764"/>
                      </a:lnTo>
                      <a:lnTo>
                        <a:pt x="324" y="759"/>
                      </a:lnTo>
                      <a:lnTo>
                        <a:pt x="315" y="750"/>
                      </a:lnTo>
                      <a:lnTo>
                        <a:pt x="298" y="750"/>
                      </a:lnTo>
                      <a:lnTo>
                        <a:pt x="282" y="753"/>
                      </a:lnTo>
                      <a:lnTo>
                        <a:pt x="265" y="750"/>
                      </a:lnTo>
                      <a:lnTo>
                        <a:pt x="234" y="753"/>
                      </a:lnTo>
                      <a:lnTo>
                        <a:pt x="212" y="756"/>
                      </a:lnTo>
                      <a:lnTo>
                        <a:pt x="206" y="762"/>
                      </a:lnTo>
                      <a:lnTo>
                        <a:pt x="203" y="778"/>
                      </a:lnTo>
                      <a:lnTo>
                        <a:pt x="203" y="798"/>
                      </a:lnTo>
                      <a:lnTo>
                        <a:pt x="190" y="817"/>
                      </a:lnTo>
                      <a:lnTo>
                        <a:pt x="182" y="826"/>
                      </a:lnTo>
                      <a:lnTo>
                        <a:pt x="177" y="831"/>
                      </a:lnTo>
                      <a:lnTo>
                        <a:pt x="171" y="845"/>
                      </a:lnTo>
                      <a:lnTo>
                        <a:pt x="166" y="856"/>
                      </a:lnTo>
                      <a:lnTo>
                        <a:pt x="173" y="865"/>
                      </a:lnTo>
                      <a:lnTo>
                        <a:pt x="173" y="881"/>
                      </a:lnTo>
                      <a:lnTo>
                        <a:pt x="171" y="890"/>
                      </a:lnTo>
                      <a:lnTo>
                        <a:pt x="166" y="901"/>
                      </a:lnTo>
                      <a:lnTo>
                        <a:pt x="155" y="920"/>
                      </a:lnTo>
                      <a:lnTo>
                        <a:pt x="149" y="912"/>
                      </a:lnTo>
                      <a:lnTo>
                        <a:pt x="142" y="918"/>
                      </a:lnTo>
                      <a:lnTo>
                        <a:pt x="133" y="926"/>
                      </a:lnTo>
                      <a:lnTo>
                        <a:pt x="120" y="929"/>
                      </a:lnTo>
                      <a:lnTo>
                        <a:pt x="107" y="943"/>
                      </a:lnTo>
                      <a:lnTo>
                        <a:pt x="94" y="946"/>
                      </a:lnTo>
                      <a:lnTo>
                        <a:pt x="81" y="946"/>
                      </a:lnTo>
                      <a:lnTo>
                        <a:pt x="68" y="946"/>
                      </a:lnTo>
                      <a:lnTo>
                        <a:pt x="39" y="954"/>
                      </a:lnTo>
                      <a:lnTo>
                        <a:pt x="26" y="954"/>
                      </a:lnTo>
                      <a:lnTo>
                        <a:pt x="20" y="934"/>
                      </a:lnTo>
                      <a:lnTo>
                        <a:pt x="13" y="909"/>
                      </a:lnTo>
                      <a:lnTo>
                        <a:pt x="9" y="887"/>
                      </a:lnTo>
                      <a:lnTo>
                        <a:pt x="7" y="865"/>
                      </a:lnTo>
                      <a:lnTo>
                        <a:pt x="7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" name=""/>
            <p:cNvGrpSpPr/>
            <p:nvPr/>
          </p:nvGrpSpPr>
          <p:grpSpPr>
            <a:xfrm>
              <a:off x="0" y="0"/>
              <a:ext cx="3042720" cy="5256360"/>
              <a:chOff x="0" y="0"/>
              <a:chExt cx="3042720" cy="5256360"/>
            </a:xfrm>
          </p:grpSpPr>
          <p:sp>
            <p:nvSpPr>
              <p:cNvPr id="115" name=""/>
              <p:cNvSpPr/>
              <p:nvPr/>
            </p:nvSpPr>
            <p:spPr>
              <a:xfrm>
                <a:off x="0" y="231840"/>
                <a:ext cx="2058120" cy="2460600"/>
              </a:xfrm>
              <a:custGeom>
                <a:avLst/>
                <a:gdLst/>
                <a:ahLst/>
                <a:rect l="l" t="t" r="r" b="b"/>
                <a:pathLst>
                  <a:path w="1419" h="1550">
                    <a:moveTo>
                      <a:pt x="0" y="398"/>
                    </a:moveTo>
                    <a:lnTo>
                      <a:pt x="68" y="345"/>
                    </a:lnTo>
                    <a:lnTo>
                      <a:pt x="107" y="323"/>
                    </a:lnTo>
                    <a:lnTo>
                      <a:pt x="114" y="290"/>
                    </a:lnTo>
                    <a:lnTo>
                      <a:pt x="83" y="270"/>
                    </a:lnTo>
                    <a:lnTo>
                      <a:pt x="81" y="231"/>
                    </a:lnTo>
                    <a:lnTo>
                      <a:pt x="94" y="220"/>
                    </a:lnTo>
                    <a:lnTo>
                      <a:pt x="92" y="203"/>
                    </a:lnTo>
                    <a:lnTo>
                      <a:pt x="144" y="198"/>
                    </a:lnTo>
                    <a:lnTo>
                      <a:pt x="157" y="167"/>
                    </a:lnTo>
                    <a:lnTo>
                      <a:pt x="159" y="139"/>
                    </a:lnTo>
                    <a:lnTo>
                      <a:pt x="203" y="131"/>
                    </a:lnTo>
                    <a:lnTo>
                      <a:pt x="208" y="103"/>
                    </a:lnTo>
                    <a:lnTo>
                      <a:pt x="166" y="95"/>
                    </a:lnTo>
                    <a:lnTo>
                      <a:pt x="186" y="75"/>
                    </a:lnTo>
                    <a:lnTo>
                      <a:pt x="253" y="75"/>
                    </a:lnTo>
                    <a:lnTo>
                      <a:pt x="273" y="53"/>
                    </a:lnTo>
                    <a:lnTo>
                      <a:pt x="302" y="50"/>
                    </a:lnTo>
                    <a:lnTo>
                      <a:pt x="319" y="33"/>
                    </a:lnTo>
                    <a:lnTo>
                      <a:pt x="341" y="64"/>
                    </a:lnTo>
                    <a:lnTo>
                      <a:pt x="426" y="59"/>
                    </a:lnTo>
                    <a:lnTo>
                      <a:pt x="465" y="92"/>
                    </a:lnTo>
                    <a:lnTo>
                      <a:pt x="592" y="84"/>
                    </a:lnTo>
                    <a:lnTo>
                      <a:pt x="612" y="67"/>
                    </a:lnTo>
                    <a:lnTo>
                      <a:pt x="660" y="95"/>
                    </a:lnTo>
                    <a:lnTo>
                      <a:pt x="710" y="120"/>
                    </a:lnTo>
                    <a:lnTo>
                      <a:pt x="734" y="109"/>
                    </a:lnTo>
                    <a:lnTo>
                      <a:pt x="749" y="95"/>
                    </a:lnTo>
                    <a:lnTo>
                      <a:pt x="791" y="103"/>
                    </a:lnTo>
                    <a:lnTo>
                      <a:pt x="763" y="84"/>
                    </a:lnTo>
                    <a:lnTo>
                      <a:pt x="736" y="86"/>
                    </a:lnTo>
                    <a:lnTo>
                      <a:pt x="697" y="92"/>
                    </a:lnTo>
                    <a:lnTo>
                      <a:pt x="677" y="64"/>
                    </a:lnTo>
                    <a:lnTo>
                      <a:pt x="655" y="50"/>
                    </a:lnTo>
                    <a:lnTo>
                      <a:pt x="655" y="28"/>
                    </a:lnTo>
                    <a:lnTo>
                      <a:pt x="662" y="3"/>
                    </a:lnTo>
                    <a:lnTo>
                      <a:pt x="680" y="0"/>
                    </a:lnTo>
                    <a:lnTo>
                      <a:pt x="704" y="22"/>
                    </a:lnTo>
                    <a:lnTo>
                      <a:pt x="710" y="11"/>
                    </a:lnTo>
                    <a:lnTo>
                      <a:pt x="730" y="0"/>
                    </a:lnTo>
                    <a:lnTo>
                      <a:pt x="754" y="17"/>
                    </a:lnTo>
                    <a:lnTo>
                      <a:pt x="767" y="3"/>
                    </a:lnTo>
                    <a:lnTo>
                      <a:pt x="780" y="25"/>
                    </a:lnTo>
                    <a:lnTo>
                      <a:pt x="782" y="39"/>
                    </a:lnTo>
                    <a:lnTo>
                      <a:pt x="817" y="59"/>
                    </a:lnTo>
                    <a:lnTo>
                      <a:pt x="804" y="75"/>
                    </a:lnTo>
                    <a:lnTo>
                      <a:pt x="804" y="98"/>
                    </a:lnTo>
                    <a:lnTo>
                      <a:pt x="863" y="103"/>
                    </a:lnTo>
                    <a:lnTo>
                      <a:pt x="878" y="75"/>
                    </a:lnTo>
                    <a:lnTo>
                      <a:pt x="867" y="61"/>
                    </a:lnTo>
                    <a:lnTo>
                      <a:pt x="841" y="64"/>
                    </a:lnTo>
                    <a:lnTo>
                      <a:pt x="848" y="33"/>
                    </a:lnTo>
                    <a:lnTo>
                      <a:pt x="900" y="50"/>
                    </a:lnTo>
                    <a:lnTo>
                      <a:pt x="911" y="72"/>
                    </a:lnTo>
                    <a:lnTo>
                      <a:pt x="955" y="72"/>
                    </a:lnTo>
                    <a:lnTo>
                      <a:pt x="994" y="100"/>
                    </a:lnTo>
                    <a:lnTo>
                      <a:pt x="1016" y="95"/>
                    </a:lnTo>
                    <a:lnTo>
                      <a:pt x="1040" y="120"/>
                    </a:lnTo>
                    <a:lnTo>
                      <a:pt x="1016" y="153"/>
                    </a:lnTo>
                    <a:lnTo>
                      <a:pt x="996" y="128"/>
                    </a:lnTo>
                    <a:lnTo>
                      <a:pt x="983" y="137"/>
                    </a:lnTo>
                    <a:lnTo>
                      <a:pt x="966" y="156"/>
                    </a:lnTo>
                    <a:lnTo>
                      <a:pt x="937" y="173"/>
                    </a:lnTo>
                    <a:lnTo>
                      <a:pt x="953" y="198"/>
                    </a:lnTo>
                    <a:lnTo>
                      <a:pt x="926" y="201"/>
                    </a:lnTo>
                    <a:lnTo>
                      <a:pt x="905" y="234"/>
                    </a:lnTo>
                    <a:lnTo>
                      <a:pt x="883" y="276"/>
                    </a:lnTo>
                    <a:lnTo>
                      <a:pt x="915" y="312"/>
                    </a:lnTo>
                    <a:lnTo>
                      <a:pt x="942" y="354"/>
                    </a:lnTo>
                    <a:lnTo>
                      <a:pt x="988" y="359"/>
                    </a:lnTo>
                    <a:lnTo>
                      <a:pt x="1031" y="354"/>
                    </a:lnTo>
                    <a:lnTo>
                      <a:pt x="1051" y="376"/>
                    </a:lnTo>
                    <a:lnTo>
                      <a:pt x="1042" y="387"/>
                    </a:lnTo>
                    <a:lnTo>
                      <a:pt x="1029" y="410"/>
                    </a:lnTo>
                    <a:lnTo>
                      <a:pt x="1049" y="449"/>
                    </a:lnTo>
                    <a:lnTo>
                      <a:pt x="1055" y="476"/>
                    </a:lnTo>
                    <a:lnTo>
                      <a:pt x="1079" y="490"/>
                    </a:lnTo>
                    <a:lnTo>
                      <a:pt x="1112" y="465"/>
                    </a:lnTo>
                    <a:lnTo>
                      <a:pt x="1103" y="429"/>
                    </a:lnTo>
                    <a:lnTo>
                      <a:pt x="1075" y="398"/>
                    </a:lnTo>
                    <a:lnTo>
                      <a:pt x="1108" y="362"/>
                    </a:lnTo>
                    <a:lnTo>
                      <a:pt x="1079" y="301"/>
                    </a:lnTo>
                    <a:lnTo>
                      <a:pt x="1053" y="276"/>
                    </a:lnTo>
                    <a:lnTo>
                      <a:pt x="1075" y="254"/>
                    </a:lnTo>
                    <a:lnTo>
                      <a:pt x="1071" y="220"/>
                    </a:lnTo>
                    <a:lnTo>
                      <a:pt x="1086" y="201"/>
                    </a:lnTo>
                    <a:lnTo>
                      <a:pt x="1112" y="220"/>
                    </a:lnTo>
                    <a:lnTo>
                      <a:pt x="1173" y="293"/>
                    </a:lnTo>
                    <a:lnTo>
                      <a:pt x="1210" y="304"/>
                    </a:lnTo>
                    <a:lnTo>
                      <a:pt x="1221" y="284"/>
                    </a:lnTo>
                    <a:lnTo>
                      <a:pt x="1213" y="245"/>
                    </a:lnTo>
                    <a:lnTo>
                      <a:pt x="1234" y="251"/>
                    </a:lnTo>
                    <a:lnTo>
                      <a:pt x="1272" y="295"/>
                    </a:lnTo>
                    <a:lnTo>
                      <a:pt x="1278" y="320"/>
                    </a:lnTo>
                    <a:lnTo>
                      <a:pt x="1300" y="337"/>
                    </a:lnTo>
                    <a:lnTo>
                      <a:pt x="1344" y="357"/>
                    </a:lnTo>
                    <a:lnTo>
                      <a:pt x="1366" y="393"/>
                    </a:lnTo>
                    <a:lnTo>
                      <a:pt x="1398" y="418"/>
                    </a:lnTo>
                    <a:lnTo>
                      <a:pt x="1416" y="426"/>
                    </a:lnTo>
                    <a:lnTo>
                      <a:pt x="1418" y="449"/>
                    </a:lnTo>
                    <a:lnTo>
                      <a:pt x="1392" y="462"/>
                    </a:lnTo>
                    <a:lnTo>
                      <a:pt x="1376" y="446"/>
                    </a:lnTo>
                    <a:lnTo>
                      <a:pt x="1363" y="449"/>
                    </a:lnTo>
                    <a:lnTo>
                      <a:pt x="1359" y="485"/>
                    </a:lnTo>
                    <a:lnTo>
                      <a:pt x="1337" y="493"/>
                    </a:lnTo>
                    <a:lnTo>
                      <a:pt x="1313" y="474"/>
                    </a:lnTo>
                    <a:lnTo>
                      <a:pt x="1263" y="474"/>
                    </a:lnTo>
                    <a:lnTo>
                      <a:pt x="1256" y="515"/>
                    </a:lnTo>
                    <a:lnTo>
                      <a:pt x="1269" y="540"/>
                    </a:lnTo>
                    <a:lnTo>
                      <a:pt x="1289" y="527"/>
                    </a:lnTo>
                    <a:lnTo>
                      <a:pt x="1309" y="521"/>
                    </a:lnTo>
                    <a:lnTo>
                      <a:pt x="1328" y="535"/>
                    </a:lnTo>
                    <a:lnTo>
                      <a:pt x="1302" y="566"/>
                    </a:lnTo>
                    <a:lnTo>
                      <a:pt x="1328" y="593"/>
                    </a:lnTo>
                    <a:lnTo>
                      <a:pt x="1363" y="602"/>
                    </a:lnTo>
                    <a:lnTo>
                      <a:pt x="1359" y="618"/>
                    </a:lnTo>
                    <a:lnTo>
                      <a:pt x="1346" y="621"/>
                    </a:lnTo>
                    <a:lnTo>
                      <a:pt x="1313" y="716"/>
                    </a:lnTo>
                    <a:lnTo>
                      <a:pt x="1315" y="655"/>
                    </a:lnTo>
                    <a:lnTo>
                      <a:pt x="1331" y="624"/>
                    </a:lnTo>
                    <a:lnTo>
                      <a:pt x="1313" y="610"/>
                    </a:lnTo>
                    <a:lnTo>
                      <a:pt x="1293" y="630"/>
                    </a:lnTo>
                    <a:lnTo>
                      <a:pt x="1304" y="646"/>
                    </a:lnTo>
                    <a:lnTo>
                      <a:pt x="1289" y="657"/>
                    </a:lnTo>
                    <a:lnTo>
                      <a:pt x="1274" y="671"/>
                    </a:lnTo>
                    <a:lnTo>
                      <a:pt x="1276" y="713"/>
                    </a:lnTo>
                    <a:lnTo>
                      <a:pt x="1254" y="727"/>
                    </a:lnTo>
                    <a:lnTo>
                      <a:pt x="1224" y="730"/>
                    </a:lnTo>
                    <a:lnTo>
                      <a:pt x="1234" y="752"/>
                    </a:lnTo>
                    <a:lnTo>
                      <a:pt x="1224" y="777"/>
                    </a:lnTo>
                    <a:lnTo>
                      <a:pt x="1234" y="797"/>
                    </a:lnTo>
                    <a:lnTo>
                      <a:pt x="1217" y="839"/>
                    </a:lnTo>
                    <a:lnTo>
                      <a:pt x="1210" y="878"/>
                    </a:lnTo>
                    <a:lnTo>
                      <a:pt x="1184" y="900"/>
                    </a:lnTo>
                    <a:lnTo>
                      <a:pt x="1151" y="961"/>
                    </a:lnTo>
                    <a:lnTo>
                      <a:pt x="1147" y="1003"/>
                    </a:lnTo>
                    <a:lnTo>
                      <a:pt x="1158" y="1036"/>
                    </a:lnTo>
                    <a:lnTo>
                      <a:pt x="1173" y="1078"/>
                    </a:lnTo>
                    <a:lnTo>
                      <a:pt x="1182" y="1123"/>
                    </a:lnTo>
                    <a:lnTo>
                      <a:pt x="1167" y="1142"/>
                    </a:lnTo>
                    <a:lnTo>
                      <a:pt x="1147" y="1128"/>
                    </a:lnTo>
                    <a:lnTo>
                      <a:pt x="1151" y="1106"/>
                    </a:lnTo>
                    <a:lnTo>
                      <a:pt x="1141" y="1056"/>
                    </a:lnTo>
                    <a:lnTo>
                      <a:pt x="1127" y="1048"/>
                    </a:lnTo>
                    <a:lnTo>
                      <a:pt x="1119" y="1017"/>
                    </a:lnTo>
                    <a:lnTo>
                      <a:pt x="1101" y="1017"/>
                    </a:lnTo>
                    <a:lnTo>
                      <a:pt x="1082" y="1000"/>
                    </a:lnTo>
                    <a:lnTo>
                      <a:pt x="1060" y="1006"/>
                    </a:lnTo>
                    <a:lnTo>
                      <a:pt x="1040" y="995"/>
                    </a:lnTo>
                    <a:lnTo>
                      <a:pt x="1016" y="1009"/>
                    </a:lnTo>
                    <a:lnTo>
                      <a:pt x="972" y="997"/>
                    </a:lnTo>
                    <a:lnTo>
                      <a:pt x="1001" y="1034"/>
                    </a:lnTo>
                    <a:lnTo>
                      <a:pt x="966" y="1031"/>
                    </a:lnTo>
                    <a:lnTo>
                      <a:pt x="942" y="1003"/>
                    </a:lnTo>
                    <a:lnTo>
                      <a:pt x="898" y="1003"/>
                    </a:lnTo>
                    <a:lnTo>
                      <a:pt x="905" y="1048"/>
                    </a:lnTo>
                    <a:lnTo>
                      <a:pt x="872" y="1034"/>
                    </a:lnTo>
                    <a:lnTo>
                      <a:pt x="854" y="1078"/>
                    </a:lnTo>
                    <a:lnTo>
                      <a:pt x="867" y="1098"/>
                    </a:lnTo>
                    <a:lnTo>
                      <a:pt x="854" y="1151"/>
                    </a:lnTo>
                    <a:lnTo>
                      <a:pt x="870" y="1212"/>
                    </a:lnTo>
                    <a:lnTo>
                      <a:pt x="887" y="1254"/>
                    </a:lnTo>
                    <a:lnTo>
                      <a:pt x="907" y="1293"/>
                    </a:lnTo>
                    <a:lnTo>
                      <a:pt x="966" y="1290"/>
                    </a:lnTo>
                    <a:lnTo>
                      <a:pt x="990" y="1282"/>
                    </a:lnTo>
                    <a:lnTo>
                      <a:pt x="994" y="1254"/>
                    </a:lnTo>
                    <a:lnTo>
                      <a:pt x="981" y="1231"/>
                    </a:lnTo>
                    <a:lnTo>
                      <a:pt x="983" y="1212"/>
                    </a:lnTo>
                    <a:lnTo>
                      <a:pt x="1020" y="1217"/>
                    </a:lnTo>
                    <a:lnTo>
                      <a:pt x="1057" y="1206"/>
                    </a:lnTo>
                    <a:lnTo>
                      <a:pt x="1057" y="1231"/>
                    </a:lnTo>
                    <a:lnTo>
                      <a:pt x="1047" y="1268"/>
                    </a:lnTo>
                    <a:lnTo>
                      <a:pt x="1029" y="1295"/>
                    </a:lnTo>
                    <a:lnTo>
                      <a:pt x="1025" y="1334"/>
                    </a:lnTo>
                    <a:lnTo>
                      <a:pt x="1049" y="1351"/>
                    </a:lnTo>
                    <a:lnTo>
                      <a:pt x="1082" y="1346"/>
                    </a:lnTo>
                    <a:lnTo>
                      <a:pt x="1101" y="1360"/>
                    </a:lnTo>
                    <a:lnTo>
                      <a:pt x="1119" y="1354"/>
                    </a:lnTo>
                    <a:lnTo>
                      <a:pt x="1125" y="1379"/>
                    </a:lnTo>
                    <a:lnTo>
                      <a:pt x="1110" y="1415"/>
                    </a:lnTo>
                    <a:lnTo>
                      <a:pt x="1123" y="1438"/>
                    </a:lnTo>
                    <a:lnTo>
                      <a:pt x="1125" y="1482"/>
                    </a:lnTo>
                    <a:lnTo>
                      <a:pt x="1147" y="1513"/>
                    </a:lnTo>
                    <a:lnTo>
                      <a:pt x="1175" y="1521"/>
                    </a:lnTo>
                    <a:lnTo>
                      <a:pt x="1195" y="1513"/>
                    </a:lnTo>
                    <a:lnTo>
                      <a:pt x="1204" y="1516"/>
                    </a:lnTo>
                    <a:lnTo>
                      <a:pt x="1241" y="1516"/>
                    </a:lnTo>
                    <a:lnTo>
                      <a:pt x="1274" y="1518"/>
                    </a:lnTo>
                    <a:lnTo>
                      <a:pt x="1283" y="1499"/>
                    </a:lnTo>
                    <a:lnTo>
                      <a:pt x="1254" y="1532"/>
                    </a:lnTo>
                    <a:lnTo>
                      <a:pt x="1234" y="1529"/>
                    </a:lnTo>
                    <a:lnTo>
                      <a:pt x="1215" y="1532"/>
                    </a:lnTo>
                    <a:lnTo>
                      <a:pt x="1175" y="1549"/>
                    </a:lnTo>
                    <a:lnTo>
                      <a:pt x="1143" y="1527"/>
                    </a:lnTo>
                    <a:lnTo>
                      <a:pt x="1112" y="1513"/>
                    </a:lnTo>
                    <a:lnTo>
                      <a:pt x="1099" y="1516"/>
                    </a:lnTo>
                    <a:lnTo>
                      <a:pt x="1101" y="1496"/>
                    </a:lnTo>
                    <a:lnTo>
                      <a:pt x="1099" y="1465"/>
                    </a:lnTo>
                    <a:lnTo>
                      <a:pt x="1073" y="1438"/>
                    </a:lnTo>
                    <a:lnTo>
                      <a:pt x="1018" y="1421"/>
                    </a:lnTo>
                    <a:lnTo>
                      <a:pt x="1009" y="1410"/>
                    </a:lnTo>
                    <a:lnTo>
                      <a:pt x="994" y="1412"/>
                    </a:lnTo>
                    <a:lnTo>
                      <a:pt x="979" y="1399"/>
                    </a:lnTo>
                    <a:lnTo>
                      <a:pt x="959" y="1385"/>
                    </a:lnTo>
                    <a:lnTo>
                      <a:pt x="933" y="1346"/>
                    </a:lnTo>
                    <a:lnTo>
                      <a:pt x="902" y="1334"/>
                    </a:lnTo>
                    <a:lnTo>
                      <a:pt x="885" y="1360"/>
                    </a:lnTo>
                    <a:lnTo>
                      <a:pt x="865" y="1340"/>
                    </a:lnTo>
                    <a:lnTo>
                      <a:pt x="841" y="1340"/>
                    </a:lnTo>
                    <a:lnTo>
                      <a:pt x="793" y="1326"/>
                    </a:lnTo>
                    <a:lnTo>
                      <a:pt x="706" y="1259"/>
                    </a:lnTo>
                    <a:lnTo>
                      <a:pt x="699" y="1190"/>
                    </a:lnTo>
                    <a:lnTo>
                      <a:pt x="690" y="1162"/>
                    </a:lnTo>
                    <a:lnTo>
                      <a:pt x="675" y="1142"/>
                    </a:lnTo>
                    <a:lnTo>
                      <a:pt x="655" y="1103"/>
                    </a:lnTo>
                    <a:lnTo>
                      <a:pt x="564" y="970"/>
                    </a:lnTo>
                    <a:lnTo>
                      <a:pt x="564" y="1020"/>
                    </a:lnTo>
                    <a:lnTo>
                      <a:pt x="621" y="1109"/>
                    </a:lnTo>
                    <a:lnTo>
                      <a:pt x="645" y="1184"/>
                    </a:lnTo>
                    <a:lnTo>
                      <a:pt x="610" y="1167"/>
                    </a:lnTo>
                    <a:lnTo>
                      <a:pt x="603" y="1123"/>
                    </a:lnTo>
                    <a:lnTo>
                      <a:pt x="557" y="1095"/>
                    </a:lnTo>
                    <a:lnTo>
                      <a:pt x="583" y="1078"/>
                    </a:lnTo>
                    <a:lnTo>
                      <a:pt x="522" y="1031"/>
                    </a:lnTo>
                    <a:lnTo>
                      <a:pt x="546" y="1003"/>
                    </a:lnTo>
                    <a:lnTo>
                      <a:pt x="524" y="947"/>
                    </a:lnTo>
                    <a:lnTo>
                      <a:pt x="450" y="830"/>
                    </a:lnTo>
                    <a:lnTo>
                      <a:pt x="441" y="763"/>
                    </a:lnTo>
                    <a:lnTo>
                      <a:pt x="446" y="713"/>
                    </a:lnTo>
                    <a:lnTo>
                      <a:pt x="465" y="657"/>
                    </a:lnTo>
                    <a:lnTo>
                      <a:pt x="465" y="602"/>
                    </a:lnTo>
                    <a:lnTo>
                      <a:pt x="450" y="568"/>
                    </a:lnTo>
                    <a:lnTo>
                      <a:pt x="492" y="557"/>
                    </a:lnTo>
                    <a:lnTo>
                      <a:pt x="441" y="490"/>
                    </a:lnTo>
                    <a:lnTo>
                      <a:pt x="444" y="460"/>
                    </a:lnTo>
                    <a:lnTo>
                      <a:pt x="422" y="418"/>
                    </a:lnTo>
                    <a:lnTo>
                      <a:pt x="430" y="393"/>
                    </a:lnTo>
                    <a:lnTo>
                      <a:pt x="415" y="379"/>
                    </a:lnTo>
                    <a:lnTo>
                      <a:pt x="413" y="351"/>
                    </a:lnTo>
                    <a:lnTo>
                      <a:pt x="398" y="329"/>
                    </a:lnTo>
                    <a:lnTo>
                      <a:pt x="415" y="309"/>
                    </a:lnTo>
                    <a:lnTo>
                      <a:pt x="391" y="295"/>
                    </a:lnTo>
                    <a:lnTo>
                      <a:pt x="371" y="315"/>
                    </a:lnTo>
                    <a:lnTo>
                      <a:pt x="343" y="276"/>
                    </a:lnTo>
                    <a:lnTo>
                      <a:pt x="312" y="265"/>
                    </a:lnTo>
                    <a:lnTo>
                      <a:pt x="269" y="265"/>
                    </a:lnTo>
                    <a:lnTo>
                      <a:pt x="240" y="301"/>
                    </a:lnTo>
                    <a:lnTo>
                      <a:pt x="227" y="290"/>
                    </a:lnTo>
                    <a:lnTo>
                      <a:pt x="251" y="242"/>
                    </a:lnTo>
                    <a:lnTo>
                      <a:pt x="229" y="251"/>
                    </a:lnTo>
                    <a:lnTo>
                      <a:pt x="186" y="301"/>
                    </a:lnTo>
                    <a:lnTo>
                      <a:pt x="140" y="345"/>
                    </a:lnTo>
                    <a:lnTo>
                      <a:pt x="98" y="357"/>
                    </a:lnTo>
                    <a:lnTo>
                      <a:pt x="28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470600" y="0"/>
                <a:ext cx="700560" cy="647640"/>
              </a:xfrm>
              <a:custGeom>
                <a:avLst/>
                <a:gdLst/>
                <a:ahLst/>
                <a:rect l="l" t="t" r="r" b="b"/>
                <a:pathLst>
                  <a:path w="483" h="408">
                    <a:moveTo>
                      <a:pt x="0" y="84"/>
                    </a:moveTo>
                    <a:lnTo>
                      <a:pt x="11" y="53"/>
                    </a:lnTo>
                    <a:lnTo>
                      <a:pt x="11" y="31"/>
                    </a:lnTo>
                    <a:lnTo>
                      <a:pt x="28" y="0"/>
                    </a:lnTo>
                    <a:lnTo>
                      <a:pt x="116" y="20"/>
                    </a:lnTo>
                    <a:lnTo>
                      <a:pt x="266" y="56"/>
                    </a:lnTo>
                    <a:lnTo>
                      <a:pt x="325" y="86"/>
                    </a:lnTo>
                    <a:lnTo>
                      <a:pt x="403" y="114"/>
                    </a:lnTo>
                    <a:lnTo>
                      <a:pt x="443" y="167"/>
                    </a:lnTo>
                    <a:lnTo>
                      <a:pt x="482" y="192"/>
                    </a:lnTo>
                    <a:lnTo>
                      <a:pt x="467" y="212"/>
                    </a:lnTo>
                    <a:lnTo>
                      <a:pt x="467" y="237"/>
                    </a:lnTo>
                    <a:lnTo>
                      <a:pt x="451" y="243"/>
                    </a:lnTo>
                    <a:lnTo>
                      <a:pt x="438" y="265"/>
                    </a:lnTo>
                    <a:lnTo>
                      <a:pt x="451" y="287"/>
                    </a:lnTo>
                    <a:lnTo>
                      <a:pt x="449" y="304"/>
                    </a:lnTo>
                    <a:lnTo>
                      <a:pt x="434" y="326"/>
                    </a:lnTo>
                    <a:lnTo>
                      <a:pt x="436" y="348"/>
                    </a:lnTo>
                    <a:lnTo>
                      <a:pt x="462" y="371"/>
                    </a:lnTo>
                    <a:lnTo>
                      <a:pt x="465" y="393"/>
                    </a:lnTo>
                    <a:lnTo>
                      <a:pt x="458" y="404"/>
                    </a:lnTo>
                    <a:lnTo>
                      <a:pt x="432" y="407"/>
                    </a:lnTo>
                    <a:lnTo>
                      <a:pt x="412" y="396"/>
                    </a:lnTo>
                    <a:lnTo>
                      <a:pt x="390" y="368"/>
                    </a:lnTo>
                    <a:lnTo>
                      <a:pt x="382" y="368"/>
                    </a:lnTo>
                    <a:lnTo>
                      <a:pt x="371" y="357"/>
                    </a:lnTo>
                    <a:lnTo>
                      <a:pt x="360" y="323"/>
                    </a:lnTo>
                    <a:lnTo>
                      <a:pt x="347" y="312"/>
                    </a:lnTo>
                    <a:lnTo>
                      <a:pt x="318" y="295"/>
                    </a:lnTo>
                    <a:lnTo>
                      <a:pt x="294" y="284"/>
                    </a:lnTo>
                    <a:lnTo>
                      <a:pt x="260" y="254"/>
                    </a:lnTo>
                    <a:lnTo>
                      <a:pt x="244" y="231"/>
                    </a:lnTo>
                    <a:lnTo>
                      <a:pt x="246" y="215"/>
                    </a:lnTo>
                    <a:lnTo>
                      <a:pt x="262" y="201"/>
                    </a:lnTo>
                    <a:lnTo>
                      <a:pt x="249" y="184"/>
                    </a:lnTo>
                    <a:lnTo>
                      <a:pt x="236" y="192"/>
                    </a:lnTo>
                    <a:lnTo>
                      <a:pt x="214" y="167"/>
                    </a:lnTo>
                    <a:lnTo>
                      <a:pt x="209" y="181"/>
                    </a:lnTo>
                    <a:lnTo>
                      <a:pt x="190" y="181"/>
                    </a:lnTo>
                    <a:lnTo>
                      <a:pt x="185" y="170"/>
                    </a:lnTo>
                    <a:lnTo>
                      <a:pt x="185" y="151"/>
                    </a:lnTo>
                    <a:lnTo>
                      <a:pt x="177" y="139"/>
                    </a:lnTo>
                    <a:lnTo>
                      <a:pt x="164" y="142"/>
                    </a:lnTo>
                    <a:lnTo>
                      <a:pt x="146" y="112"/>
                    </a:lnTo>
                    <a:lnTo>
                      <a:pt x="133" y="109"/>
                    </a:lnTo>
                    <a:lnTo>
                      <a:pt x="113" y="95"/>
                    </a:lnTo>
                    <a:lnTo>
                      <a:pt x="72" y="98"/>
                    </a:lnTo>
                    <a:lnTo>
                      <a:pt x="31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31280" y="227160"/>
                <a:ext cx="446400" cy="333360"/>
              </a:xfrm>
              <a:custGeom>
                <a:avLst/>
                <a:gdLst/>
                <a:ahLst/>
                <a:rect l="l" t="t" r="r" b="b"/>
                <a:pathLst>
                  <a:path w="308" h="210">
                    <a:moveTo>
                      <a:pt x="11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22" y="56"/>
                    </a:lnTo>
                    <a:lnTo>
                      <a:pt x="35" y="50"/>
                    </a:lnTo>
                    <a:lnTo>
                      <a:pt x="39" y="59"/>
                    </a:lnTo>
                    <a:lnTo>
                      <a:pt x="52" y="61"/>
                    </a:lnTo>
                    <a:lnTo>
                      <a:pt x="61" y="47"/>
                    </a:lnTo>
                    <a:lnTo>
                      <a:pt x="91" y="50"/>
                    </a:lnTo>
                    <a:lnTo>
                      <a:pt x="95" y="64"/>
                    </a:lnTo>
                    <a:lnTo>
                      <a:pt x="106" y="70"/>
                    </a:lnTo>
                    <a:lnTo>
                      <a:pt x="132" y="67"/>
                    </a:lnTo>
                    <a:lnTo>
                      <a:pt x="141" y="75"/>
                    </a:lnTo>
                    <a:lnTo>
                      <a:pt x="154" y="84"/>
                    </a:lnTo>
                    <a:lnTo>
                      <a:pt x="164" y="100"/>
                    </a:lnTo>
                    <a:lnTo>
                      <a:pt x="164" y="123"/>
                    </a:lnTo>
                    <a:lnTo>
                      <a:pt x="156" y="128"/>
                    </a:lnTo>
                    <a:lnTo>
                      <a:pt x="160" y="137"/>
                    </a:lnTo>
                    <a:lnTo>
                      <a:pt x="147" y="150"/>
                    </a:lnTo>
                    <a:lnTo>
                      <a:pt x="147" y="170"/>
                    </a:lnTo>
                    <a:lnTo>
                      <a:pt x="166" y="173"/>
                    </a:lnTo>
                    <a:lnTo>
                      <a:pt x="177" y="167"/>
                    </a:lnTo>
                    <a:lnTo>
                      <a:pt x="182" y="159"/>
                    </a:lnTo>
                    <a:lnTo>
                      <a:pt x="188" y="167"/>
                    </a:lnTo>
                    <a:lnTo>
                      <a:pt x="199" y="162"/>
                    </a:lnTo>
                    <a:lnTo>
                      <a:pt x="223" y="173"/>
                    </a:lnTo>
                    <a:lnTo>
                      <a:pt x="238" y="192"/>
                    </a:lnTo>
                    <a:lnTo>
                      <a:pt x="242" y="192"/>
                    </a:lnTo>
                    <a:lnTo>
                      <a:pt x="244" y="203"/>
                    </a:lnTo>
                    <a:lnTo>
                      <a:pt x="259" y="209"/>
                    </a:lnTo>
                    <a:lnTo>
                      <a:pt x="277" y="209"/>
                    </a:lnTo>
                    <a:lnTo>
                      <a:pt x="266" y="198"/>
                    </a:lnTo>
                    <a:lnTo>
                      <a:pt x="270" y="187"/>
                    </a:lnTo>
                    <a:lnTo>
                      <a:pt x="283" y="198"/>
                    </a:lnTo>
                    <a:lnTo>
                      <a:pt x="298" y="201"/>
                    </a:lnTo>
                    <a:lnTo>
                      <a:pt x="301" y="184"/>
                    </a:lnTo>
                    <a:lnTo>
                      <a:pt x="285" y="170"/>
                    </a:lnTo>
                    <a:lnTo>
                      <a:pt x="275" y="170"/>
                    </a:lnTo>
                    <a:lnTo>
                      <a:pt x="259" y="156"/>
                    </a:lnTo>
                    <a:lnTo>
                      <a:pt x="275" y="156"/>
                    </a:lnTo>
                    <a:lnTo>
                      <a:pt x="285" y="164"/>
                    </a:lnTo>
                    <a:lnTo>
                      <a:pt x="307" y="164"/>
                    </a:lnTo>
                    <a:lnTo>
                      <a:pt x="303" y="148"/>
                    </a:lnTo>
                    <a:lnTo>
                      <a:pt x="283" y="131"/>
                    </a:lnTo>
                    <a:lnTo>
                      <a:pt x="270" y="128"/>
                    </a:lnTo>
                    <a:lnTo>
                      <a:pt x="251" y="109"/>
                    </a:lnTo>
                    <a:lnTo>
                      <a:pt x="227" y="103"/>
                    </a:lnTo>
                    <a:lnTo>
                      <a:pt x="208" y="95"/>
                    </a:lnTo>
                    <a:lnTo>
                      <a:pt x="192" y="70"/>
                    </a:lnTo>
                    <a:lnTo>
                      <a:pt x="182" y="39"/>
                    </a:lnTo>
                    <a:lnTo>
                      <a:pt x="166" y="39"/>
                    </a:lnTo>
                    <a:lnTo>
                      <a:pt x="162" y="31"/>
                    </a:lnTo>
                    <a:lnTo>
                      <a:pt x="154" y="33"/>
                    </a:lnTo>
                    <a:lnTo>
                      <a:pt x="138" y="20"/>
                    </a:lnTo>
                    <a:lnTo>
                      <a:pt x="112" y="14"/>
                    </a:lnTo>
                    <a:lnTo>
                      <a:pt x="102" y="22"/>
                    </a:lnTo>
                    <a:lnTo>
                      <a:pt x="78" y="14"/>
                    </a:lnTo>
                    <a:lnTo>
                      <a:pt x="63" y="14"/>
                    </a:lnTo>
                    <a:lnTo>
                      <a:pt x="56" y="3"/>
                    </a:lnTo>
                    <a:lnTo>
                      <a:pt x="50" y="0"/>
                    </a:lnTo>
                    <a:lnTo>
                      <a:pt x="39" y="3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585080" y="2079720"/>
                <a:ext cx="317520" cy="155520"/>
              </a:xfrm>
              <a:custGeom>
                <a:avLst/>
                <a:gdLst/>
                <a:ahLst/>
                <a:rect l="l" t="t" r="r" b="b"/>
                <a:pathLst>
                  <a:path w="219" h="98">
                    <a:moveTo>
                      <a:pt x="0" y="49"/>
                    </a:moveTo>
                    <a:lnTo>
                      <a:pt x="19" y="20"/>
                    </a:lnTo>
                    <a:lnTo>
                      <a:pt x="28" y="20"/>
                    </a:lnTo>
                    <a:lnTo>
                      <a:pt x="43" y="6"/>
                    </a:lnTo>
                    <a:lnTo>
                      <a:pt x="60" y="6"/>
                    </a:lnTo>
                    <a:lnTo>
                      <a:pt x="65" y="3"/>
                    </a:lnTo>
                    <a:lnTo>
                      <a:pt x="71" y="0"/>
                    </a:lnTo>
                    <a:lnTo>
                      <a:pt x="93" y="17"/>
                    </a:lnTo>
                    <a:lnTo>
                      <a:pt x="99" y="29"/>
                    </a:lnTo>
                    <a:lnTo>
                      <a:pt x="104" y="23"/>
                    </a:lnTo>
                    <a:lnTo>
                      <a:pt x="121" y="34"/>
                    </a:lnTo>
                    <a:lnTo>
                      <a:pt x="132" y="34"/>
                    </a:lnTo>
                    <a:lnTo>
                      <a:pt x="140" y="43"/>
                    </a:lnTo>
                    <a:lnTo>
                      <a:pt x="155" y="49"/>
                    </a:lnTo>
                    <a:lnTo>
                      <a:pt x="155" y="63"/>
                    </a:lnTo>
                    <a:lnTo>
                      <a:pt x="183" y="63"/>
                    </a:lnTo>
                    <a:lnTo>
                      <a:pt x="190" y="77"/>
                    </a:lnTo>
                    <a:lnTo>
                      <a:pt x="207" y="77"/>
                    </a:lnTo>
                    <a:lnTo>
                      <a:pt x="218" y="94"/>
                    </a:lnTo>
                    <a:lnTo>
                      <a:pt x="212" y="97"/>
                    </a:lnTo>
                    <a:lnTo>
                      <a:pt x="207" y="91"/>
                    </a:lnTo>
                    <a:lnTo>
                      <a:pt x="205" y="88"/>
                    </a:lnTo>
                    <a:lnTo>
                      <a:pt x="190" y="91"/>
                    </a:lnTo>
                    <a:lnTo>
                      <a:pt x="186" y="94"/>
                    </a:lnTo>
                    <a:lnTo>
                      <a:pt x="173" y="97"/>
                    </a:lnTo>
                    <a:lnTo>
                      <a:pt x="153" y="97"/>
                    </a:lnTo>
                    <a:lnTo>
                      <a:pt x="140" y="97"/>
                    </a:lnTo>
                    <a:lnTo>
                      <a:pt x="140" y="88"/>
                    </a:lnTo>
                    <a:lnTo>
                      <a:pt x="121" y="66"/>
                    </a:lnTo>
                    <a:lnTo>
                      <a:pt x="121" y="51"/>
                    </a:lnTo>
                    <a:lnTo>
                      <a:pt x="99" y="51"/>
                    </a:lnTo>
                    <a:lnTo>
                      <a:pt x="91" y="43"/>
                    </a:lnTo>
                    <a:lnTo>
                      <a:pt x="84" y="51"/>
                    </a:lnTo>
                    <a:lnTo>
                      <a:pt x="78" y="40"/>
                    </a:lnTo>
                    <a:lnTo>
                      <a:pt x="71" y="40"/>
                    </a:lnTo>
                    <a:lnTo>
                      <a:pt x="71" y="26"/>
                    </a:lnTo>
                    <a:lnTo>
                      <a:pt x="65" y="20"/>
                    </a:lnTo>
                    <a:lnTo>
                      <a:pt x="45" y="23"/>
                    </a:lnTo>
                    <a:lnTo>
                      <a:pt x="32" y="40"/>
                    </a:lnTo>
                    <a:lnTo>
                      <a:pt x="17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862280" y="2190600"/>
                <a:ext cx="209880" cy="131760"/>
              </a:xfrm>
              <a:custGeom>
                <a:avLst/>
                <a:gdLst/>
                <a:ahLst/>
                <a:rect l="l" t="t" r="r" b="b"/>
                <a:pathLst>
                  <a:path w="145" h="83">
                    <a:moveTo>
                      <a:pt x="0" y="62"/>
                    </a:moveTo>
                    <a:lnTo>
                      <a:pt x="14" y="65"/>
                    </a:lnTo>
                    <a:lnTo>
                      <a:pt x="45" y="62"/>
                    </a:lnTo>
                    <a:lnTo>
                      <a:pt x="59" y="79"/>
                    </a:lnTo>
                    <a:lnTo>
                      <a:pt x="77" y="82"/>
                    </a:lnTo>
                    <a:lnTo>
                      <a:pt x="86" y="62"/>
                    </a:lnTo>
                    <a:lnTo>
                      <a:pt x="81" y="57"/>
                    </a:lnTo>
                    <a:lnTo>
                      <a:pt x="90" y="48"/>
                    </a:lnTo>
                    <a:lnTo>
                      <a:pt x="108" y="62"/>
                    </a:lnTo>
                    <a:lnTo>
                      <a:pt x="122" y="62"/>
                    </a:lnTo>
                    <a:lnTo>
                      <a:pt x="122" y="54"/>
                    </a:lnTo>
                    <a:lnTo>
                      <a:pt x="131" y="54"/>
                    </a:lnTo>
                    <a:lnTo>
                      <a:pt x="144" y="40"/>
                    </a:lnTo>
                    <a:lnTo>
                      <a:pt x="135" y="37"/>
                    </a:lnTo>
                    <a:lnTo>
                      <a:pt x="135" y="23"/>
                    </a:lnTo>
                    <a:lnTo>
                      <a:pt x="135" y="11"/>
                    </a:lnTo>
                    <a:lnTo>
                      <a:pt x="115" y="8"/>
                    </a:lnTo>
                    <a:lnTo>
                      <a:pt x="99" y="11"/>
                    </a:lnTo>
                    <a:lnTo>
                      <a:pt x="86" y="11"/>
                    </a:lnTo>
                    <a:lnTo>
                      <a:pt x="65" y="8"/>
                    </a:lnTo>
                    <a:lnTo>
                      <a:pt x="50" y="0"/>
                    </a:lnTo>
                    <a:lnTo>
                      <a:pt x="45" y="8"/>
                    </a:lnTo>
                    <a:lnTo>
                      <a:pt x="43" y="25"/>
                    </a:lnTo>
                    <a:lnTo>
                      <a:pt x="27" y="25"/>
                    </a:lnTo>
                    <a:lnTo>
                      <a:pt x="23" y="40"/>
                    </a:lnTo>
                    <a:lnTo>
                      <a:pt x="14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733040" y="2560680"/>
                <a:ext cx="1309680" cy="2695680"/>
              </a:xfrm>
              <a:custGeom>
                <a:avLst/>
                <a:gdLst/>
                <a:ahLst/>
                <a:rect l="l" t="t" r="r" b="b"/>
                <a:pathLst>
                  <a:path w="903" h="1698">
                    <a:moveTo>
                      <a:pt x="70" y="75"/>
                    </a:moveTo>
                    <a:lnTo>
                      <a:pt x="81" y="56"/>
                    </a:lnTo>
                    <a:lnTo>
                      <a:pt x="103" y="28"/>
                    </a:lnTo>
                    <a:lnTo>
                      <a:pt x="136" y="11"/>
                    </a:lnTo>
                    <a:lnTo>
                      <a:pt x="154" y="0"/>
                    </a:lnTo>
                    <a:lnTo>
                      <a:pt x="171" y="3"/>
                    </a:lnTo>
                    <a:lnTo>
                      <a:pt x="167" y="17"/>
                    </a:lnTo>
                    <a:lnTo>
                      <a:pt x="147" y="31"/>
                    </a:lnTo>
                    <a:lnTo>
                      <a:pt x="143" y="59"/>
                    </a:lnTo>
                    <a:lnTo>
                      <a:pt x="147" y="81"/>
                    </a:lnTo>
                    <a:lnTo>
                      <a:pt x="165" y="81"/>
                    </a:lnTo>
                    <a:lnTo>
                      <a:pt x="171" y="56"/>
                    </a:lnTo>
                    <a:lnTo>
                      <a:pt x="176" y="31"/>
                    </a:lnTo>
                    <a:lnTo>
                      <a:pt x="187" y="39"/>
                    </a:lnTo>
                    <a:lnTo>
                      <a:pt x="200" y="53"/>
                    </a:lnTo>
                    <a:lnTo>
                      <a:pt x="222" y="47"/>
                    </a:lnTo>
                    <a:lnTo>
                      <a:pt x="235" y="59"/>
                    </a:lnTo>
                    <a:lnTo>
                      <a:pt x="239" y="73"/>
                    </a:lnTo>
                    <a:lnTo>
                      <a:pt x="272" y="67"/>
                    </a:lnTo>
                    <a:lnTo>
                      <a:pt x="338" y="59"/>
                    </a:lnTo>
                    <a:lnTo>
                      <a:pt x="362" y="103"/>
                    </a:lnTo>
                    <a:lnTo>
                      <a:pt x="404" y="126"/>
                    </a:lnTo>
                    <a:lnTo>
                      <a:pt x="402" y="145"/>
                    </a:lnTo>
                    <a:lnTo>
                      <a:pt x="419" y="134"/>
                    </a:lnTo>
                    <a:lnTo>
                      <a:pt x="439" y="134"/>
                    </a:lnTo>
                    <a:lnTo>
                      <a:pt x="463" y="154"/>
                    </a:lnTo>
                    <a:lnTo>
                      <a:pt x="492" y="151"/>
                    </a:lnTo>
                    <a:lnTo>
                      <a:pt x="516" y="154"/>
                    </a:lnTo>
                    <a:lnTo>
                      <a:pt x="555" y="190"/>
                    </a:lnTo>
                    <a:lnTo>
                      <a:pt x="597" y="234"/>
                    </a:lnTo>
                    <a:lnTo>
                      <a:pt x="615" y="285"/>
                    </a:lnTo>
                    <a:lnTo>
                      <a:pt x="604" y="324"/>
                    </a:lnTo>
                    <a:lnTo>
                      <a:pt x="654" y="338"/>
                    </a:lnTo>
                    <a:lnTo>
                      <a:pt x="737" y="357"/>
                    </a:lnTo>
                    <a:lnTo>
                      <a:pt x="823" y="380"/>
                    </a:lnTo>
                    <a:lnTo>
                      <a:pt x="878" y="424"/>
                    </a:lnTo>
                    <a:lnTo>
                      <a:pt x="902" y="466"/>
                    </a:lnTo>
                    <a:lnTo>
                      <a:pt x="902" y="519"/>
                    </a:lnTo>
                    <a:lnTo>
                      <a:pt x="880" y="567"/>
                    </a:lnTo>
                    <a:lnTo>
                      <a:pt x="856" y="592"/>
                    </a:lnTo>
                    <a:lnTo>
                      <a:pt x="841" y="608"/>
                    </a:lnTo>
                    <a:lnTo>
                      <a:pt x="823" y="642"/>
                    </a:lnTo>
                    <a:lnTo>
                      <a:pt x="821" y="673"/>
                    </a:lnTo>
                    <a:lnTo>
                      <a:pt x="823" y="712"/>
                    </a:lnTo>
                    <a:lnTo>
                      <a:pt x="814" y="751"/>
                    </a:lnTo>
                    <a:lnTo>
                      <a:pt x="801" y="759"/>
                    </a:lnTo>
                    <a:lnTo>
                      <a:pt x="797" y="782"/>
                    </a:lnTo>
                    <a:lnTo>
                      <a:pt x="781" y="798"/>
                    </a:lnTo>
                    <a:lnTo>
                      <a:pt x="779" y="818"/>
                    </a:lnTo>
                    <a:lnTo>
                      <a:pt x="759" y="840"/>
                    </a:lnTo>
                    <a:lnTo>
                      <a:pt x="729" y="879"/>
                    </a:lnTo>
                    <a:lnTo>
                      <a:pt x="702" y="890"/>
                    </a:lnTo>
                    <a:lnTo>
                      <a:pt x="685" y="888"/>
                    </a:lnTo>
                    <a:lnTo>
                      <a:pt x="652" y="907"/>
                    </a:lnTo>
                    <a:lnTo>
                      <a:pt x="619" y="952"/>
                    </a:lnTo>
                    <a:lnTo>
                      <a:pt x="612" y="969"/>
                    </a:lnTo>
                    <a:lnTo>
                      <a:pt x="612" y="991"/>
                    </a:lnTo>
                    <a:lnTo>
                      <a:pt x="619" y="1016"/>
                    </a:lnTo>
                    <a:lnTo>
                      <a:pt x="604" y="1041"/>
                    </a:lnTo>
                    <a:lnTo>
                      <a:pt x="604" y="1061"/>
                    </a:lnTo>
                    <a:lnTo>
                      <a:pt x="577" y="1083"/>
                    </a:lnTo>
                    <a:lnTo>
                      <a:pt x="557" y="1100"/>
                    </a:lnTo>
                    <a:lnTo>
                      <a:pt x="542" y="1125"/>
                    </a:lnTo>
                    <a:lnTo>
                      <a:pt x="535" y="1150"/>
                    </a:lnTo>
                    <a:lnTo>
                      <a:pt x="514" y="1181"/>
                    </a:lnTo>
                    <a:lnTo>
                      <a:pt x="505" y="1175"/>
                    </a:lnTo>
                    <a:lnTo>
                      <a:pt x="487" y="1175"/>
                    </a:lnTo>
                    <a:lnTo>
                      <a:pt x="465" y="1186"/>
                    </a:lnTo>
                    <a:lnTo>
                      <a:pt x="481" y="1200"/>
                    </a:lnTo>
                    <a:lnTo>
                      <a:pt x="481" y="1228"/>
                    </a:lnTo>
                    <a:lnTo>
                      <a:pt x="478" y="1250"/>
                    </a:lnTo>
                    <a:lnTo>
                      <a:pt x="467" y="1267"/>
                    </a:lnTo>
                    <a:lnTo>
                      <a:pt x="439" y="1270"/>
                    </a:lnTo>
                    <a:lnTo>
                      <a:pt x="417" y="1278"/>
                    </a:lnTo>
                    <a:lnTo>
                      <a:pt x="406" y="1295"/>
                    </a:lnTo>
                    <a:lnTo>
                      <a:pt x="406" y="1323"/>
                    </a:lnTo>
                    <a:lnTo>
                      <a:pt x="380" y="1326"/>
                    </a:lnTo>
                    <a:lnTo>
                      <a:pt x="358" y="1323"/>
                    </a:lnTo>
                    <a:lnTo>
                      <a:pt x="351" y="1334"/>
                    </a:lnTo>
                    <a:lnTo>
                      <a:pt x="362" y="1345"/>
                    </a:lnTo>
                    <a:lnTo>
                      <a:pt x="356" y="1387"/>
                    </a:lnTo>
                    <a:lnTo>
                      <a:pt x="347" y="1423"/>
                    </a:lnTo>
                    <a:lnTo>
                      <a:pt x="318" y="1423"/>
                    </a:lnTo>
                    <a:lnTo>
                      <a:pt x="309" y="1437"/>
                    </a:lnTo>
                    <a:lnTo>
                      <a:pt x="312" y="1465"/>
                    </a:lnTo>
                    <a:lnTo>
                      <a:pt x="327" y="1465"/>
                    </a:lnTo>
                    <a:lnTo>
                      <a:pt x="338" y="1482"/>
                    </a:lnTo>
                    <a:lnTo>
                      <a:pt x="331" y="1510"/>
                    </a:lnTo>
                    <a:lnTo>
                      <a:pt x="316" y="1513"/>
                    </a:lnTo>
                    <a:lnTo>
                      <a:pt x="292" y="1524"/>
                    </a:lnTo>
                    <a:lnTo>
                      <a:pt x="285" y="1546"/>
                    </a:lnTo>
                    <a:lnTo>
                      <a:pt x="283" y="1580"/>
                    </a:lnTo>
                    <a:lnTo>
                      <a:pt x="268" y="1597"/>
                    </a:lnTo>
                    <a:lnTo>
                      <a:pt x="323" y="1652"/>
                    </a:lnTo>
                    <a:lnTo>
                      <a:pt x="338" y="1680"/>
                    </a:lnTo>
                    <a:lnTo>
                      <a:pt x="329" y="1697"/>
                    </a:lnTo>
                    <a:lnTo>
                      <a:pt x="305" y="1686"/>
                    </a:lnTo>
                    <a:lnTo>
                      <a:pt x="285" y="1664"/>
                    </a:lnTo>
                    <a:lnTo>
                      <a:pt x="257" y="1647"/>
                    </a:lnTo>
                    <a:lnTo>
                      <a:pt x="230" y="1619"/>
                    </a:lnTo>
                    <a:lnTo>
                      <a:pt x="213" y="1585"/>
                    </a:lnTo>
                    <a:lnTo>
                      <a:pt x="211" y="1557"/>
                    </a:lnTo>
                    <a:lnTo>
                      <a:pt x="215" y="1535"/>
                    </a:lnTo>
                    <a:lnTo>
                      <a:pt x="213" y="1354"/>
                    </a:lnTo>
                    <a:lnTo>
                      <a:pt x="206" y="1323"/>
                    </a:lnTo>
                    <a:lnTo>
                      <a:pt x="187" y="1289"/>
                    </a:lnTo>
                    <a:lnTo>
                      <a:pt x="187" y="1259"/>
                    </a:lnTo>
                    <a:lnTo>
                      <a:pt x="200" y="1223"/>
                    </a:lnTo>
                    <a:lnTo>
                      <a:pt x="211" y="1178"/>
                    </a:lnTo>
                    <a:lnTo>
                      <a:pt x="206" y="1133"/>
                    </a:lnTo>
                    <a:lnTo>
                      <a:pt x="204" y="1114"/>
                    </a:lnTo>
                    <a:lnTo>
                      <a:pt x="202" y="1089"/>
                    </a:lnTo>
                    <a:lnTo>
                      <a:pt x="208" y="1077"/>
                    </a:lnTo>
                    <a:lnTo>
                      <a:pt x="213" y="1027"/>
                    </a:lnTo>
                    <a:lnTo>
                      <a:pt x="208" y="1002"/>
                    </a:lnTo>
                    <a:lnTo>
                      <a:pt x="217" y="941"/>
                    </a:lnTo>
                    <a:lnTo>
                      <a:pt x="208" y="888"/>
                    </a:lnTo>
                    <a:lnTo>
                      <a:pt x="215" y="860"/>
                    </a:lnTo>
                    <a:lnTo>
                      <a:pt x="226" y="807"/>
                    </a:lnTo>
                    <a:lnTo>
                      <a:pt x="215" y="773"/>
                    </a:lnTo>
                    <a:lnTo>
                      <a:pt x="193" y="748"/>
                    </a:lnTo>
                    <a:lnTo>
                      <a:pt x="187" y="720"/>
                    </a:lnTo>
                    <a:lnTo>
                      <a:pt x="162" y="695"/>
                    </a:lnTo>
                    <a:lnTo>
                      <a:pt x="136" y="678"/>
                    </a:lnTo>
                    <a:lnTo>
                      <a:pt x="99" y="670"/>
                    </a:lnTo>
                    <a:lnTo>
                      <a:pt x="81" y="634"/>
                    </a:lnTo>
                    <a:lnTo>
                      <a:pt x="57" y="597"/>
                    </a:lnTo>
                    <a:lnTo>
                      <a:pt x="55" y="567"/>
                    </a:lnTo>
                    <a:lnTo>
                      <a:pt x="53" y="539"/>
                    </a:lnTo>
                    <a:lnTo>
                      <a:pt x="46" y="519"/>
                    </a:lnTo>
                    <a:lnTo>
                      <a:pt x="33" y="497"/>
                    </a:lnTo>
                    <a:lnTo>
                      <a:pt x="15" y="486"/>
                    </a:lnTo>
                    <a:lnTo>
                      <a:pt x="2" y="463"/>
                    </a:lnTo>
                    <a:lnTo>
                      <a:pt x="18" y="444"/>
                    </a:lnTo>
                    <a:lnTo>
                      <a:pt x="18" y="396"/>
                    </a:lnTo>
                    <a:lnTo>
                      <a:pt x="9" y="371"/>
                    </a:lnTo>
                    <a:lnTo>
                      <a:pt x="0" y="346"/>
                    </a:lnTo>
                    <a:lnTo>
                      <a:pt x="9" y="310"/>
                    </a:lnTo>
                    <a:lnTo>
                      <a:pt x="44" y="220"/>
                    </a:lnTo>
                    <a:lnTo>
                      <a:pt x="46" y="181"/>
                    </a:lnTo>
                    <a:lnTo>
                      <a:pt x="66" y="140"/>
                    </a:lnTo>
                    <a:lnTo>
                      <a:pt x="66" y="117"/>
                    </a:lnTo>
                    <a:lnTo>
                      <a:pt x="70" y="75"/>
                    </a:lnTo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"/>
          <p:cNvSpPr/>
          <p:nvPr/>
        </p:nvSpPr>
        <p:spPr>
          <a:xfrm>
            <a:off x="4800600" y="358128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48320" y="3505320"/>
          <a:ext cx="304560" cy="38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3505320"/>
                    <a:ext cx="3045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"/>
          <p:cNvGrpSpPr/>
          <p:nvPr/>
        </p:nvGrpSpPr>
        <p:grpSpPr>
          <a:xfrm>
            <a:off x="0" y="0"/>
            <a:ext cx="9081360" cy="5256360"/>
            <a:chOff x="0" y="0"/>
            <a:chExt cx="9081360" cy="5256360"/>
          </a:xfrm>
        </p:grpSpPr>
        <p:grpSp>
          <p:nvGrpSpPr>
            <p:cNvPr id="125" name=""/>
            <p:cNvGrpSpPr/>
            <p:nvPr/>
          </p:nvGrpSpPr>
          <p:grpSpPr>
            <a:xfrm>
              <a:off x="3624840" y="3240"/>
              <a:ext cx="5456520" cy="4889520"/>
              <a:chOff x="3624840" y="3240"/>
              <a:chExt cx="5456520" cy="488952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8279280" y="3111480"/>
                <a:ext cx="802080" cy="1781280"/>
                <a:chOff x="8279280" y="3111480"/>
                <a:chExt cx="802080" cy="1781280"/>
              </a:xfrm>
            </p:grpSpPr>
            <p:grpSp>
              <p:nvGrpSpPr>
                <p:cNvPr id="127" name=""/>
                <p:cNvGrpSpPr/>
                <p:nvPr/>
              </p:nvGrpSpPr>
              <p:grpSpPr>
                <a:xfrm>
                  <a:off x="8279280" y="4368960"/>
                  <a:ext cx="802080" cy="523800"/>
                  <a:chOff x="8279280" y="4368960"/>
                  <a:chExt cx="802080" cy="52380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>
                    <a:off x="8952120" y="4368960"/>
                    <a:ext cx="12924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200">
                        <a:moveTo>
                          <a:pt x="29" y="3"/>
                        </a:moveTo>
                        <a:lnTo>
                          <a:pt x="37" y="0"/>
                        </a:lnTo>
                        <a:lnTo>
                          <a:pt x="53" y="22"/>
                        </a:lnTo>
                        <a:lnTo>
                          <a:pt x="51" y="86"/>
                        </a:lnTo>
                        <a:lnTo>
                          <a:pt x="62" y="86"/>
                        </a:lnTo>
                        <a:lnTo>
                          <a:pt x="64" y="94"/>
                        </a:lnTo>
                        <a:lnTo>
                          <a:pt x="68" y="108"/>
                        </a:lnTo>
                        <a:lnTo>
                          <a:pt x="70" y="116"/>
                        </a:lnTo>
                        <a:lnTo>
                          <a:pt x="79" y="113"/>
                        </a:lnTo>
                        <a:lnTo>
                          <a:pt x="86" y="100"/>
                        </a:lnTo>
                        <a:lnTo>
                          <a:pt x="88" y="108"/>
                        </a:lnTo>
                        <a:lnTo>
                          <a:pt x="84" y="119"/>
                        </a:lnTo>
                        <a:lnTo>
                          <a:pt x="79" y="127"/>
                        </a:lnTo>
                        <a:lnTo>
                          <a:pt x="77" y="144"/>
                        </a:lnTo>
                        <a:lnTo>
                          <a:pt x="66" y="152"/>
                        </a:lnTo>
                        <a:lnTo>
                          <a:pt x="59" y="155"/>
                        </a:lnTo>
                        <a:lnTo>
                          <a:pt x="51" y="163"/>
                        </a:lnTo>
                        <a:lnTo>
                          <a:pt x="48" y="171"/>
                        </a:lnTo>
                        <a:lnTo>
                          <a:pt x="51" y="180"/>
                        </a:lnTo>
                        <a:lnTo>
                          <a:pt x="53" y="188"/>
                        </a:lnTo>
                        <a:lnTo>
                          <a:pt x="42" y="193"/>
                        </a:lnTo>
                        <a:lnTo>
                          <a:pt x="35" y="196"/>
                        </a:lnTo>
                        <a:lnTo>
                          <a:pt x="29" y="199"/>
                        </a:lnTo>
                        <a:lnTo>
                          <a:pt x="24" y="196"/>
                        </a:lnTo>
                        <a:lnTo>
                          <a:pt x="13" y="193"/>
                        </a:lnTo>
                        <a:lnTo>
                          <a:pt x="9" y="188"/>
                        </a:lnTo>
                        <a:lnTo>
                          <a:pt x="13" y="182"/>
                        </a:lnTo>
                        <a:lnTo>
                          <a:pt x="22" y="180"/>
                        </a:lnTo>
                        <a:lnTo>
                          <a:pt x="29" y="166"/>
                        </a:lnTo>
                        <a:lnTo>
                          <a:pt x="29" y="160"/>
                        </a:lnTo>
                        <a:lnTo>
                          <a:pt x="22" y="155"/>
                        </a:lnTo>
                        <a:lnTo>
                          <a:pt x="13" y="146"/>
                        </a:lnTo>
                        <a:lnTo>
                          <a:pt x="7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7" y="130"/>
                        </a:lnTo>
                        <a:lnTo>
                          <a:pt x="13" y="127"/>
                        </a:lnTo>
                        <a:lnTo>
                          <a:pt x="22" y="119"/>
                        </a:lnTo>
                        <a:lnTo>
                          <a:pt x="26" y="116"/>
                        </a:lnTo>
                        <a:lnTo>
                          <a:pt x="31" y="86"/>
                        </a:lnTo>
                        <a:lnTo>
                          <a:pt x="26" y="77"/>
                        </a:lnTo>
                        <a:lnTo>
                          <a:pt x="20" y="72"/>
                        </a:lnTo>
                        <a:lnTo>
                          <a:pt x="18" y="55"/>
                        </a:lnTo>
                        <a:lnTo>
                          <a:pt x="20" y="39"/>
                        </a:lnTo>
                        <a:lnTo>
                          <a:pt x="22" y="28"/>
                        </a:lnTo>
                        <a:lnTo>
                          <a:pt x="29" y="3"/>
                        </a:lnTo>
                      </a:path>
                    </a:pathLst>
                  </a:custGeom>
                  <a:solidFill>
                    <a:srgbClr val="00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8706960" y="4622760"/>
                    <a:ext cx="23760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70">
                        <a:moveTo>
                          <a:pt x="115" y="0"/>
                        </a:moveTo>
                        <a:lnTo>
                          <a:pt x="134" y="0"/>
                        </a:lnTo>
                        <a:lnTo>
                          <a:pt x="163" y="44"/>
                        </a:lnTo>
                        <a:lnTo>
                          <a:pt x="132" y="83"/>
                        </a:lnTo>
                        <a:lnTo>
                          <a:pt x="132" y="100"/>
                        </a:lnTo>
                        <a:lnTo>
                          <a:pt x="126" y="105"/>
                        </a:lnTo>
                        <a:lnTo>
                          <a:pt x="108" y="105"/>
                        </a:lnTo>
                        <a:lnTo>
                          <a:pt x="86" y="127"/>
                        </a:lnTo>
                        <a:lnTo>
                          <a:pt x="66" y="150"/>
                        </a:lnTo>
                        <a:lnTo>
                          <a:pt x="53" y="169"/>
                        </a:lnTo>
                        <a:lnTo>
                          <a:pt x="53" y="152"/>
                        </a:lnTo>
                        <a:lnTo>
                          <a:pt x="29" y="155"/>
                        </a:lnTo>
                        <a:lnTo>
                          <a:pt x="18" y="155"/>
                        </a:lnTo>
                        <a:lnTo>
                          <a:pt x="0" y="155"/>
                        </a:lnTo>
                        <a:lnTo>
                          <a:pt x="24" y="127"/>
                        </a:lnTo>
                        <a:lnTo>
                          <a:pt x="33" y="114"/>
                        </a:lnTo>
                        <a:lnTo>
                          <a:pt x="42" y="114"/>
                        </a:lnTo>
                        <a:lnTo>
                          <a:pt x="59" y="91"/>
                        </a:lnTo>
                        <a:lnTo>
                          <a:pt x="66" y="91"/>
                        </a:lnTo>
                        <a:lnTo>
                          <a:pt x="66" y="89"/>
                        </a:lnTo>
                        <a:lnTo>
                          <a:pt x="75" y="80"/>
                        </a:lnTo>
                        <a:lnTo>
                          <a:pt x="86" y="80"/>
                        </a:lnTo>
                        <a:lnTo>
                          <a:pt x="82" y="55"/>
                        </a:lnTo>
                        <a:lnTo>
                          <a:pt x="84" y="55"/>
                        </a:lnTo>
                        <a:lnTo>
                          <a:pt x="95" y="42"/>
                        </a:lnTo>
                        <a:lnTo>
                          <a:pt x="99" y="53"/>
                        </a:lnTo>
                        <a:lnTo>
                          <a:pt x="117" y="33"/>
                        </a:lnTo>
                        <a:lnTo>
                          <a:pt x="115" y="0"/>
                        </a:lnTo>
                      </a:path>
                    </a:pathLst>
                  </a:custGeom>
                  <a:solidFill>
                    <a:srgbClr val="00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8279280" y="4638600"/>
                    <a:ext cx="9108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90">
                        <a:moveTo>
                          <a:pt x="0" y="0"/>
                        </a:moveTo>
                        <a:lnTo>
                          <a:pt x="13" y="0"/>
                        </a:lnTo>
                        <a:lnTo>
                          <a:pt x="29" y="11"/>
                        </a:lnTo>
                        <a:lnTo>
                          <a:pt x="62" y="11"/>
                        </a:lnTo>
                        <a:lnTo>
                          <a:pt x="58" y="25"/>
                        </a:lnTo>
                        <a:lnTo>
                          <a:pt x="62" y="42"/>
                        </a:lnTo>
                        <a:lnTo>
                          <a:pt x="51" y="42"/>
                        </a:lnTo>
                        <a:lnTo>
                          <a:pt x="49" y="45"/>
                        </a:lnTo>
                        <a:lnTo>
                          <a:pt x="42" y="47"/>
                        </a:lnTo>
                        <a:lnTo>
                          <a:pt x="49" y="89"/>
                        </a:lnTo>
                        <a:lnTo>
                          <a:pt x="29" y="86"/>
                        </a:lnTo>
                        <a:lnTo>
                          <a:pt x="11" y="72"/>
                        </a:lnTo>
                        <a:lnTo>
                          <a:pt x="11" y="45"/>
                        </a:lnTo>
                        <a:lnTo>
                          <a:pt x="11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" name=""/>
                <p:cNvSpPr/>
                <p:nvPr/>
              </p:nvSpPr>
              <p:spPr>
                <a:xfrm>
                  <a:off x="8441640" y="3111480"/>
                  <a:ext cx="144720" cy="160200"/>
                </a:xfrm>
                <a:custGeom>
                  <a:avLst/>
                  <a:gdLst/>
                  <a:ahLst/>
                  <a:rect l="l" t="t" r="r" b="b"/>
                  <a:pathLst>
                    <a:path w="100" h="101">
                      <a:moveTo>
                        <a:pt x="18" y="37"/>
                      </a:moveTo>
                      <a:lnTo>
                        <a:pt x="0" y="80"/>
                      </a:lnTo>
                      <a:lnTo>
                        <a:pt x="7" y="97"/>
                      </a:lnTo>
                      <a:lnTo>
                        <a:pt x="35" y="100"/>
                      </a:lnTo>
                      <a:lnTo>
                        <a:pt x="59" y="100"/>
                      </a:lnTo>
                      <a:lnTo>
                        <a:pt x="68" y="83"/>
                      </a:lnTo>
                      <a:lnTo>
                        <a:pt x="73" y="66"/>
                      </a:lnTo>
                      <a:lnTo>
                        <a:pt x="99" y="66"/>
                      </a:lnTo>
                      <a:lnTo>
                        <a:pt x="95" y="40"/>
                      </a:lnTo>
                      <a:lnTo>
                        <a:pt x="95" y="14"/>
                      </a:lnTo>
                      <a:lnTo>
                        <a:pt x="68" y="0"/>
                      </a:lnTo>
                      <a:lnTo>
                        <a:pt x="66" y="29"/>
                      </a:lnTo>
                      <a:lnTo>
                        <a:pt x="81" y="46"/>
                      </a:lnTo>
                      <a:lnTo>
                        <a:pt x="57" y="46"/>
                      </a:lnTo>
                      <a:lnTo>
                        <a:pt x="48" y="57"/>
                      </a:lnTo>
                      <a:lnTo>
                        <a:pt x="18" y="37"/>
                      </a:lnTo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6854760" y="776160"/>
                <a:ext cx="1690920" cy="3799080"/>
                <a:chOff x="6854760" y="776160"/>
                <a:chExt cx="1690920" cy="3799080"/>
              </a:xfrm>
            </p:grpSpPr>
            <p:grpSp>
              <p:nvGrpSpPr>
                <p:cNvPr id="133" name=""/>
                <p:cNvGrpSpPr/>
                <p:nvPr/>
              </p:nvGrpSpPr>
              <p:grpSpPr>
                <a:xfrm>
                  <a:off x="7127280" y="1163520"/>
                  <a:ext cx="376560" cy="1141560"/>
                  <a:chOff x="7127280" y="1163520"/>
                  <a:chExt cx="376560" cy="114156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7127280" y="2187720"/>
                    <a:ext cx="896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74">
                        <a:moveTo>
                          <a:pt x="0" y="56"/>
                        </a:moveTo>
                        <a:lnTo>
                          <a:pt x="11" y="70"/>
                        </a:lnTo>
                        <a:lnTo>
                          <a:pt x="24" y="67"/>
                        </a:lnTo>
                        <a:lnTo>
                          <a:pt x="44" y="73"/>
                        </a:lnTo>
                        <a:lnTo>
                          <a:pt x="59" y="73"/>
                        </a:lnTo>
                        <a:lnTo>
                          <a:pt x="61" y="48"/>
                        </a:lnTo>
                        <a:lnTo>
                          <a:pt x="57" y="31"/>
                        </a:lnTo>
                        <a:lnTo>
                          <a:pt x="46" y="11"/>
                        </a:lnTo>
                        <a:lnTo>
                          <a:pt x="35" y="11"/>
                        </a:lnTo>
                        <a:lnTo>
                          <a:pt x="31" y="0"/>
                        </a:lnTo>
                        <a:lnTo>
                          <a:pt x="15" y="0"/>
                        </a:lnTo>
                        <a:lnTo>
                          <a:pt x="15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7366320" y="1984320"/>
                    <a:ext cx="8820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94">
                        <a:moveTo>
                          <a:pt x="13" y="0"/>
                        </a:moveTo>
                        <a:lnTo>
                          <a:pt x="40" y="3"/>
                        </a:lnTo>
                        <a:lnTo>
                          <a:pt x="49" y="28"/>
                        </a:lnTo>
                        <a:lnTo>
                          <a:pt x="60" y="42"/>
                        </a:lnTo>
                        <a:lnTo>
                          <a:pt x="51" y="54"/>
                        </a:lnTo>
                        <a:lnTo>
                          <a:pt x="60" y="68"/>
                        </a:lnTo>
                        <a:lnTo>
                          <a:pt x="56" y="85"/>
                        </a:lnTo>
                        <a:lnTo>
                          <a:pt x="47" y="93"/>
                        </a:lnTo>
                        <a:lnTo>
                          <a:pt x="29" y="90"/>
                        </a:lnTo>
                        <a:lnTo>
                          <a:pt x="18" y="90"/>
                        </a:lnTo>
                        <a:lnTo>
                          <a:pt x="11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00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7350120" y="1163520"/>
                    <a:ext cx="15372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87">
                        <a:moveTo>
                          <a:pt x="15" y="0"/>
                        </a:moveTo>
                        <a:lnTo>
                          <a:pt x="28" y="14"/>
                        </a:lnTo>
                        <a:lnTo>
                          <a:pt x="42" y="11"/>
                        </a:lnTo>
                        <a:lnTo>
                          <a:pt x="61" y="14"/>
                        </a:lnTo>
                        <a:lnTo>
                          <a:pt x="79" y="14"/>
                        </a:lnTo>
                        <a:lnTo>
                          <a:pt x="88" y="22"/>
                        </a:lnTo>
                        <a:lnTo>
                          <a:pt x="98" y="42"/>
                        </a:lnTo>
                        <a:lnTo>
                          <a:pt x="105" y="50"/>
                        </a:lnTo>
                        <a:lnTo>
                          <a:pt x="81" y="55"/>
                        </a:lnTo>
                        <a:lnTo>
                          <a:pt x="74" y="61"/>
                        </a:lnTo>
                        <a:lnTo>
                          <a:pt x="81" y="72"/>
                        </a:lnTo>
                        <a:lnTo>
                          <a:pt x="81" y="83"/>
                        </a:lnTo>
                        <a:lnTo>
                          <a:pt x="57" y="72"/>
                        </a:lnTo>
                        <a:lnTo>
                          <a:pt x="37" y="64"/>
                        </a:lnTo>
                        <a:lnTo>
                          <a:pt x="28" y="67"/>
                        </a:lnTo>
                        <a:lnTo>
                          <a:pt x="28" y="83"/>
                        </a:lnTo>
                        <a:lnTo>
                          <a:pt x="15" y="86"/>
                        </a:lnTo>
                        <a:lnTo>
                          <a:pt x="9" y="72"/>
                        </a:lnTo>
                        <a:lnTo>
                          <a:pt x="7" y="55"/>
                        </a:lnTo>
                        <a:lnTo>
                          <a:pt x="0" y="53"/>
                        </a:lnTo>
                        <a:lnTo>
                          <a:pt x="7" y="36"/>
                        </a:lnTo>
                        <a:lnTo>
                          <a:pt x="18" y="31"/>
                        </a:lnTo>
                        <a:lnTo>
                          <a:pt x="15" y="0"/>
                        </a:lnTo>
                      </a:path>
                    </a:pathLst>
                  </a:custGeom>
                  <a:solidFill>
                    <a:srgbClr val="00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7" name=""/>
                <p:cNvSpPr/>
                <p:nvPr/>
              </p:nvSpPr>
              <p:spPr>
                <a:xfrm>
                  <a:off x="7479720" y="3473280"/>
                  <a:ext cx="1065960" cy="1101960"/>
                </a:xfrm>
                <a:custGeom>
                  <a:avLst/>
                  <a:gdLst/>
                  <a:ahLst/>
                  <a:rect l="l" t="t" r="r" b="b"/>
                  <a:pathLst>
                    <a:path w="735" h="694">
                      <a:moveTo>
                        <a:pt x="529" y="0"/>
                      </a:moveTo>
                      <a:lnTo>
                        <a:pt x="568" y="0"/>
                      </a:lnTo>
                      <a:lnTo>
                        <a:pt x="568" y="56"/>
                      </a:lnTo>
                      <a:lnTo>
                        <a:pt x="583" y="70"/>
                      </a:lnTo>
                      <a:lnTo>
                        <a:pt x="588" y="78"/>
                      </a:lnTo>
                      <a:lnTo>
                        <a:pt x="596" y="78"/>
                      </a:lnTo>
                      <a:lnTo>
                        <a:pt x="601" y="89"/>
                      </a:lnTo>
                      <a:lnTo>
                        <a:pt x="605" y="145"/>
                      </a:lnTo>
                      <a:lnTo>
                        <a:pt x="627" y="181"/>
                      </a:lnTo>
                      <a:lnTo>
                        <a:pt x="660" y="234"/>
                      </a:lnTo>
                      <a:lnTo>
                        <a:pt x="660" y="242"/>
                      </a:lnTo>
                      <a:lnTo>
                        <a:pt x="695" y="287"/>
                      </a:lnTo>
                      <a:lnTo>
                        <a:pt x="695" y="295"/>
                      </a:lnTo>
                      <a:lnTo>
                        <a:pt x="730" y="331"/>
                      </a:lnTo>
                      <a:lnTo>
                        <a:pt x="734" y="395"/>
                      </a:lnTo>
                      <a:lnTo>
                        <a:pt x="730" y="454"/>
                      </a:lnTo>
                      <a:lnTo>
                        <a:pt x="719" y="481"/>
                      </a:lnTo>
                      <a:lnTo>
                        <a:pt x="706" y="495"/>
                      </a:lnTo>
                      <a:lnTo>
                        <a:pt x="701" y="523"/>
                      </a:lnTo>
                      <a:lnTo>
                        <a:pt x="688" y="548"/>
                      </a:lnTo>
                      <a:lnTo>
                        <a:pt x="677" y="559"/>
                      </a:lnTo>
                      <a:lnTo>
                        <a:pt x="679" y="568"/>
                      </a:lnTo>
                      <a:lnTo>
                        <a:pt x="666" y="584"/>
                      </a:lnTo>
                      <a:lnTo>
                        <a:pt x="660" y="621"/>
                      </a:lnTo>
                      <a:lnTo>
                        <a:pt x="658" y="640"/>
                      </a:lnTo>
                      <a:lnTo>
                        <a:pt x="644" y="648"/>
                      </a:lnTo>
                      <a:lnTo>
                        <a:pt x="642" y="657"/>
                      </a:lnTo>
                      <a:lnTo>
                        <a:pt x="634" y="674"/>
                      </a:lnTo>
                      <a:lnTo>
                        <a:pt x="618" y="676"/>
                      </a:lnTo>
                      <a:lnTo>
                        <a:pt x="607" y="682"/>
                      </a:lnTo>
                      <a:lnTo>
                        <a:pt x="592" y="693"/>
                      </a:lnTo>
                      <a:lnTo>
                        <a:pt x="572" y="671"/>
                      </a:lnTo>
                      <a:lnTo>
                        <a:pt x="551" y="674"/>
                      </a:lnTo>
                      <a:lnTo>
                        <a:pt x="544" y="674"/>
                      </a:lnTo>
                      <a:lnTo>
                        <a:pt x="513" y="679"/>
                      </a:lnTo>
                      <a:lnTo>
                        <a:pt x="494" y="657"/>
                      </a:lnTo>
                      <a:lnTo>
                        <a:pt x="481" y="635"/>
                      </a:lnTo>
                      <a:lnTo>
                        <a:pt x="472" y="637"/>
                      </a:lnTo>
                      <a:lnTo>
                        <a:pt x="463" y="618"/>
                      </a:lnTo>
                      <a:lnTo>
                        <a:pt x="459" y="601"/>
                      </a:lnTo>
                      <a:lnTo>
                        <a:pt x="454" y="596"/>
                      </a:lnTo>
                      <a:lnTo>
                        <a:pt x="454" y="568"/>
                      </a:lnTo>
                      <a:lnTo>
                        <a:pt x="457" y="551"/>
                      </a:lnTo>
                      <a:lnTo>
                        <a:pt x="452" y="540"/>
                      </a:lnTo>
                      <a:lnTo>
                        <a:pt x="435" y="545"/>
                      </a:lnTo>
                      <a:lnTo>
                        <a:pt x="426" y="548"/>
                      </a:lnTo>
                      <a:lnTo>
                        <a:pt x="411" y="548"/>
                      </a:lnTo>
                      <a:lnTo>
                        <a:pt x="404" y="548"/>
                      </a:lnTo>
                      <a:lnTo>
                        <a:pt x="398" y="548"/>
                      </a:lnTo>
                      <a:lnTo>
                        <a:pt x="387" y="532"/>
                      </a:lnTo>
                      <a:lnTo>
                        <a:pt x="376" y="509"/>
                      </a:lnTo>
                      <a:lnTo>
                        <a:pt x="374" y="512"/>
                      </a:lnTo>
                      <a:lnTo>
                        <a:pt x="354" y="512"/>
                      </a:lnTo>
                      <a:lnTo>
                        <a:pt x="352" y="504"/>
                      </a:lnTo>
                      <a:lnTo>
                        <a:pt x="341" y="512"/>
                      </a:lnTo>
                      <a:lnTo>
                        <a:pt x="330" y="509"/>
                      </a:lnTo>
                      <a:lnTo>
                        <a:pt x="312" y="509"/>
                      </a:lnTo>
                      <a:lnTo>
                        <a:pt x="301" y="504"/>
                      </a:lnTo>
                      <a:lnTo>
                        <a:pt x="297" y="512"/>
                      </a:lnTo>
                      <a:lnTo>
                        <a:pt x="280" y="515"/>
                      </a:lnTo>
                      <a:lnTo>
                        <a:pt x="275" y="509"/>
                      </a:lnTo>
                      <a:lnTo>
                        <a:pt x="264" y="523"/>
                      </a:lnTo>
                      <a:lnTo>
                        <a:pt x="251" y="537"/>
                      </a:lnTo>
                      <a:lnTo>
                        <a:pt x="242" y="537"/>
                      </a:lnTo>
                      <a:lnTo>
                        <a:pt x="229" y="554"/>
                      </a:lnTo>
                      <a:lnTo>
                        <a:pt x="210" y="554"/>
                      </a:lnTo>
                      <a:lnTo>
                        <a:pt x="194" y="559"/>
                      </a:lnTo>
                      <a:lnTo>
                        <a:pt x="177" y="568"/>
                      </a:lnTo>
                      <a:lnTo>
                        <a:pt x="168" y="579"/>
                      </a:lnTo>
                      <a:lnTo>
                        <a:pt x="162" y="576"/>
                      </a:lnTo>
                      <a:lnTo>
                        <a:pt x="155" y="587"/>
                      </a:lnTo>
                      <a:lnTo>
                        <a:pt x="146" y="590"/>
                      </a:lnTo>
                      <a:lnTo>
                        <a:pt x="135" y="604"/>
                      </a:lnTo>
                      <a:lnTo>
                        <a:pt x="100" y="604"/>
                      </a:lnTo>
                      <a:lnTo>
                        <a:pt x="85" y="584"/>
                      </a:lnTo>
                      <a:lnTo>
                        <a:pt x="83" y="576"/>
                      </a:lnTo>
                      <a:lnTo>
                        <a:pt x="79" y="584"/>
                      </a:lnTo>
                      <a:lnTo>
                        <a:pt x="72" y="571"/>
                      </a:lnTo>
                      <a:lnTo>
                        <a:pt x="74" y="534"/>
                      </a:lnTo>
                      <a:lnTo>
                        <a:pt x="79" y="512"/>
                      </a:lnTo>
                      <a:lnTo>
                        <a:pt x="72" y="495"/>
                      </a:lnTo>
                      <a:lnTo>
                        <a:pt x="66" y="479"/>
                      </a:lnTo>
                      <a:lnTo>
                        <a:pt x="63" y="459"/>
                      </a:lnTo>
                      <a:lnTo>
                        <a:pt x="52" y="451"/>
                      </a:lnTo>
                      <a:lnTo>
                        <a:pt x="50" y="448"/>
                      </a:lnTo>
                      <a:lnTo>
                        <a:pt x="48" y="440"/>
                      </a:lnTo>
                      <a:lnTo>
                        <a:pt x="33" y="415"/>
                      </a:lnTo>
                      <a:lnTo>
                        <a:pt x="13" y="353"/>
                      </a:lnTo>
                      <a:lnTo>
                        <a:pt x="7" y="312"/>
                      </a:lnTo>
                      <a:lnTo>
                        <a:pt x="7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9" y="245"/>
                      </a:lnTo>
                      <a:lnTo>
                        <a:pt x="33" y="214"/>
                      </a:lnTo>
                      <a:lnTo>
                        <a:pt x="57" y="217"/>
                      </a:lnTo>
                      <a:lnTo>
                        <a:pt x="61" y="223"/>
                      </a:lnTo>
                      <a:lnTo>
                        <a:pt x="92" y="223"/>
                      </a:lnTo>
                      <a:lnTo>
                        <a:pt x="94" y="214"/>
                      </a:lnTo>
                      <a:lnTo>
                        <a:pt x="100" y="217"/>
                      </a:lnTo>
                      <a:lnTo>
                        <a:pt x="109" y="209"/>
                      </a:lnTo>
                      <a:lnTo>
                        <a:pt x="116" y="212"/>
                      </a:lnTo>
                      <a:lnTo>
                        <a:pt x="122" y="206"/>
                      </a:lnTo>
                      <a:lnTo>
                        <a:pt x="120" y="198"/>
                      </a:lnTo>
                      <a:lnTo>
                        <a:pt x="127" y="178"/>
                      </a:lnTo>
                      <a:lnTo>
                        <a:pt x="135" y="170"/>
                      </a:lnTo>
                      <a:lnTo>
                        <a:pt x="131" y="164"/>
                      </a:lnTo>
                      <a:lnTo>
                        <a:pt x="135" y="159"/>
                      </a:lnTo>
                      <a:lnTo>
                        <a:pt x="131" y="150"/>
                      </a:lnTo>
                      <a:lnTo>
                        <a:pt x="144" y="136"/>
                      </a:lnTo>
                      <a:lnTo>
                        <a:pt x="164" y="134"/>
                      </a:lnTo>
                      <a:lnTo>
                        <a:pt x="184" y="100"/>
                      </a:lnTo>
                      <a:lnTo>
                        <a:pt x="208" y="72"/>
                      </a:lnTo>
                      <a:lnTo>
                        <a:pt x="218" y="70"/>
                      </a:lnTo>
                      <a:lnTo>
                        <a:pt x="225" y="64"/>
                      </a:lnTo>
                      <a:lnTo>
                        <a:pt x="236" y="64"/>
                      </a:lnTo>
                      <a:lnTo>
                        <a:pt x="256" y="86"/>
                      </a:lnTo>
                      <a:lnTo>
                        <a:pt x="262" y="89"/>
                      </a:lnTo>
                      <a:lnTo>
                        <a:pt x="269" y="78"/>
                      </a:lnTo>
                      <a:lnTo>
                        <a:pt x="282" y="64"/>
                      </a:lnTo>
                      <a:lnTo>
                        <a:pt x="291" y="61"/>
                      </a:lnTo>
                      <a:lnTo>
                        <a:pt x="299" y="39"/>
                      </a:lnTo>
                      <a:lnTo>
                        <a:pt x="308" y="36"/>
                      </a:lnTo>
                      <a:lnTo>
                        <a:pt x="319" y="28"/>
                      </a:lnTo>
                      <a:lnTo>
                        <a:pt x="330" y="19"/>
                      </a:lnTo>
                      <a:lnTo>
                        <a:pt x="341" y="19"/>
                      </a:lnTo>
                      <a:lnTo>
                        <a:pt x="350" y="8"/>
                      </a:lnTo>
                      <a:lnTo>
                        <a:pt x="363" y="8"/>
                      </a:lnTo>
                      <a:lnTo>
                        <a:pt x="378" y="8"/>
                      </a:lnTo>
                      <a:lnTo>
                        <a:pt x="398" y="14"/>
                      </a:lnTo>
                      <a:lnTo>
                        <a:pt x="411" y="25"/>
                      </a:lnTo>
                      <a:lnTo>
                        <a:pt x="413" y="33"/>
                      </a:lnTo>
                      <a:lnTo>
                        <a:pt x="415" y="39"/>
                      </a:lnTo>
                      <a:lnTo>
                        <a:pt x="417" y="53"/>
                      </a:lnTo>
                      <a:lnTo>
                        <a:pt x="415" y="58"/>
                      </a:lnTo>
                      <a:lnTo>
                        <a:pt x="415" y="70"/>
                      </a:lnTo>
                      <a:lnTo>
                        <a:pt x="413" y="78"/>
                      </a:lnTo>
                      <a:lnTo>
                        <a:pt x="446" y="109"/>
                      </a:lnTo>
                      <a:lnTo>
                        <a:pt x="457" y="125"/>
                      </a:lnTo>
                      <a:lnTo>
                        <a:pt x="470" y="131"/>
                      </a:lnTo>
                      <a:lnTo>
                        <a:pt x="483" y="139"/>
                      </a:lnTo>
                      <a:lnTo>
                        <a:pt x="492" y="142"/>
                      </a:lnTo>
                      <a:lnTo>
                        <a:pt x="505" y="134"/>
                      </a:lnTo>
                      <a:lnTo>
                        <a:pt x="516" y="109"/>
                      </a:lnTo>
                      <a:lnTo>
                        <a:pt x="520" y="89"/>
                      </a:lnTo>
                      <a:lnTo>
                        <a:pt x="524" y="53"/>
                      </a:lnTo>
                      <a:lnTo>
                        <a:pt x="529" y="36"/>
                      </a:lnTo>
                      <a:lnTo>
                        <a:pt x="529" y="0"/>
                      </a:lnTo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228800" y="3235320"/>
                  <a:ext cx="592920" cy="150840"/>
                </a:xfrm>
                <a:custGeom>
                  <a:avLst/>
                  <a:gdLst/>
                  <a:ahLst/>
                  <a:rect l="l" t="t" r="r" b="b"/>
                  <a:pathLst>
                    <a:path w="409" h="95">
                      <a:moveTo>
                        <a:pt x="0" y="0"/>
                      </a:moveTo>
                      <a:lnTo>
                        <a:pt x="31" y="14"/>
                      </a:lnTo>
                      <a:lnTo>
                        <a:pt x="57" y="14"/>
                      </a:lnTo>
                      <a:lnTo>
                        <a:pt x="81" y="14"/>
                      </a:lnTo>
                      <a:lnTo>
                        <a:pt x="99" y="14"/>
                      </a:lnTo>
                      <a:lnTo>
                        <a:pt x="112" y="17"/>
                      </a:lnTo>
                      <a:lnTo>
                        <a:pt x="129" y="25"/>
                      </a:lnTo>
                      <a:lnTo>
                        <a:pt x="138" y="44"/>
                      </a:lnTo>
                      <a:lnTo>
                        <a:pt x="147" y="53"/>
                      </a:lnTo>
                      <a:lnTo>
                        <a:pt x="162" y="50"/>
                      </a:lnTo>
                      <a:lnTo>
                        <a:pt x="180" y="50"/>
                      </a:lnTo>
                      <a:lnTo>
                        <a:pt x="200" y="61"/>
                      </a:lnTo>
                      <a:lnTo>
                        <a:pt x="213" y="66"/>
                      </a:lnTo>
                      <a:lnTo>
                        <a:pt x="222" y="66"/>
                      </a:lnTo>
                      <a:lnTo>
                        <a:pt x="224" y="53"/>
                      </a:lnTo>
                      <a:lnTo>
                        <a:pt x="230" y="44"/>
                      </a:lnTo>
                      <a:lnTo>
                        <a:pt x="257" y="50"/>
                      </a:lnTo>
                      <a:lnTo>
                        <a:pt x="279" y="50"/>
                      </a:lnTo>
                      <a:lnTo>
                        <a:pt x="298" y="50"/>
                      </a:lnTo>
                      <a:lnTo>
                        <a:pt x="314" y="58"/>
                      </a:lnTo>
                      <a:lnTo>
                        <a:pt x="322" y="64"/>
                      </a:lnTo>
                      <a:lnTo>
                        <a:pt x="338" y="61"/>
                      </a:lnTo>
                      <a:lnTo>
                        <a:pt x="349" y="55"/>
                      </a:lnTo>
                      <a:lnTo>
                        <a:pt x="355" y="50"/>
                      </a:lnTo>
                      <a:lnTo>
                        <a:pt x="373" y="50"/>
                      </a:lnTo>
                      <a:lnTo>
                        <a:pt x="384" y="44"/>
                      </a:lnTo>
                      <a:lnTo>
                        <a:pt x="399" y="39"/>
                      </a:lnTo>
                      <a:lnTo>
                        <a:pt x="408" y="39"/>
                      </a:lnTo>
                      <a:lnTo>
                        <a:pt x="406" y="58"/>
                      </a:lnTo>
                      <a:lnTo>
                        <a:pt x="401" y="66"/>
                      </a:lnTo>
                      <a:lnTo>
                        <a:pt x="393" y="75"/>
                      </a:lnTo>
                      <a:lnTo>
                        <a:pt x="384" y="75"/>
                      </a:lnTo>
                      <a:lnTo>
                        <a:pt x="382" y="75"/>
                      </a:lnTo>
                      <a:lnTo>
                        <a:pt x="371" y="77"/>
                      </a:lnTo>
                      <a:lnTo>
                        <a:pt x="362" y="88"/>
                      </a:lnTo>
                      <a:lnTo>
                        <a:pt x="353" y="86"/>
                      </a:lnTo>
                      <a:lnTo>
                        <a:pt x="344" y="80"/>
                      </a:lnTo>
                      <a:lnTo>
                        <a:pt x="336" y="86"/>
                      </a:lnTo>
                      <a:lnTo>
                        <a:pt x="327" y="88"/>
                      </a:lnTo>
                      <a:lnTo>
                        <a:pt x="320" y="88"/>
                      </a:lnTo>
                      <a:lnTo>
                        <a:pt x="314" y="94"/>
                      </a:lnTo>
                      <a:lnTo>
                        <a:pt x="296" y="94"/>
                      </a:lnTo>
                      <a:lnTo>
                        <a:pt x="290" y="86"/>
                      </a:lnTo>
                      <a:lnTo>
                        <a:pt x="281" y="75"/>
                      </a:lnTo>
                      <a:lnTo>
                        <a:pt x="270" y="86"/>
                      </a:lnTo>
                      <a:lnTo>
                        <a:pt x="263" y="94"/>
                      </a:lnTo>
                      <a:lnTo>
                        <a:pt x="254" y="94"/>
                      </a:lnTo>
                      <a:lnTo>
                        <a:pt x="239" y="75"/>
                      </a:lnTo>
                      <a:lnTo>
                        <a:pt x="235" y="77"/>
                      </a:lnTo>
                      <a:lnTo>
                        <a:pt x="226" y="77"/>
                      </a:lnTo>
                      <a:lnTo>
                        <a:pt x="219" y="88"/>
                      </a:lnTo>
                      <a:lnTo>
                        <a:pt x="206" y="86"/>
                      </a:lnTo>
                      <a:lnTo>
                        <a:pt x="193" y="86"/>
                      </a:lnTo>
                      <a:lnTo>
                        <a:pt x="186" y="80"/>
                      </a:lnTo>
                      <a:lnTo>
                        <a:pt x="178" y="75"/>
                      </a:lnTo>
                      <a:lnTo>
                        <a:pt x="165" y="77"/>
                      </a:lnTo>
                      <a:lnTo>
                        <a:pt x="151" y="88"/>
                      </a:lnTo>
                      <a:lnTo>
                        <a:pt x="143" y="86"/>
                      </a:lnTo>
                      <a:lnTo>
                        <a:pt x="129" y="80"/>
                      </a:lnTo>
                      <a:lnTo>
                        <a:pt x="114" y="72"/>
                      </a:lnTo>
                      <a:lnTo>
                        <a:pt x="101" y="72"/>
                      </a:lnTo>
                      <a:lnTo>
                        <a:pt x="75" y="64"/>
                      </a:lnTo>
                      <a:lnTo>
                        <a:pt x="57" y="58"/>
                      </a:lnTo>
                      <a:lnTo>
                        <a:pt x="46" y="55"/>
                      </a:lnTo>
                      <a:lnTo>
                        <a:pt x="29" y="53"/>
                      </a:lnTo>
                      <a:lnTo>
                        <a:pt x="18" y="41"/>
                      </a:lnTo>
                      <a:lnTo>
                        <a:pt x="7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7552080" y="2941560"/>
                  <a:ext cx="269640" cy="289080"/>
                </a:xfrm>
                <a:custGeom>
                  <a:avLst/>
                  <a:gdLst/>
                  <a:ahLst/>
                  <a:rect l="l" t="t" r="r" b="b"/>
                  <a:pathLst>
                    <a:path w="186" h="182">
                      <a:moveTo>
                        <a:pt x="46" y="0"/>
                      </a:moveTo>
                      <a:lnTo>
                        <a:pt x="90" y="3"/>
                      </a:lnTo>
                      <a:lnTo>
                        <a:pt x="132" y="3"/>
                      </a:lnTo>
                      <a:lnTo>
                        <a:pt x="154" y="0"/>
                      </a:lnTo>
                      <a:lnTo>
                        <a:pt x="185" y="17"/>
                      </a:lnTo>
                      <a:lnTo>
                        <a:pt x="165" y="22"/>
                      </a:lnTo>
                      <a:lnTo>
                        <a:pt x="154" y="31"/>
                      </a:lnTo>
                      <a:lnTo>
                        <a:pt x="148" y="36"/>
                      </a:lnTo>
                      <a:lnTo>
                        <a:pt x="143" y="42"/>
                      </a:lnTo>
                      <a:lnTo>
                        <a:pt x="143" y="47"/>
                      </a:lnTo>
                      <a:lnTo>
                        <a:pt x="143" y="56"/>
                      </a:lnTo>
                      <a:lnTo>
                        <a:pt x="130" y="61"/>
                      </a:lnTo>
                      <a:lnTo>
                        <a:pt x="119" y="61"/>
                      </a:lnTo>
                      <a:lnTo>
                        <a:pt x="115" y="64"/>
                      </a:lnTo>
                      <a:lnTo>
                        <a:pt x="104" y="64"/>
                      </a:lnTo>
                      <a:lnTo>
                        <a:pt x="99" y="56"/>
                      </a:lnTo>
                      <a:lnTo>
                        <a:pt x="90" y="45"/>
                      </a:lnTo>
                      <a:lnTo>
                        <a:pt x="81" y="36"/>
                      </a:lnTo>
                      <a:lnTo>
                        <a:pt x="64" y="36"/>
                      </a:lnTo>
                      <a:lnTo>
                        <a:pt x="59" y="36"/>
                      </a:lnTo>
                      <a:lnTo>
                        <a:pt x="55" y="50"/>
                      </a:lnTo>
                      <a:lnTo>
                        <a:pt x="57" y="64"/>
                      </a:lnTo>
                      <a:lnTo>
                        <a:pt x="57" y="72"/>
                      </a:lnTo>
                      <a:lnTo>
                        <a:pt x="59" y="81"/>
                      </a:lnTo>
                      <a:lnTo>
                        <a:pt x="68" y="78"/>
                      </a:lnTo>
                      <a:lnTo>
                        <a:pt x="81" y="70"/>
                      </a:lnTo>
                      <a:lnTo>
                        <a:pt x="90" y="70"/>
                      </a:lnTo>
                      <a:lnTo>
                        <a:pt x="97" y="75"/>
                      </a:lnTo>
                      <a:lnTo>
                        <a:pt x="97" y="81"/>
                      </a:lnTo>
                      <a:lnTo>
                        <a:pt x="93" y="92"/>
                      </a:lnTo>
                      <a:lnTo>
                        <a:pt x="90" y="97"/>
                      </a:lnTo>
                      <a:lnTo>
                        <a:pt x="90" y="103"/>
                      </a:lnTo>
                      <a:lnTo>
                        <a:pt x="88" y="111"/>
                      </a:lnTo>
                      <a:lnTo>
                        <a:pt x="93" y="120"/>
                      </a:lnTo>
                      <a:lnTo>
                        <a:pt x="101" y="131"/>
                      </a:lnTo>
                      <a:lnTo>
                        <a:pt x="104" y="128"/>
                      </a:lnTo>
                      <a:lnTo>
                        <a:pt x="104" y="139"/>
                      </a:lnTo>
                      <a:lnTo>
                        <a:pt x="99" y="148"/>
                      </a:lnTo>
                      <a:lnTo>
                        <a:pt x="95" y="156"/>
                      </a:lnTo>
                      <a:lnTo>
                        <a:pt x="93" y="170"/>
                      </a:lnTo>
                      <a:lnTo>
                        <a:pt x="84" y="175"/>
                      </a:lnTo>
                      <a:lnTo>
                        <a:pt x="77" y="175"/>
                      </a:lnTo>
                      <a:lnTo>
                        <a:pt x="70" y="175"/>
                      </a:lnTo>
                      <a:lnTo>
                        <a:pt x="70" y="164"/>
                      </a:lnTo>
                      <a:lnTo>
                        <a:pt x="68" y="145"/>
                      </a:lnTo>
                      <a:lnTo>
                        <a:pt x="62" y="139"/>
                      </a:lnTo>
                      <a:lnTo>
                        <a:pt x="59" y="131"/>
                      </a:lnTo>
                      <a:lnTo>
                        <a:pt x="62" y="114"/>
                      </a:lnTo>
                      <a:lnTo>
                        <a:pt x="55" y="109"/>
                      </a:lnTo>
                      <a:lnTo>
                        <a:pt x="40" y="114"/>
                      </a:lnTo>
                      <a:lnTo>
                        <a:pt x="33" y="109"/>
                      </a:lnTo>
                      <a:lnTo>
                        <a:pt x="26" y="117"/>
                      </a:lnTo>
                      <a:lnTo>
                        <a:pt x="33" y="123"/>
                      </a:lnTo>
                      <a:lnTo>
                        <a:pt x="44" y="128"/>
                      </a:lnTo>
                      <a:lnTo>
                        <a:pt x="46" y="134"/>
                      </a:lnTo>
                      <a:lnTo>
                        <a:pt x="53" y="145"/>
                      </a:lnTo>
                      <a:lnTo>
                        <a:pt x="53" y="153"/>
                      </a:lnTo>
                      <a:lnTo>
                        <a:pt x="46" y="167"/>
                      </a:lnTo>
                      <a:lnTo>
                        <a:pt x="37" y="178"/>
                      </a:lnTo>
                      <a:lnTo>
                        <a:pt x="33" y="181"/>
                      </a:lnTo>
                      <a:lnTo>
                        <a:pt x="33" y="173"/>
                      </a:lnTo>
                      <a:lnTo>
                        <a:pt x="33" y="164"/>
                      </a:lnTo>
                      <a:lnTo>
                        <a:pt x="35" y="153"/>
                      </a:lnTo>
                      <a:lnTo>
                        <a:pt x="24" y="145"/>
                      </a:lnTo>
                      <a:lnTo>
                        <a:pt x="13" y="136"/>
                      </a:lnTo>
                      <a:lnTo>
                        <a:pt x="11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1" y="100"/>
                      </a:lnTo>
                      <a:lnTo>
                        <a:pt x="18" y="86"/>
                      </a:lnTo>
                      <a:lnTo>
                        <a:pt x="24" y="72"/>
                      </a:lnTo>
                      <a:lnTo>
                        <a:pt x="26" y="58"/>
                      </a:lnTo>
                      <a:lnTo>
                        <a:pt x="24" y="45"/>
                      </a:lnTo>
                      <a:lnTo>
                        <a:pt x="29" y="39"/>
                      </a:lnTo>
                      <a:lnTo>
                        <a:pt x="33" y="33"/>
                      </a:lnTo>
                      <a:lnTo>
                        <a:pt x="26" y="22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272360" y="2813040"/>
                  <a:ext cx="295920" cy="395280"/>
                </a:xfrm>
                <a:custGeom>
                  <a:avLst/>
                  <a:gdLst/>
                  <a:ahLst/>
                  <a:rect l="l" t="t" r="r" b="b"/>
                  <a:pathLst>
                    <a:path w="204" h="249">
                      <a:moveTo>
                        <a:pt x="0" y="83"/>
                      </a:moveTo>
                      <a:lnTo>
                        <a:pt x="41" y="44"/>
                      </a:lnTo>
                      <a:lnTo>
                        <a:pt x="63" y="28"/>
                      </a:lnTo>
                      <a:lnTo>
                        <a:pt x="74" y="14"/>
                      </a:lnTo>
                      <a:lnTo>
                        <a:pt x="107" y="0"/>
                      </a:lnTo>
                      <a:lnTo>
                        <a:pt x="124" y="30"/>
                      </a:lnTo>
                      <a:lnTo>
                        <a:pt x="142" y="17"/>
                      </a:lnTo>
                      <a:lnTo>
                        <a:pt x="148" y="8"/>
                      </a:lnTo>
                      <a:lnTo>
                        <a:pt x="164" y="0"/>
                      </a:lnTo>
                      <a:lnTo>
                        <a:pt x="172" y="0"/>
                      </a:lnTo>
                      <a:lnTo>
                        <a:pt x="175" y="11"/>
                      </a:lnTo>
                      <a:lnTo>
                        <a:pt x="175" y="19"/>
                      </a:lnTo>
                      <a:lnTo>
                        <a:pt x="166" y="33"/>
                      </a:lnTo>
                      <a:lnTo>
                        <a:pt x="166" y="41"/>
                      </a:lnTo>
                      <a:lnTo>
                        <a:pt x="190" y="77"/>
                      </a:lnTo>
                      <a:lnTo>
                        <a:pt x="194" y="99"/>
                      </a:lnTo>
                      <a:lnTo>
                        <a:pt x="201" y="99"/>
                      </a:lnTo>
                      <a:lnTo>
                        <a:pt x="203" y="110"/>
                      </a:lnTo>
                      <a:lnTo>
                        <a:pt x="194" y="121"/>
                      </a:lnTo>
                      <a:lnTo>
                        <a:pt x="188" y="116"/>
                      </a:lnTo>
                      <a:lnTo>
                        <a:pt x="172" y="124"/>
                      </a:lnTo>
                      <a:lnTo>
                        <a:pt x="175" y="146"/>
                      </a:lnTo>
                      <a:lnTo>
                        <a:pt x="157" y="160"/>
                      </a:lnTo>
                      <a:lnTo>
                        <a:pt x="157" y="196"/>
                      </a:lnTo>
                      <a:lnTo>
                        <a:pt x="157" y="220"/>
                      </a:lnTo>
                      <a:lnTo>
                        <a:pt x="148" y="231"/>
                      </a:lnTo>
                      <a:lnTo>
                        <a:pt x="142" y="248"/>
                      </a:lnTo>
                      <a:lnTo>
                        <a:pt x="133" y="245"/>
                      </a:lnTo>
                      <a:lnTo>
                        <a:pt x="120" y="237"/>
                      </a:lnTo>
                      <a:lnTo>
                        <a:pt x="109" y="229"/>
                      </a:lnTo>
                      <a:lnTo>
                        <a:pt x="100" y="215"/>
                      </a:lnTo>
                      <a:lnTo>
                        <a:pt x="70" y="218"/>
                      </a:lnTo>
                      <a:lnTo>
                        <a:pt x="44" y="209"/>
                      </a:lnTo>
                      <a:lnTo>
                        <a:pt x="26" y="187"/>
                      </a:lnTo>
                      <a:lnTo>
                        <a:pt x="15" y="171"/>
                      </a:lnTo>
                      <a:lnTo>
                        <a:pt x="7" y="157"/>
                      </a:lnTo>
                      <a:lnTo>
                        <a:pt x="7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900200" y="3038400"/>
                  <a:ext cx="567360" cy="372960"/>
                </a:xfrm>
                <a:custGeom>
                  <a:avLst/>
                  <a:gdLst/>
                  <a:ahLst/>
                  <a:rect l="l" t="t" r="r" b="b"/>
                  <a:pathLst>
                    <a:path w="391" h="235">
                      <a:moveTo>
                        <a:pt x="0" y="0"/>
                      </a:moveTo>
                      <a:lnTo>
                        <a:pt x="35" y="3"/>
                      </a:lnTo>
                      <a:lnTo>
                        <a:pt x="64" y="6"/>
                      </a:lnTo>
                      <a:lnTo>
                        <a:pt x="77" y="39"/>
                      </a:lnTo>
                      <a:lnTo>
                        <a:pt x="79" y="50"/>
                      </a:lnTo>
                      <a:lnTo>
                        <a:pt x="83" y="56"/>
                      </a:lnTo>
                      <a:lnTo>
                        <a:pt x="92" y="47"/>
                      </a:lnTo>
                      <a:lnTo>
                        <a:pt x="107" y="47"/>
                      </a:lnTo>
                      <a:lnTo>
                        <a:pt x="116" y="56"/>
                      </a:lnTo>
                      <a:lnTo>
                        <a:pt x="121" y="53"/>
                      </a:lnTo>
                      <a:lnTo>
                        <a:pt x="134" y="39"/>
                      </a:lnTo>
                      <a:lnTo>
                        <a:pt x="136" y="39"/>
                      </a:lnTo>
                      <a:lnTo>
                        <a:pt x="147" y="31"/>
                      </a:lnTo>
                      <a:lnTo>
                        <a:pt x="158" y="31"/>
                      </a:lnTo>
                      <a:lnTo>
                        <a:pt x="193" y="47"/>
                      </a:lnTo>
                      <a:lnTo>
                        <a:pt x="208" y="47"/>
                      </a:lnTo>
                      <a:lnTo>
                        <a:pt x="223" y="61"/>
                      </a:lnTo>
                      <a:lnTo>
                        <a:pt x="239" y="67"/>
                      </a:lnTo>
                      <a:lnTo>
                        <a:pt x="252" y="78"/>
                      </a:lnTo>
                      <a:lnTo>
                        <a:pt x="263" y="81"/>
                      </a:lnTo>
                      <a:lnTo>
                        <a:pt x="291" y="92"/>
                      </a:lnTo>
                      <a:lnTo>
                        <a:pt x="305" y="111"/>
                      </a:lnTo>
                      <a:lnTo>
                        <a:pt x="311" y="123"/>
                      </a:lnTo>
                      <a:lnTo>
                        <a:pt x="309" y="128"/>
                      </a:lnTo>
                      <a:lnTo>
                        <a:pt x="320" y="139"/>
                      </a:lnTo>
                      <a:lnTo>
                        <a:pt x="329" y="142"/>
                      </a:lnTo>
                      <a:lnTo>
                        <a:pt x="333" y="145"/>
                      </a:lnTo>
                      <a:lnTo>
                        <a:pt x="344" y="148"/>
                      </a:lnTo>
                      <a:lnTo>
                        <a:pt x="362" y="164"/>
                      </a:lnTo>
                      <a:lnTo>
                        <a:pt x="362" y="176"/>
                      </a:lnTo>
                      <a:lnTo>
                        <a:pt x="372" y="187"/>
                      </a:lnTo>
                      <a:lnTo>
                        <a:pt x="375" y="192"/>
                      </a:lnTo>
                      <a:lnTo>
                        <a:pt x="390" y="215"/>
                      </a:lnTo>
                      <a:lnTo>
                        <a:pt x="377" y="234"/>
                      </a:lnTo>
                      <a:lnTo>
                        <a:pt x="372" y="234"/>
                      </a:lnTo>
                      <a:lnTo>
                        <a:pt x="359" y="234"/>
                      </a:lnTo>
                      <a:lnTo>
                        <a:pt x="355" y="226"/>
                      </a:lnTo>
                      <a:lnTo>
                        <a:pt x="348" y="226"/>
                      </a:lnTo>
                      <a:lnTo>
                        <a:pt x="342" y="228"/>
                      </a:lnTo>
                      <a:lnTo>
                        <a:pt x="309" y="184"/>
                      </a:lnTo>
                      <a:lnTo>
                        <a:pt x="289" y="187"/>
                      </a:lnTo>
                      <a:lnTo>
                        <a:pt x="269" y="184"/>
                      </a:lnTo>
                      <a:lnTo>
                        <a:pt x="263" y="189"/>
                      </a:lnTo>
                      <a:lnTo>
                        <a:pt x="256" y="198"/>
                      </a:lnTo>
                      <a:lnTo>
                        <a:pt x="254" y="192"/>
                      </a:lnTo>
                      <a:lnTo>
                        <a:pt x="245" y="206"/>
                      </a:lnTo>
                      <a:lnTo>
                        <a:pt x="232" y="226"/>
                      </a:lnTo>
                      <a:lnTo>
                        <a:pt x="221" y="217"/>
                      </a:lnTo>
                      <a:lnTo>
                        <a:pt x="208" y="212"/>
                      </a:lnTo>
                      <a:lnTo>
                        <a:pt x="199" y="212"/>
                      </a:lnTo>
                      <a:lnTo>
                        <a:pt x="186" y="206"/>
                      </a:lnTo>
                      <a:lnTo>
                        <a:pt x="180" y="212"/>
                      </a:lnTo>
                      <a:lnTo>
                        <a:pt x="171" y="184"/>
                      </a:lnTo>
                      <a:lnTo>
                        <a:pt x="156" y="159"/>
                      </a:lnTo>
                      <a:lnTo>
                        <a:pt x="140" y="128"/>
                      </a:lnTo>
                      <a:lnTo>
                        <a:pt x="127" y="111"/>
                      </a:lnTo>
                      <a:lnTo>
                        <a:pt x="116" y="95"/>
                      </a:lnTo>
                      <a:lnTo>
                        <a:pt x="92" y="95"/>
                      </a:lnTo>
                      <a:lnTo>
                        <a:pt x="70" y="103"/>
                      </a:lnTo>
                      <a:lnTo>
                        <a:pt x="59" y="92"/>
                      </a:lnTo>
                      <a:lnTo>
                        <a:pt x="37" y="84"/>
                      </a:lnTo>
                      <a:lnTo>
                        <a:pt x="26" y="75"/>
                      </a:lnTo>
                      <a:lnTo>
                        <a:pt x="26" y="42"/>
                      </a:lnTo>
                      <a:lnTo>
                        <a:pt x="28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854760" y="2773440"/>
                  <a:ext cx="340560" cy="492120"/>
                </a:xfrm>
                <a:custGeom>
                  <a:avLst/>
                  <a:gdLst/>
                  <a:ahLst/>
                  <a:rect l="l" t="t" r="r" b="b"/>
                  <a:pathLst>
                    <a:path w="235" h="310">
                      <a:moveTo>
                        <a:pt x="0" y="8"/>
                      </a:moveTo>
                      <a:lnTo>
                        <a:pt x="24" y="0"/>
                      </a:lnTo>
                      <a:lnTo>
                        <a:pt x="52" y="14"/>
                      </a:lnTo>
                      <a:lnTo>
                        <a:pt x="56" y="28"/>
                      </a:lnTo>
                      <a:lnTo>
                        <a:pt x="56" y="33"/>
                      </a:lnTo>
                      <a:lnTo>
                        <a:pt x="63" y="36"/>
                      </a:lnTo>
                      <a:lnTo>
                        <a:pt x="63" y="42"/>
                      </a:lnTo>
                      <a:lnTo>
                        <a:pt x="72" y="45"/>
                      </a:lnTo>
                      <a:lnTo>
                        <a:pt x="72" y="56"/>
                      </a:lnTo>
                      <a:lnTo>
                        <a:pt x="100" y="89"/>
                      </a:lnTo>
                      <a:lnTo>
                        <a:pt x="104" y="89"/>
                      </a:lnTo>
                      <a:lnTo>
                        <a:pt x="108" y="97"/>
                      </a:lnTo>
                      <a:lnTo>
                        <a:pt x="113" y="106"/>
                      </a:lnTo>
                      <a:lnTo>
                        <a:pt x="117" y="106"/>
                      </a:lnTo>
                      <a:lnTo>
                        <a:pt x="137" y="117"/>
                      </a:lnTo>
                      <a:lnTo>
                        <a:pt x="173" y="122"/>
                      </a:lnTo>
                      <a:lnTo>
                        <a:pt x="176" y="161"/>
                      </a:lnTo>
                      <a:lnTo>
                        <a:pt x="184" y="167"/>
                      </a:lnTo>
                      <a:lnTo>
                        <a:pt x="182" y="181"/>
                      </a:lnTo>
                      <a:lnTo>
                        <a:pt x="204" y="200"/>
                      </a:lnTo>
                      <a:lnTo>
                        <a:pt x="223" y="209"/>
                      </a:lnTo>
                      <a:lnTo>
                        <a:pt x="223" y="273"/>
                      </a:lnTo>
                      <a:lnTo>
                        <a:pt x="234" y="298"/>
                      </a:lnTo>
                      <a:lnTo>
                        <a:pt x="228" y="306"/>
                      </a:lnTo>
                      <a:lnTo>
                        <a:pt x="215" y="309"/>
                      </a:lnTo>
                      <a:lnTo>
                        <a:pt x="212" y="287"/>
                      </a:lnTo>
                      <a:lnTo>
                        <a:pt x="191" y="309"/>
                      </a:lnTo>
                      <a:lnTo>
                        <a:pt x="176" y="276"/>
                      </a:lnTo>
                      <a:lnTo>
                        <a:pt x="167" y="253"/>
                      </a:lnTo>
                      <a:lnTo>
                        <a:pt x="141" y="223"/>
                      </a:lnTo>
                      <a:lnTo>
                        <a:pt x="134" y="223"/>
                      </a:lnTo>
                      <a:lnTo>
                        <a:pt x="111" y="206"/>
                      </a:lnTo>
                      <a:lnTo>
                        <a:pt x="106" y="189"/>
                      </a:lnTo>
                      <a:lnTo>
                        <a:pt x="106" y="178"/>
                      </a:lnTo>
                      <a:lnTo>
                        <a:pt x="87" y="134"/>
                      </a:lnTo>
                      <a:lnTo>
                        <a:pt x="78" y="106"/>
                      </a:lnTo>
                      <a:lnTo>
                        <a:pt x="54" y="81"/>
                      </a:lnTo>
                      <a:lnTo>
                        <a:pt x="22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459560" y="2244600"/>
                  <a:ext cx="334800" cy="541440"/>
                </a:xfrm>
                <a:custGeom>
                  <a:avLst/>
                  <a:gdLst/>
                  <a:ahLst/>
                  <a:rect l="l" t="t" r="r" b="b"/>
                  <a:pathLst>
                    <a:path w="231" h="341">
                      <a:moveTo>
                        <a:pt x="15" y="0"/>
                      </a:moveTo>
                      <a:lnTo>
                        <a:pt x="35" y="0"/>
                      </a:lnTo>
                      <a:lnTo>
                        <a:pt x="58" y="36"/>
                      </a:lnTo>
                      <a:lnTo>
                        <a:pt x="53" y="70"/>
                      </a:lnTo>
                      <a:lnTo>
                        <a:pt x="66" y="81"/>
                      </a:lnTo>
                      <a:lnTo>
                        <a:pt x="73" y="103"/>
                      </a:lnTo>
                      <a:lnTo>
                        <a:pt x="88" y="114"/>
                      </a:lnTo>
                      <a:lnTo>
                        <a:pt x="106" y="117"/>
                      </a:lnTo>
                      <a:lnTo>
                        <a:pt x="133" y="134"/>
                      </a:lnTo>
                      <a:lnTo>
                        <a:pt x="150" y="153"/>
                      </a:lnTo>
                      <a:lnTo>
                        <a:pt x="155" y="153"/>
                      </a:lnTo>
                      <a:lnTo>
                        <a:pt x="177" y="170"/>
                      </a:lnTo>
                      <a:lnTo>
                        <a:pt x="177" y="212"/>
                      </a:lnTo>
                      <a:lnTo>
                        <a:pt x="184" y="231"/>
                      </a:lnTo>
                      <a:lnTo>
                        <a:pt x="190" y="242"/>
                      </a:lnTo>
                      <a:lnTo>
                        <a:pt x="199" y="254"/>
                      </a:lnTo>
                      <a:lnTo>
                        <a:pt x="208" y="268"/>
                      </a:lnTo>
                      <a:lnTo>
                        <a:pt x="212" y="284"/>
                      </a:lnTo>
                      <a:lnTo>
                        <a:pt x="230" y="298"/>
                      </a:lnTo>
                      <a:lnTo>
                        <a:pt x="228" y="315"/>
                      </a:lnTo>
                      <a:lnTo>
                        <a:pt x="210" y="318"/>
                      </a:lnTo>
                      <a:lnTo>
                        <a:pt x="203" y="304"/>
                      </a:lnTo>
                      <a:lnTo>
                        <a:pt x="190" y="304"/>
                      </a:lnTo>
                      <a:lnTo>
                        <a:pt x="190" y="340"/>
                      </a:lnTo>
                      <a:lnTo>
                        <a:pt x="179" y="340"/>
                      </a:lnTo>
                      <a:lnTo>
                        <a:pt x="166" y="323"/>
                      </a:lnTo>
                      <a:lnTo>
                        <a:pt x="157" y="315"/>
                      </a:lnTo>
                      <a:lnTo>
                        <a:pt x="157" y="295"/>
                      </a:lnTo>
                      <a:lnTo>
                        <a:pt x="137" y="295"/>
                      </a:lnTo>
                      <a:lnTo>
                        <a:pt x="130" y="315"/>
                      </a:lnTo>
                      <a:lnTo>
                        <a:pt x="124" y="295"/>
                      </a:lnTo>
                      <a:lnTo>
                        <a:pt x="122" y="276"/>
                      </a:lnTo>
                      <a:lnTo>
                        <a:pt x="146" y="268"/>
                      </a:lnTo>
                      <a:lnTo>
                        <a:pt x="159" y="273"/>
                      </a:lnTo>
                      <a:lnTo>
                        <a:pt x="161" y="240"/>
                      </a:lnTo>
                      <a:lnTo>
                        <a:pt x="148" y="229"/>
                      </a:lnTo>
                      <a:lnTo>
                        <a:pt x="139" y="201"/>
                      </a:lnTo>
                      <a:lnTo>
                        <a:pt x="133" y="167"/>
                      </a:lnTo>
                      <a:lnTo>
                        <a:pt x="108" y="156"/>
                      </a:lnTo>
                      <a:lnTo>
                        <a:pt x="97" y="142"/>
                      </a:lnTo>
                      <a:lnTo>
                        <a:pt x="77" y="134"/>
                      </a:lnTo>
                      <a:lnTo>
                        <a:pt x="88" y="164"/>
                      </a:lnTo>
                      <a:lnTo>
                        <a:pt x="66" y="178"/>
                      </a:lnTo>
                      <a:lnTo>
                        <a:pt x="53" y="145"/>
                      </a:lnTo>
                      <a:lnTo>
                        <a:pt x="42" y="137"/>
                      </a:lnTo>
                      <a:lnTo>
                        <a:pt x="42" y="117"/>
                      </a:lnTo>
                      <a:lnTo>
                        <a:pt x="27" y="95"/>
                      </a:lnTo>
                      <a:lnTo>
                        <a:pt x="9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8" y="61"/>
                      </a:lnTo>
                      <a:lnTo>
                        <a:pt x="22" y="47"/>
                      </a:lnTo>
                      <a:lnTo>
                        <a:pt x="18" y="28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385400" y="1328760"/>
                  <a:ext cx="244800" cy="458640"/>
                </a:xfrm>
                <a:custGeom>
                  <a:avLst/>
                  <a:gdLst/>
                  <a:ahLst/>
                  <a:rect l="l" t="t" r="r" b="b"/>
                  <a:pathLst>
                    <a:path w="169" h="289">
                      <a:moveTo>
                        <a:pt x="35" y="0"/>
                      </a:moveTo>
                      <a:lnTo>
                        <a:pt x="68" y="20"/>
                      </a:lnTo>
                      <a:lnTo>
                        <a:pt x="87" y="36"/>
                      </a:lnTo>
                      <a:lnTo>
                        <a:pt x="100" y="62"/>
                      </a:lnTo>
                      <a:lnTo>
                        <a:pt x="111" y="62"/>
                      </a:lnTo>
                      <a:lnTo>
                        <a:pt x="109" y="78"/>
                      </a:lnTo>
                      <a:lnTo>
                        <a:pt x="122" y="89"/>
                      </a:lnTo>
                      <a:lnTo>
                        <a:pt x="131" y="106"/>
                      </a:lnTo>
                      <a:lnTo>
                        <a:pt x="153" y="140"/>
                      </a:lnTo>
                      <a:lnTo>
                        <a:pt x="168" y="179"/>
                      </a:lnTo>
                      <a:lnTo>
                        <a:pt x="140" y="176"/>
                      </a:lnTo>
                      <a:lnTo>
                        <a:pt x="118" y="171"/>
                      </a:lnTo>
                      <a:lnTo>
                        <a:pt x="133" y="199"/>
                      </a:lnTo>
                      <a:lnTo>
                        <a:pt x="133" y="215"/>
                      </a:lnTo>
                      <a:lnTo>
                        <a:pt x="133" y="232"/>
                      </a:lnTo>
                      <a:lnTo>
                        <a:pt x="124" y="224"/>
                      </a:lnTo>
                      <a:lnTo>
                        <a:pt x="113" y="210"/>
                      </a:lnTo>
                      <a:lnTo>
                        <a:pt x="94" y="193"/>
                      </a:lnTo>
                      <a:lnTo>
                        <a:pt x="83" y="185"/>
                      </a:lnTo>
                      <a:lnTo>
                        <a:pt x="65" y="193"/>
                      </a:lnTo>
                      <a:lnTo>
                        <a:pt x="55" y="199"/>
                      </a:lnTo>
                      <a:lnTo>
                        <a:pt x="61" y="213"/>
                      </a:lnTo>
                      <a:lnTo>
                        <a:pt x="79" y="224"/>
                      </a:lnTo>
                      <a:lnTo>
                        <a:pt x="96" y="235"/>
                      </a:lnTo>
                      <a:lnTo>
                        <a:pt x="103" y="254"/>
                      </a:lnTo>
                      <a:lnTo>
                        <a:pt x="100" y="280"/>
                      </a:lnTo>
                      <a:lnTo>
                        <a:pt x="100" y="288"/>
                      </a:lnTo>
                      <a:lnTo>
                        <a:pt x="94" y="288"/>
                      </a:lnTo>
                      <a:lnTo>
                        <a:pt x="83" y="280"/>
                      </a:lnTo>
                      <a:lnTo>
                        <a:pt x="79" y="277"/>
                      </a:lnTo>
                      <a:lnTo>
                        <a:pt x="72" y="271"/>
                      </a:lnTo>
                      <a:lnTo>
                        <a:pt x="65" y="285"/>
                      </a:lnTo>
                      <a:lnTo>
                        <a:pt x="55" y="288"/>
                      </a:lnTo>
                      <a:lnTo>
                        <a:pt x="46" y="277"/>
                      </a:lnTo>
                      <a:lnTo>
                        <a:pt x="46" y="252"/>
                      </a:lnTo>
                      <a:lnTo>
                        <a:pt x="44" y="238"/>
                      </a:lnTo>
                      <a:lnTo>
                        <a:pt x="33" y="229"/>
                      </a:lnTo>
                      <a:lnTo>
                        <a:pt x="22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7" y="187"/>
                      </a:lnTo>
                      <a:lnTo>
                        <a:pt x="15" y="143"/>
                      </a:lnTo>
                      <a:lnTo>
                        <a:pt x="15" y="131"/>
                      </a:lnTo>
                      <a:lnTo>
                        <a:pt x="28" y="129"/>
                      </a:lnTo>
                      <a:lnTo>
                        <a:pt x="39" y="140"/>
                      </a:lnTo>
                      <a:lnTo>
                        <a:pt x="59" y="145"/>
                      </a:lnTo>
                      <a:lnTo>
                        <a:pt x="59" y="126"/>
                      </a:lnTo>
                      <a:lnTo>
                        <a:pt x="50" y="115"/>
                      </a:lnTo>
                      <a:lnTo>
                        <a:pt x="46" y="106"/>
                      </a:lnTo>
                      <a:lnTo>
                        <a:pt x="52" y="106"/>
                      </a:lnTo>
                      <a:lnTo>
                        <a:pt x="57" y="106"/>
                      </a:lnTo>
                      <a:lnTo>
                        <a:pt x="61" y="106"/>
                      </a:lnTo>
                      <a:lnTo>
                        <a:pt x="65" y="106"/>
                      </a:lnTo>
                      <a:lnTo>
                        <a:pt x="72" y="98"/>
                      </a:lnTo>
                      <a:lnTo>
                        <a:pt x="70" y="89"/>
                      </a:lnTo>
                      <a:lnTo>
                        <a:pt x="63" y="70"/>
                      </a:lnTo>
                      <a:lnTo>
                        <a:pt x="50" y="50"/>
                      </a:lnTo>
                      <a:lnTo>
                        <a:pt x="33" y="39"/>
                      </a:lnTo>
                      <a:lnTo>
                        <a:pt x="26" y="28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106760" y="776160"/>
                  <a:ext cx="269640" cy="376200"/>
                </a:xfrm>
                <a:custGeom>
                  <a:avLst/>
                  <a:gdLst/>
                  <a:ahLst/>
                  <a:rect l="l" t="t" r="r" b="b"/>
                  <a:pathLst>
                    <a:path w="186" h="2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4" y="17"/>
                      </a:lnTo>
                      <a:lnTo>
                        <a:pt x="48" y="42"/>
                      </a:lnTo>
                      <a:lnTo>
                        <a:pt x="59" y="69"/>
                      </a:lnTo>
                      <a:lnTo>
                        <a:pt x="77" y="72"/>
                      </a:lnTo>
                      <a:lnTo>
                        <a:pt x="90" y="78"/>
                      </a:lnTo>
                      <a:lnTo>
                        <a:pt x="101" y="89"/>
                      </a:lnTo>
                      <a:lnTo>
                        <a:pt x="115" y="89"/>
                      </a:lnTo>
                      <a:lnTo>
                        <a:pt x="130" y="106"/>
                      </a:lnTo>
                      <a:lnTo>
                        <a:pt x="143" y="119"/>
                      </a:lnTo>
                      <a:lnTo>
                        <a:pt x="159" y="128"/>
                      </a:lnTo>
                      <a:lnTo>
                        <a:pt x="156" y="136"/>
                      </a:lnTo>
                      <a:lnTo>
                        <a:pt x="148" y="142"/>
                      </a:lnTo>
                      <a:lnTo>
                        <a:pt x="139" y="142"/>
                      </a:lnTo>
                      <a:lnTo>
                        <a:pt x="134" y="150"/>
                      </a:lnTo>
                      <a:lnTo>
                        <a:pt x="152" y="167"/>
                      </a:lnTo>
                      <a:lnTo>
                        <a:pt x="165" y="183"/>
                      </a:lnTo>
                      <a:lnTo>
                        <a:pt x="185" y="200"/>
                      </a:lnTo>
                      <a:lnTo>
                        <a:pt x="172" y="219"/>
                      </a:lnTo>
                      <a:lnTo>
                        <a:pt x="161" y="225"/>
                      </a:lnTo>
                      <a:lnTo>
                        <a:pt x="163" y="236"/>
                      </a:lnTo>
                      <a:lnTo>
                        <a:pt x="143" y="236"/>
                      </a:lnTo>
                      <a:lnTo>
                        <a:pt x="137" y="228"/>
                      </a:lnTo>
                      <a:lnTo>
                        <a:pt x="121" y="205"/>
                      </a:lnTo>
                      <a:lnTo>
                        <a:pt x="110" y="186"/>
                      </a:lnTo>
                      <a:lnTo>
                        <a:pt x="93" y="153"/>
                      </a:lnTo>
                      <a:lnTo>
                        <a:pt x="73" y="128"/>
                      </a:lnTo>
                      <a:lnTo>
                        <a:pt x="51" y="92"/>
                      </a:lnTo>
                      <a:lnTo>
                        <a:pt x="37" y="81"/>
                      </a:lnTo>
                      <a:lnTo>
                        <a:pt x="26" y="72"/>
                      </a:lnTo>
                      <a:lnTo>
                        <a:pt x="22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3624840" y="3240"/>
                <a:ext cx="3895560" cy="4390920"/>
                <a:chOff x="3624840" y="3240"/>
                <a:chExt cx="3895560" cy="439092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624840" y="1538280"/>
                  <a:ext cx="1937520" cy="2855880"/>
                </a:xfrm>
                <a:custGeom>
                  <a:avLst/>
                  <a:gdLst/>
                  <a:ahLst/>
                  <a:rect l="l" t="t" r="r" b="b"/>
                  <a:pathLst>
                    <a:path w="1336" h="1799">
                      <a:moveTo>
                        <a:pt x="998" y="215"/>
                      </a:moveTo>
                      <a:lnTo>
                        <a:pt x="1020" y="290"/>
                      </a:lnTo>
                      <a:lnTo>
                        <a:pt x="1061" y="405"/>
                      </a:lnTo>
                      <a:lnTo>
                        <a:pt x="1145" y="589"/>
                      </a:lnTo>
                      <a:lnTo>
                        <a:pt x="1175" y="611"/>
                      </a:lnTo>
                      <a:lnTo>
                        <a:pt x="1195" y="664"/>
                      </a:lnTo>
                      <a:lnTo>
                        <a:pt x="1261" y="662"/>
                      </a:lnTo>
                      <a:lnTo>
                        <a:pt x="1304" y="645"/>
                      </a:lnTo>
                      <a:lnTo>
                        <a:pt x="1335" y="645"/>
                      </a:lnTo>
                      <a:lnTo>
                        <a:pt x="1333" y="718"/>
                      </a:lnTo>
                      <a:lnTo>
                        <a:pt x="1322" y="757"/>
                      </a:lnTo>
                      <a:lnTo>
                        <a:pt x="1202" y="919"/>
                      </a:lnTo>
                      <a:lnTo>
                        <a:pt x="1092" y="1086"/>
                      </a:lnTo>
                      <a:lnTo>
                        <a:pt x="1094" y="1150"/>
                      </a:lnTo>
                      <a:lnTo>
                        <a:pt x="1125" y="1198"/>
                      </a:lnTo>
                      <a:lnTo>
                        <a:pt x="1110" y="1234"/>
                      </a:lnTo>
                      <a:lnTo>
                        <a:pt x="1118" y="1281"/>
                      </a:lnTo>
                      <a:lnTo>
                        <a:pt x="1110" y="1318"/>
                      </a:lnTo>
                      <a:lnTo>
                        <a:pt x="1083" y="1349"/>
                      </a:lnTo>
                      <a:lnTo>
                        <a:pt x="1061" y="1349"/>
                      </a:lnTo>
                      <a:lnTo>
                        <a:pt x="1024" y="1402"/>
                      </a:lnTo>
                      <a:lnTo>
                        <a:pt x="991" y="1463"/>
                      </a:lnTo>
                      <a:lnTo>
                        <a:pt x="998" y="1530"/>
                      </a:lnTo>
                      <a:lnTo>
                        <a:pt x="965" y="1561"/>
                      </a:lnTo>
                      <a:lnTo>
                        <a:pt x="935" y="1630"/>
                      </a:lnTo>
                      <a:lnTo>
                        <a:pt x="899" y="1695"/>
                      </a:lnTo>
                      <a:lnTo>
                        <a:pt x="880" y="1720"/>
                      </a:lnTo>
                      <a:lnTo>
                        <a:pt x="862" y="1725"/>
                      </a:lnTo>
                      <a:lnTo>
                        <a:pt x="832" y="1767"/>
                      </a:lnTo>
                      <a:lnTo>
                        <a:pt x="781" y="1792"/>
                      </a:lnTo>
                      <a:lnTo>
                        <a:pt x="718" y="1798"/>
                      </a:lnTo>
                      <a:lnTo>
                        <a:pt x="683" y="1770"/>
                      </a:lnTo>
                      <a:lnTo>
                        <a:pt x="678" y="1742"/>
                      </a:lnTo>
                      <a:lnTo>
                        <a:pt x="672" y="1706"/>
                      </a:lnTo>
                      <a:lnTo>
                        <a:pt x="648" y="1686"/>
                      </a:lnTo>
                      <a:lnTo>
                        <a:pt x="628" y="1617"/>
                      </a:lnTo>
                      <a:lnTo>
                        <a:pt x="622" y="1583"/>
                      </a:lnTo>
                      <a:lnTo>
                        <a:pt x="619" y="1541"/>
                      </a:lnTo>
                      <a:lnTo>
                        <a:pt x="608" y="1510"/>
                      </a:lnTo>
                      <a:lnTo>
                        <a:pt x="606" y="1491"/>
                      </a:lnTo>
                      <a:lnTo>
                        <a:pt x="587" y="1460"/>
                      </a:lnTo>
                      <a:lnTo>
                        <a:pt x="565" y="1435"/>
                      </a:lnTo>
                      <a:lnTo>
                        <a:pt x="549" y="1393"/>
                      </a:lnTo>
                      <a:lnTo>
                        <a:pt x="538" y="1362"/>
                      </a:lnTo>
                      <a:lnTo>
                        <a:pt x="543" y="1312"/>
                      </a:lnTo>
                      <a:lnTo>
                        <a:pt x="576" y="1240"/>
                      </a:lnTo>
                      <a:lnTo>
                        <a:pt x="582" y="1159"/>
                      </a:lnTo>
                      <a:lnTo>
                        <a:pt x="558" y="1067"/>
                      </a:lnTo>
                      <a:lnTo>
                        <a:pt x="523" y="1030"/>
                      </a:lnTo>
                      <a:lnTo>
                        <a:pt x="499" y="980"/>
                      </a:lnTo>
                      <a:lnTo>
                        <a:pt x="508" y="902"/>
                      </a:lnTo>
                      <a:lnTo>
                        <a:pt x="490" y="843"/>
                      </a:lnTo>
                      <a:lnTo>
                        <a:pt x="449" y="838"/>
                      </a:lnTo>
                      <a:lnTo>
                        <a:pt x="405" y="793"/>
                      </a:lnTo>
                      <a:lnTo>
                        <a:pt x="350" y="768"/>
                      </a:lnTo>
                      <a:lnTo>
                        <a:pt x="293" y="807"/>
                      </a:lnTo>
                      <a:lnTo>
                        <a:pt x="144" y="796"/>
                      </a:lnTo>
                      <a:lnTo>
                        <a:pt x="63" y="698"/>
                      </a:lnTo>
                      <a:lnTo>
                        <a:pt x="0" y="567"/>
                      </a:lnTo>
                      <a:lnTo>
                        <a:pt x="11" y="522"/>
                      </a:lnTo>
                      <a:lnTo>
                        <a:pt x="39" y="489"/>
                      </a:lnTo>
                      <a:lnTo>
                        <a:pt x="53" y="396"/>
                      </a:lnTo>
                      <a:lnTo>
                        <a:pt x="72" y="329"/>
                      </a:lnTo>
                      <a:lnTo>
                        <a:pt x="129" y="260"/>
                      </a:lnTo>
                      <a:lnTo>
                        <a:pt x="188" y="229"/>
                      </a:lnTo>
                      <a:lnTo>
                        <a:pt x="243" y="156"/>
                      </a:lnTo>
                      <a:lnTo>
                        <a:pt x="256" y="126"/>
                      </a:lnTo>
                      <a:lnTo>
                        <a:pt x="328" y="47"/>
                      </a:lnTo>
                      <a:lnTo>
                        <a:pt x="374" y="78"/>
                      </a:lnTo>
                      <a:lnTo>
                        <a:pt x="407" y="75"/>
                      </a:lnTo>
                      <a:lnTo>
                        <a:pt x="446" y="34"/>
                      </a:lnTo>
                      <a:lnTo>
                        <a:pt x="492" y="28"/>
                      </a:lnTo>
                      <a:lnTo>
                        <a:pt x="523" y="39"/>
                      </a:lnTo>
                      <a:lnTo>
                        <a:pt x="552" y="6"/>
                      </a:lnTo>
                      <a:lnTo>
                        <a:pt x="589" y="0"/>
                      </a:lnTo>
                      <a:lnTo>
                        <a:pt x="597" y="61"/>
                      </a:lnTo>
                      <a:lnTo>
                        <a:pt x="622" y="106"/>
                      </a:lnTo>
                      <a:lnTo>
                        <a:pt x="689" y="151"/>
                      </a:lnTo>
                      <a:lnTo>
                        <a:pt x="746" y="159"/>
                      </a:lnTo>
                      <a:lnTo>
                        <a:pt x="753" y="109"/>
                      </a:lnTo>
                      <a:lnTo>
                        <a:pt x="797" y="109"/>
                      </a:lnTo>
                      <a:lnTo>
                        <a:pt x="849" y="140"/>
                      </a:lnTo>
                      <a:lnTo>
                        <a:pt x="906" y="156"/>
                      </a:lnTo>
                      <a:lnTo>
                        <a:pt x="954" y="137"/>
                      </a:lnTo>
                      <a:lnTo>
                        <a:pt x="998" y="215"/>
                      </a:lnTo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"/>
                <p:cNvGrpSpPr/>
                <p:nvPr/>
              </p:nvGrpSpPr>
              <p:grpSpPr>
                <a:xfrm>
                  <a:off x="3756600" y="3240"/>
                  <a:ext cx="858240" cy="984240"/>
                  <a:chOff x="3756600" y="3240"/>
                  <a:chExt cx="858240" cy="984240"/>
                </a:xfrm>
              </p:grpSpPr>
              <p:grpSp>
                <p:nvGrpSpPr>
                  <p:cNvPr id="149" name=""/>
                  <p:cNvGrpSpPr/>
                  <p:nvPr/>
                </p:nvGrpSpPr>
                <p:grpSpPr>
                  <a:xfrm>
                    <a:off x="4095720" y="617400"/>
                    <a:ext cx="269280" cy="370080"/>
                    <a:chOff x="4095720" y="617400"/>
                    <a:chExt cx="269280" cy="370080"/>
                  </a:xfrm>
                </p:grpSpPr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4095720" y="752400"/>
                      <a:ext cx="12744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132">
                          <a:moveTo>
                            <a:pt x="20" y="40"/>
                          </a:moveTo>
                          <a:lnTo>
                            <a:pt x="27" y="26"/>
                          </a:lnTo>
                          <a:lnTo>
                            <a:pt x="42" y="26"/>
                          </a:lnTo>
                          <a:lnTo>
                            <a:pt x="65" y="0"/>
                          </a:lnTo>
                          <a:lnTo>
                            <a:pt x="71" y="17"/>
                          </a:lnTo>
                          <a:lnTo>
                            <a:pt x="83" y="17"/>
                          </a:lnTo>
                          <a:lnTo>
                            <a:pt x="87" y="26"/>
                          </a:lnTo>
                          <a:lnTo>
                            <a:pt x="80" y="40"/>
                          </a:lnTo>
                          <a:lnTo>
                            <a:pt x="71" y="46"/>
                          </a:lnTo>
                          <a:lnTo>
                            <a:pt x="71" y="57"/>
                          </a:lnTo>
                          <a:lnTo>
                            <a:pt x="69" y="63"/>
                          </a:lnTo>
                          <a:lnTo>
                            <a:pt x="67" y="71"/>
                          </a:lnTo>
                          <a:lnTo>
                            <a:pt x="71" y="83"/>
                          </a:lnTo>
                          <a:lnTo>
                            <a:pt x="65" y="94"/>
                          </a:lnTo>
                          <a:lnTo>
                            <a:pt x="58" y="100"/>
                          </a:lnTo>
                          <a:lnTo>
                            <a:pt x="51" y="100"/>
                          </a:lnTo>
                          <a:lnTo>
                            <a:pt x="49" y="103"/>
                          </a:lnTo>
                          <a:lnTo>
                            <a:pt x="47" y="111"/>
                          </a:lnTo>
                          <a:lnTo>
                            <a:pt x="36" y="114"/>
                          </a:lnTo>
                          <a:lnTo>
                            <a:pt x="33" y="111"/>
                          </a:lnTo>
                          <a:lnTo>
                            <a:pt x="25" y="120"/>
                          </a:lnTo>
                          <a:lnTo>
                            <a:pt x="22" y="122"/>
                          </a:lnTo>
                          <a:lnTo>
                            <a:pt x="11" y="131"/>
                          </a:lnTo>
                          <a:lnTo>
                            <a:pt x="7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7" y="91"/>
                          </a:lnTo>
                          <a:lnTo>
                            <a:pt x="13" y="85"/>
                          </a:lnTo>
                          <a:lnTo>
                            <a:pt x="18" y="74"/>
                          </a:lnTo>
                          <a:lnTo>
                            <a:pt x="25" y="74"/>
                          </a:lnTo>
                          <a:lnTo>
                            <a:pt x="29" y="77"/>
                          </a:lnTo>
                          <a:lnTo>
                            <a:pt x="36" y="74"/>
                          </a:lnTo>
                          <a:lnTo>
                            <a:pt x="29" y="71"/>
                          </a:lnTo>
                          <a:lnTo>
                            <a:pt x="20" y="40"/>
                          </a:lnTo>
                        </a:path>
                      </a:pathLst>
                    </a:cu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4211280" y="617400"/>
                      <a:ext cx="153720" cy="37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233">
                          <a:moveTo>
                            <a:pt x="34" y="34"/>
                          </a:moveTo>
                          <a:lnTo>
                            <a:pt x="40" y="25"/>
                          </a:lnTo>
                          <a:lnTo>
                            <a:pt x="60" y="28"/>
                          </a:lnTo>
                          <a:lnTo>
                            <a:pt x="65" y="22"/>
                          </a:lnTo>
                          <a:lnTo>
                            <a:pt x="69" y="14"/>
                          </a:lnTo>
                          <a:lnTo>
                            <a:pt x="74" y="14"/>
                          </a:lnTo>
                          <a:lnTo>
                            <a:pt x="78" y="11"/>
                          </a:lnTo>
                          <a:lnTo>
                            <a:pt x="85" y="6"/>
                          </a:lnTo>
                          <a:lnTo>
                            <a:pt x="94" y="0"/>
                          </a:lnTo>
                          <a:lnTo>
                            <a:pt x="105" y="3"/>
                          </a:lnTo>
                          <a:lnTo>
                            <a:pt x="103" y="14"/>
                          </a:lnTo>
                          <a:lnTo>
                            <a:pt x="98" y="22"/>
                          </a:lnTo>
                          <a:lnTo>
                            <a:pt x="94" y="25"/>
                          </a:lnTo>
                          <a:lnTo>
                            <a:pt x="89" y="28"/>
                          </a:lnTo>
                          <a:lnTo>
                            <a:pt x="76" y="34"/>
                          </a:lnTo>
                          <a:lnTo>
                            <a:pt x="76" y="45"/>
                          </a:lnTo>
                          <a:lnTo>
                            <a:pt x="78" y="50"/>
                          </a:lnTo>
                          <a:lnTo>
                            <a:pt x="92" y="45"/>
                          </a:lnTo>
                          <a:lnTo>
                            <a:pt x="103" y="39"/>
                          </a:lnTo>
                          <a:lnTo>
                            <a:pt x="105" y="45"/>
                          </a:lnTo>
                          <a:lnTo>
                            <a:pt x="105" y="61"/>
                          </a:lnTo>
                          <a:lnTo>
                            <a:pt x="96" y="64"/>
                          </a:lnTo>
                          <a:lnTo>
                            <a:pt x="87" y="64"/>
                          </a:lnTo>
                          <a:lnTo>
                            <a:pt x="80" y="73"/>
                          </a:lnTo>
                          <a:lnTo>
                            <a:pt x="78" y="78"/>
                          </a:lnTo>
                          <a:lnTo>
                            <a:pt x="78" y="87"/>
                          </a:lnTo>
                          <a:lnTo>
                            <a:pt x="85" y="98"/>
                          </a:lnTo>
                          <a:lnTo>
                            <a:pt x="92" y="106"/>
                          </a:lnTo>
                          <a:lnTo>
                            <a:pt x="96" y="115"/>
                          </a:lnTo>
                          <a:lnTo>
                            <a:pt x="98" y="126"/>
                          </a:lnTo>
                          <a:lnTo>
                            <a:pt x="101" y="137"/>
                          </a:lnTo>
                          <a:lnTo>
                            <a:pt x="105" y="151"/>
                          </a:lnTo>
                          <a:lnTo>
                            <a:pt x="105" y="171"/>
                          </a:lnTo>
                          <a:lnTo>
                            <a:pt x="101" y="182"/>
                          </a:lnTo>
                          <a:lnTo>
                            <a:pt x="92" y="190"/>
                          </a:lnTo>
                          <a:lnTo>
                            <a:pt x="89" y="196"/>
                          </a:lnTo>
                          <a:lnTo>
                            <a:pt x="94" y="207"/>
                          </a:lnTo>
                          <a:lnTo>
                            <a:pt x="98" y="218"/>
                          </a:lnTo>
                          <a:lnTo>
                            <a:pt x="85" y="218"/>
                          </a:lnTo>
                          <a:lnTo>
                            <a:pt x="74" y="218"/>
                          </a:lnTo>
                          <a:lnTo>
                            <a:pt x="69" y="215"/>
                          </a:lnTo>
                          <a:lnTo>
                            <a:pt x="60" y="215"/>
                          </a:lnTo>
                          <a:lnTo>
                            <a:pt x="49" y="218"/>
                          </a:lnTo>
                          <a:lnTo>
                            <a:pt x="40" y="224"/>
                          </a:lnTo>
                          <a:lnTo>
                            <a:pt x="34" y="224"/>
                          </a:lnTo>
                          <a:lnTo>
                            <a:pt x="29" y="226"/>
                          </a:lnTo>
                          <a:lnTo>
                            <a:pt x="18" y="232"/>
                          </a:lnTo>
                          <a:lnTo>
                            <a:pt x="16" y="229"/>
                          </a:lnTo>
                          <a:lnTo>
                            <a:pt x="11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1" y="193"/>
                          </a:lnTo>
                          <a:lnTo>
                            <a:pt x="18" y="190"/>
                          </a:lnTo>
                          <a:lnTo>
                            <a:pt x="27" y="190"/>
                          </a:lnTo>
                          <a:lnTo>
                            <a:pt x="27" y="187"/>
                          </a:lnTo>
                          <a:lnTo>
                            <a:pt x="18" y="182"/>
                          </a:lnTo>
                          <a:lnTo>
                            <a:pt x="18" y="173"/>
                          </a:lnTo>
                          <a:lnTo>
                            <a:pt x="18" y="168"/>
                          </a:lnTo>
                          <a:lnTo>
                            <a:pt x="27" y="162"/>
                          </a:lnTo>
                          <a:lnTo>
                            <a:pt x="31" y="159"/>
                          </a:lnTo>
                          <a:lnTo>
                            <a:pt x="36" y="157"/>
                          </a:lnTo>
                          <a:lnTo>
                            <a:pt x="42" y="157"/>
                          </a:lnTo>
                          <a:lnTo>
                            <a:pt x="47" y="154"/>
                          </a:lnTo>
                          <a:lnTo>
                            <a:pt x="49" y="131"/>
                          </a:lnTo>
                          <a:lnTo>
                            <a:pt x="56" y="115"/>
                          </a:lnTo>
                          <a:lnTo>
                            <a:pt x="56" y="106"/>
                          </a:lnTo>
                          <a:lnTo>
                            <a:pt x="40" y="103"/>
                          </a:lnTo>
                          <a:lnTo>
                            <a:pt x="45" y="89"/>
                          </a:lnTo>
                          <a:lnTo>
                            <a:pt x="34" y="81"/>
                          </a:lnTo>
                          <a:lnTo>
                            <a:pt x="22" y="84"/>
                          </a:lnTo>
                          <a:lnTo>
                            <a:pt x="36" y="64"/>
                          </a:lnTo>
                          <a:lnTo>
                            <a:pt x="34" y="34"/>
                          </a:lnTo>
                        </a:path>
                      </a:pathLst>
                    </a:cu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2" name=""/>
                  <p:cNvSpPr/>
                  <p:nvPr/>
                </p:nvSpPr>
                <p:spPr>
                  <a:xfrm>
                    <a:off x="3756600" y="3240"/>
                    <a:ext cx="85824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92" h="390">
                        <a:moveTo>
                          <a:pt x="0" y="389"/>
                        </a:moveTo>
                        <a:lnTo>
                          <a:pt x="37" y="381"/>
                        </a:lnTo>
                        <a:lnTo>
                          <a:pt x="50" y="364"/>
                        </a:lnTo>
                        <a:lnTo>
                          <a:pt x="59" y="353"/>
                        </a:lnTo>
                        <a:lnTo>
                          <a:pt x="63" y="344"/>
                        </a:lnTo>
                        <a:lnTo>
                          <a:pt x="72" y="344"/>
                        </a:lnTo>
                        <a:lnTo>
                          <a:pt x="81" y="336"/>
                        </a:lnTo>
                        <a:lnTo>
                          <a:pt x="92" y="336"/>
                        </a:lnTo>
                        <a:lnTo>
                          <a:pt x="99" y="336"/>
                        </a:lnTo>
                        <a:lnTo>
                          <a:pt x="107" y="336"/>
                        </a:lnTo>
                        <a:lnTo>
                          <a:pt x="112" y="336"/>
                        </a:lnTo>
                        <a:lnTo>
                          <a:pt x="120" y="325"/>
                        </a:lnTo>
                        <a:lnTo>
                          <a:pt x="125" y="316"/>
                        </a:lnTo>
                        <a:lnTo>
                          <a:pt x="136" y="308"/>
                        </a:lnTo>
                        <a:lnTo>
                          <a:pt x="144" y="305"/>
                        </a:lnTo>
                        <a:lnTo>
                          <a:pt x="151" y="299"/>
                        </a:lnTo>
                        <a:lnTo>
                          <a:pt x="160" y="297"/>
                        </a:lnTo>
                        <a:lnTo>
                          <a:pt x="166" y="291"/>
                        </a:lnTo>
                        <a:lnTo>
                          <a:pt x="175" y="285"/>
                        </a:lnTo>
                        <a:lnTo>
                          <a:pt x="184" y="280"/>
                        </a:lnTo>
                        <a:lnTo>
                          <a:pt x="195" y="271"/>
                        </a:lnTo>
                        <a:lnTo>
                          <a:pt x="206" y="274"/>
                        </a:lnTo>
                        <a:lnTo>
                          <a:pt x="223" y="280"/>
                        </a:lnTo>
                        <a:lnTo>
                          <a:pt x="241" y="280"/>
                        </a:lnTo>
                        <a:lnTo>
                          <a:pt x="260" y="271"/>
                        </a:lnTo>
                        <a:lnTo>
                          <a:pt x="269" y="269"/>
                        </a:lnTo>
                        <a:lnTo>
                          <a:pt x="276" y="252"/>
                        </a:lnTo>
                        <a:lnTo>
                          <a:pt x="285" y="241"/>
                        </a:lnTo>
                        <a:lnTo>
                          <a:pt x="300" y="227"/>
                        </a:lnTo>
                        <a:lnTo>
                          <a:pt x="304" y="218"/>
                        </a:lnTo>
                        <a:lnTo>
                          <a:pt x="304" y="207"/>
                        </a:lnTo>
                        <a:lnTo>
                          <a:pt x="317" y="199"/>
                        </a:lnTo>
                        <a:lnTo>
                          <a:pt x="324" y="190"/>
                        </a:lnTo>
                        <a:lnTo>
                          <a:pt x="328" y="182"/>
                        </a:lnTo>
                        <a:lnTo>
                          <a:pt x="333" y="182"/>
                        </a:lnTo>
                        <a:lnTo>
                          <a:pt x="355" y="165"/>
                        </a:lnTo>
                        <a:lnTo>
                          <a:pt x="355" y="182"/>
                        </a:lnTo>
                        <a:lnTo>
                          <a:pt x="350" y="188"/>
                        </a:lnTo>
                        <a:lnTo>
                          <a:pt x="355" y="196"/>
                        </a:lnTo>
                        <a:lnTo>
                          <a:pt x="370" y="199"/>
                        </a:lnTo>
                        <a:lnTo>
                          <a:pt x="379" y="199"/>
                        </a:lnTo>
                        <a:lnTo>
                          <a:pt x="387" y="190"/>
                        </a:lnTo>
                        <a:lnTo>
                          <a:pt x="394" y="182"/>
                        </a:lnTo>
                        <a:lnTo>
                          <a:pt x="394" y="174"/>
                        </a:lnTo>
                        <a:lnTo>
                          <a:pt x="401" y="165"/>
                        </a:lnTo>
                        <a:lnTo>
                          <a:pt x="401" y="157"/>
                        </a:lnTo>
                        <a:lnTo>
                          <a:pt x="407" y="146"/>
                        </a:lnTo>
                        <a:lnTo>
                          <a:pt x="412" y="140"/>
                        </a:lnTo>
                        <a:lnTo>
                          <a:pt x="422" y="140"/>
                        </a:lnTo>
                        <a:lnTo>
                          <a:pt x="444" y="140"/>
                        </a:lnTo>
                        <a:lnTo>
                          <a:pt x="462" y="129"/>
                        </a:lnTo>
                        <a:lnTo>
                          <a:pt x="477" y="112"/>
                        </a:lnTo>
                        <a:lnTo>
                          <a:pt x="495" y="106"/>
                        </a:lnTo>
                        <a:lnTo>
                          <a:pt x="510" y="92"/>
                        </a:lnTo>
                        <a:lnTo>
                          <a:pt x="521" y="70"/>
                        </a:lnTo>
                        <a:lnTo>
                          <a:pt x="545" y="45"/>
                        </a:lnTo>
                        <a:lnTo>
                          <a:pt x="560" y="34"/>
                        </a:lnTo>
                        <a:lnTo>
                          <a:pt x="576" y="22"/>
                        </a:lnTo>
                        <a:lnTo>
                          <a:pt x="591" y="8"/>
                        </a:lnTo>
                        <a:lnTo>
                          <a:pt x="565" y="0"/>
                        </a:lnTo>
                        <a:lnTo>
                          <a:pt x="538" y="0"/>
                        </a:lnTo>
                        <a:lnTo>
                          <a:pt x="512" y="14"/>
                        </a:lnTo>
                        <a:lnTo>
                          <a:pt x="499" y="22"/>
                        </a:lnTo>
                        <a:lnTo>
                          <a:pt x="477" y="28"/>
                        </a:lnTo>
                        <a:lnTo>
                          <a:pt x="453" y="31"/>
                        </a:lnTo>
                        <a:lnTo>
                          <a:pt x="440" y="36"/>
                        </a:lnTo>
                        <a:lnTo>
                          <a:pt x="412" y="50"/>
                        </a:lnTo>
                        <a:lnTo>
                          <a:pt x="394" y="59"/>
                        </a:lnTo>
                        <a:lnTo>
                          <a:pt x="376" y="67"/>
                        </a:lnTo>
                        <a:lnTo>
                          <a:pt x="355" y="73"/>
                        </a:lnTo>
                        <a:lnTo>
                          <a:pt x="333" y="81"/>
                        </a:lnTo>
                        <a:lnTo>
                          <a:pt x="313" y="92"/>
                        </a:lnTo>
                        <a:lnTo>
                          <a:pt x="298" y="106"/>
                        </a:lnTo>
                        <a:lnTo>
                          <a:pt x="285" y="120"/>
                        </a:lnTo>
                        <a:lnTo>
                          <a:pt x="271" y="132"/>
                        </a:lnTo>
                        <a:lnTo>
                          <a:pt x="260" y="140"/>
                        </a:lnTo>
                        <a:lnTo>
                          <a:pt x="236" y="157"/>
                        </a:lnTo>
                        <a:lnTo>
                          <a:pt x="212" y="174"/>
                        </a:lnTo>
                        <a:lnTo>
                          <a:pt x="184" y="190"/>
                        </a:lnTo>
                        <a:lnTo>
                          <a:pt x="164" y="215"/>
                        </a:lnTo>
                        <a:lnTo>
                          <a:pt x="142" y="235"/>
                        </a:lnTo>
                        <a:lnTo>
                          <a:pt x="123" y="246"/>
                        </a:lnTo>
                        <a:lnTo>
                          <a:pt x="103" y="271"/>
                        </a:lnTo>
                        <a:lnTo>
                          <a:pt x="90" y="288"/>
                        </a:lnTo>
                        <a:lnTo>
                          <a:pt x="72" y="305"/>
                        </a:lnTo>
                        <a:lnTo>
                          <a:pt x="55" y="316"/>
                        </a:lnTo>
                        <a:lnTo>
                          <a:pt x="37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3" name=""/>
                <p:cNvSpPr/>
                <p:nvPr/>
              </p:nvSpPr>
              <p:spPr>
                <a:xfrm>
                  <a:off x="5273640" y="3492360"/>
                  <a:ext cx="256680" cy="600120"/>
                </a:xfrm>
                <a:custGeom>
                  <a:avLst/>
                  <a:gdLst/>
                  <a:ahLst/>
                  <a:rect l="l" t="t" r="r" b="b"/>
                  <a:pathLst>
                    <a:path w="177" h="378">
                      <a:moveTo>
                        <a:pt x="33" y="117"/>
                      </a:moveTo>
                      <a:lnTo>
                        <a:pt x="29" y="193"/>
                      </a:lnTo>
                      <a:lnTo>
                        <a:pt x="13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20" y="371"/>
                      </a:lnTo>
                      <a:lnTo>
                        <a:pt x="33" y="374"/>
                      </a:lnTo>
                      <a:lnTo>
                        <a:pt x="44" y="374"/>
                      </a:lnTo>
                      <a:lnTo>
                        <a:pt x="57" y="377"/>
                      </a:lnTo>
                      <a:lnTo>
                        <a:pt x="64" y="357"/>
                      </a:lnTo>
                      <a:lnTo>
                        <a:pt x="70" y="307"/>
                      </a:lnTo>
                      <a:lnTo>
                        <a:pt x="90" y="274"/>
                      </a:lnTo>
                      <a:lnTo>
                        <a:pt x="95" y="223"/>
                      </a:lnTo>
                      <a:lnTo>
                        <a:pt x="103" y="204"/>
                      </a:lnTo>
                      <a:lnTo>
                        <a:pt x="112" y="190"/>
                      </a:lnTo>
                      <a:lnTo>
                        <a:pt x="119" y="154"/>
                      </a:lnTo>
                      <a:lnTo>
                        <a:pt x="132" y="131"/>
                      </a:lnTo>
                      <a:lnTo>
                        <a:pt x="141" y="114"/>
                      </a:lnTo>
                      <a:lnTo>
                        <a:pt x="150" y="101"/>
                      </a:lnTo>
                      <a:lnTo>
                        <a:pt x="150" y="92"/>
                      </a:lnTo>
                      <a:lnTo>
                        <a:pt x="169" y="73"/>
                      </a:lnTo>
                      <a:lnTo>
                        <a:pt x="172" y="42"/>
                      </a:lnTo>
                      <a:lnTo>
                        <a:pt x="176" y="22"/>
                      </a:lnTo>
                      <a:lnTo>
                        <a:pt x="158" y="14"/>
                      </a:lnTo>
                      <a:lnTo>
                        <a:pt x="147" y="0"/>
                      </a:lnTo>
                      <a:lnTo>
                        <a:pt x="132" y="14"/>
                      </a:lnTo>
                      <a:lnTo>
                        <a:pt x="119" y="47"/>
                      </a:lnTo>
                      <a:lnTo>
                        <a:pt x="103" y="70"/>
                      </a:lnTo>
                      <a:lnTo>
                        <a:pt x="90" y="89"/>
                      </a:lnTo>
                      <a:lnTo>
                        <a:pt x="84" y="89"/>
                      </a:lnTo>
                      <a:lnTo>
                        <a:pt x="70" y="101"/>
                      </a:lnTo>
                      <a:lnTo>
                        <a:pt x="64" y="112"/>
                      </a:lnTo>
                      <a:lnTo>
                        <a:pt x="33" y="117"/>
                      </a:lnTo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051080" y="63360"/>
                  <a:ext cx="3469320" cy="2840040"/>
                </a:xfrm>
                <a:custGeom>
                  <a:avLst/>
                  <a:gdLst/>
                  <a:ahLst/>
                  <a:rect l="l" t="t" r="r" b="b"/>
                  <a:pathLst>
                    <a:path w="2392" h="1789">
                      <a:moveTo>
                        <a:pt x="0" y="803"/>
                      </a:moveTo>
                      <a:lnTo>
                        <a:pt x="22" y="778"/>
                      </a:lnTo>
                      <a:lnTo>
                        <a:pt x="35" y="759"/>
                      </a:lnTo>
                      <a:lnTo>
                        <a:pt x="63" y="759"/>
                      </a:lnTo>
                      <a:lnTo>
                        <a:pt x="94" y="764"/>
                      </a:lnTo>
                      <a:lnTo>
                        <a:pt x="116" y="753"/>
                      </a:lnTo>
                      <a:lnTo>
                        <a:pt x="140" y="750"/>
                      </a:lnTo>
                      <a:lnTo>
                        <a:pt x="142" y="717"/>
                      </a:lnTo>
                      <a:lnTo>
                        <a:pt x="155" y="695"/>
                      </a:lnTo>
                      <a:lnTo>
                        <a:pt x="123" y="669"/>
                      </a:lnTo>
                      <a:lnTo>
                        <a:pt x="118" y="650"/>
                      </a:lnTo>
                      <a:lnTo>
                        <a:pt x="120" y="622"/>
                      </a:lnTo>
                      <a:lnTo>
                        <a:pt x="144" y="622"/>
                      </a:lnTo>
                      <a:lnTo>
                        <a:pt x="160" y="619"/>
                      </a:lnTo>
                      <a:lnTo>
                        <a:pt x="162" y="622"/>
                      </a:lnTo>
                      <a:lnTo>
                        <a:pt x="179" y="605"/>
                      </a:lnTo>
                      <a:lnTo>
                        <a:pt x="197" y="597"/>
                      </a:lnTo>
                      <a:lnTo>
                        <a:pt x="203" y="597"/>
                      </a:lnTo>
                      <a:lnTo>
                        <a:pt x="214" y="580"/>
                      </a:lnTo>
                      <a:lnTo>
                        <a:pt x="228" y="575"/>
                      </a:lnTo>
                      <a:lnTo>
                        <a:pt x="241" y="544"/>
                      </a:lnTo>
                      <a:lnTo>
                        <a:pt x="249" y="552"/>
                      </a:lnTo>
                      <a:lnTo>
                        <a:pt x="267" y="533"/>
                      </a:lnTo>
                      <a:lnTo>
                        <a:pt x="269" y="533"/>
                      </a:lnTo>
                      <a:lnTo>
                        <a:pt x="291" y="510"/>
                      </a:lnTo>
                      <a:lnTo>
                        <a:pt x="304" y="508"/>
                      </a:lnTo>
                      <a:lnTo>
                        <a:pt x="322" y="508"/>
                      </a:lnTo>
                      <a:lnTo>
                        <a:pt x="333" y="508"/>
                      </a:lnTo>
                      <a:lnTo>
                        <a:pt x="324" y="480"/>
                      </a:lnTo>
                      <a:lnTo>
                        <a:pt x="319" y="457"/>
                      </a:lnTo>
                      <a:lnTo>
                        <a:pt x="315" y="410"/>
                      </a:lnTo>
                      <a:lnTo>
                        <a:pt x="341" y="407"/>
                      </a:lnTo>
                      <a:lnTo>
                        <a:pt x="354" y="399"/>
                      </a:lnTo>
                      <a:lnTo>
                        <a:pt x="348" y="418"/>
                      </a:lnTo>
                      <a:lnTo>
                        <a:pt x="359" y="432"/>
                      </a:lnTo>
                      <a:lnTo>
                        <a:pt x="370" y="449"/>
                      </a:lnTo>
                      <a:lnTo>
                        <a:pt x="376" y="460"/>
                      </a:lnTo>
                      <a:lnTo>
                        <a:pt x="407" y="457"/>
                      </a:lnTo>
                      <a:lnTo>
                        <a:pt x="433" y="416"/>
                      </a:lnTo>
                      <a:lnTo>
                        <a:pt x="453" y="396"/>
                      </a:lnTo>
                      <a:lnTo>
                        <a:pt x="464" y="382"/>
                      </a:lnTo>
                      <a:lnTo>
                        <a:pt x="477" y="365"/>
                      </a:lnTo>
                      <a:lnTo>
                        <a:pt x="490" y="343"/>
                      </a:lnTo>
                      <a:lnTo>
                        <a:pt x="501" y="351"/>
                      </a:lnTo>
                      <a:lnTo>
                        <a:pt x="501" y="338"/>
                      </a:lnTo>
                      <a:lnTo>
                        <a:pt x="508" y="329"/>
                      </a:lnTo>
                      <a:lnTo>
                        <a:pt x="527" y="335"/>
                      </a:lnTo>
                      <a:lnTo>
                        <a:pt x="560" y="371"/>
                      </a:lnTo>
                      <a:lnTo>
                        <a:pt x="553" y="271"/>
                      </a:lnTo>
                      <a:lnTo>
                        <a:pt x="525" y="315"/>
                      </a:lnTo>
                      <a:lnTo>
                        <a:pt x="503" y="312"/>
                      </a:lnTo>
                      <a:lnTo>
                        <a:pt x="497" y="285"/>
                      </a:lnTo>
                      <a:lnTo>
                        <a:pt x="497" y="271"/>
                      </a:lnTo>
                      <a:lnTo>
                        <a:pt x="490" y="262"/>
                      </a:lnTo>
                      <a:lnTo>
                        <a:pt x="508" y="240"/>
                      </a:lnTo>
                      <a:lnTo>
                        <a:pt x="518" y="223"/>
                      </a:lnTo>
                      <a:lnTo>
                        <a:pt x="529" y="218"/>
                      </a:lnTo>
                      <a:lnTo>
                        <a:pt x="538" y="215"/>
                      </a:lnTo>
                      <a:lnTo>
                        <a:pt x="545" y="201"/>
                      </a:lnTo>
                      <a:lnTo>
                        <a:pt x="553" y="198"/>
                      </a:lnTo>
                      <a:lnTo>
                        <a:pt x="564" y="198"/>
                      </a:lnTo>
                      <a:lnTo>
                        <a:pt x="545" y="173"/>
                      </a:lnTo>
                      <a:lnTo>
                        <a:pt x="525" y="179"/>
                      </a:lnTo>
                      <a:lnTo>
                        <a:pt x="512" y="179"/>
                      </a:lnTo>
                      <a:lnTo>
                        <a:pt x="501" y="170"/>
                      </a:lnTo>
                      <a:lnTo>
                        <a:pt x="501" y="187"/>
                      </a:lnTo>
                      <a:lnTo>
                        <a:pt x="490" y="204"/>
                      </a:lnTo>
                      <a:lnTo>
                        <a:pt x="475" y="232"/>
                      </a:lnTo>
                      <a:lnTo>
                        <a:pt x="459" y="243"/>
                      </a:lnTo>
                      <a:lnTo>
                        <a:pt x="448" y="243"/>
                      </a:lnTo>
                      <a:lnTo>
                        <a:pt x="444" y="262"/>
                      </a:lnTo>
                      <a:lnTo>
                        <a:pt x="444" y="271"/>
                      </a:lnTo>
                      <a:lnTo>
                        <a:pt x="435" y="279"/>
                      </a:lnTo>
                      <a:lnTo>
                        <a:pt x="446" y="312"/>
                      </a:lnTo>
                      <a:lnTo>
                        <a:pt x="453" y="329"/>
                      </a:lnTo>
                      <a:lnTo>
                        <a:pt x="440" y="354"/>
                      </a:lnTo>
                      <a:lnTo>
                        <a:pt x="424" y="371"/>
                      </a:lnTo>
                      <a:lnTo>
                        <a:pt x="420" y="396"/>
                      </a:lnTo>
                      <a:lnTo>
                        <a:pt x="411" y="416"/>
                      </a:lnTo>
                      <a:lnTo>
                        <a:pt x="403" y="416"/>
                      </a:lnTo>
                      <a:lnTo>
                        <a:pt x="389" y="418"/>
                      </a:lnTo>
                      <a:lnTo>
                        <a:pt x="376" y="427"/>
                      </a:lnTo>
                      <a:lnTo>
                        <a:pt x="372" y="424"/>
                      </a:lnTo>
                      <a:lnTo>
                        <a:pt x="372" y="410"/>
                      </a:lnTo>
                      <a:lnTo>
                        <a:pt x="370" y="388"/>
                      </a:lnTo>
                      <a:lnTo>
                        <a:pt x="359" y="388"/>
                      </a:lnTo>
                      <a:lnTo>
                        <a:pt x="352" y="374"/>
                      </a:lnTo>
                      <a:lnTo>
                        <a:pt x="354" y="354"/>
                      </a:lnTo>
                      <a:lnTo>
                        <a:pt x="357" y="343"/>
                      </a:lnTo>
                      <a:lnTo>
                        <a:pt x="354" y="338"/>
                      </a:lnTo>
                      <a:lnTo>
                        <a:pt x="346" y="343"/>
                      </a:lnTo>
                      <a:lnTo>
                        <a:pt x="341" y="343"/>
                      </a:lnTo>
                      <a:lnTo>
                        <a:pt x="335" y="340"/>
                      </a:lnTo>
                      <a:lnTo>
                        <a:pt x="330" y="338"/>
                      </a:lnTo>
                      <a:lnTo>
                        <a:pt x="319" y="349"/>
                      </a:lnTo>
                      <a:lnTo>
                        <a:pt x="308" y="363"/>
                      </a:lnTo>
                      <a:lnTo>
                        <a:pt x="298" y="377"/>
                      </a:lnTo>
                      <a:lnTo>
                        <a:pt x="273" y="374"/>
                      </a:lnTo>
                      <a:lnTo>
                        <a:pt x="258" y="371"/>
                      </a:lnTo>
                      <a:lnTo>
                        <a:pt x="247" y="357"/>
                      </a:lnTo>
                      <a:lnTo>
                        <a:pt x="247" y="349"/>
                      </a:lnTo>
                      <a:lnTo>
                        <a:pt x="254" y="338"/>
                      </a:lnTo>
                      <a:lnTo>
                        <a:pt x="263" y="329"/>
                      </a:lnTo>
                      <a:lnTo>
                        <a:pt x="269" y="318"/>
                      </a:lnTo>
                      <a:lnTo>
                        <a:pt x="254" y="324"/>
                      </a:lnTo>
                      <a:lnTo>
                        <a:pt x="247" y="310"/>
                      </a:lnTo>
                      <a:lnTo>
                        <a:pt x="247" y="301"/>
                      </a:lnTo>
                      <a:lnTo>
                        <a:pt x="269" y="298"/>
                      </a:lnTo>
                      <a:lnTo>
                        <a:pt x="289" y="296"/>
                      </a:lnTo>
                      <a:lnTo>
                        <a:pt x="276" y="287"/>
                      </a:lnTo>
                      <a:lnTo>
                        <a:pt x="256" y="290"/>
                      </a:lnTo>
                      <a:lnTo>
                        <a:pt x="256" y="273"/>
                      </a:lnTo>
                      <a:lnTo>
                        <a:pt x="265" y="262"/>
                      </a:lnTo>
                      <a:lnTo>
                        <a:pt x="284" y="251"/>
                      </a:lnTo>
                      <a:lnTo>
                        <a:pt x="291" y="240"/>
                      </a:lnTo>
                      <a:lnTo>
                        <a:pt x="298" y="234"/>
                      </a:lnTo>
                      <a:lnTo>
                        <a:pt x="313" y="232"/>
                      </a:lnTo>
                      <a:lnTo>
                        <a:pt x="326" y="234"/>
                      </a:lnTo>
                      <a:lnTo>
                        <a:pt x="333" y="240"/>
                      </a:lnTo>
                      <a:lnTo>
                        <a:pt x="343" y="232"/>
                      </a:lnTo>
                      <a:lnTo>
                        <a:pt x="333" y="229"/>
                      </a:lnTo>
                      <a:lnTo>
                        <a:pt x="333" y="206"/>
                      </a:lnTo>
                      <a:lnTo>
                        <a:pt x="361" y="181"/>
                      </a:lnTo>
                      <a:lnTo>
                        <a:pt x="376" y="165"/>
                      </a:lnTo>
                      <a:lnTo>
                        <a:pt x="385" y="162"/>
                      </a:lnTo>
                      <a:lnTo>
                        <a:pt x="383" y="153"/>
                      </a:lnTo>
                      <a:lnTo>
                        <a:pt x="396" y="137"/>
                      </a:lnTo>
                      <a:lnTo>
                        <a:pt x="411" y="112"/>
                      </a:lnTo>
                      <a:lnTo>
                        <a:pt x="429" y="100"/>
                      </a:lnTo>
                      <a:lnTo>
                        <a:pt x="416" y="89"/>
                      </a:lnTo>
                      <a:lnTo>
                        <a:pt x="451" y="64"/>
                      </a:lnTo>
                      <a:lnTo>
                        <a:pt x="466" y="67"/>
                      </a:lnTo>
                      <a:lnTo>
                        <a:pt x="464" y="53"/>
                      </a:lnTo>
                      <a:lnTo>
                        <a:pt x="494" y="50"/>
                      </a:lnTo>
                      <a:lnTo>
                        <a:pt x="551" y="6"/>
                      </a:lnTo>
                      <a:lnTo>
                        <a:pt x="560" y="0"/>
                      </a:lnTo>
                      <a:lnTo>
                        <a:pt x="549" y="33"/>
                      </a:lnTo>
                      <a:lnTo>
                        <a:pt x="562" y="17"/>
                      </a:lnTo>
                      <a:lnTo>
                        <a:pt x="578" y="11"/>
                      </a:lnTo>
                      <a:lnTo>
                        <a:pt x="575" y="25"/>
                      </a:lnTo>
                      <a:lnTo>
                        <a:pt x="619" y="8"/>
                      </a:lnTo>
                      <a:lnTo>
                        <a:pt x="639" y="22"/>
                      </a:lnTo>
                      <a:lnTo>
                        <a:pt x="610" y="36"/>
                      </a:lnTo>
                      <a:lnTo>
                        <a:pt x="621" y="53"/>
                      </a:lnTo>
                      <a:lnTo>
                        <a:pt x="663" y="50"/>
                      </a:lnTo>
                      <a:lnTo>
                        <a:pt x="726" y="75"/>
                      </a:lnTo>
                      <a:lnTo>
                        <a:pt x="722" y="103"/>
                      </a:lnTo>
                      <a:lnTo>
                        <a:pt x="696" y="128"/>
                      </a:lnTo>
                      <a:lnTo>
                        <a:pt x="656" y="142"/>
                      </a:lnTo>
                      <a:lnTo>
                        <a:pt x="650" y="170"/>
                      </a:lnTo>
                      <a:lnTo>
                        <a:pt x="652" y="198"/>
                      </a:lnTo>
                      <a:lnTo>
                        <a:pt x="663" y="204"/>
                      </a:lnTo>
                      <a:lnTo>
                        <a:pt x="665" y="218"/>
                      </a:lnTo>
                      <a:lnTo>
                        <a:pt x="669" y="223"/>
                      </a:lnTo>
                      <a:lnTo>
                        <a:pt x="678" y="229"/>
                      </a:lnTo>
                      <a:lnTo>
                        <a:pt x="680" y="245"/>
                      </a:lnTo>
                      <a:lnTo>
                        <a:pt x="693" y="265"/>
                      </a:lnTo>
                      <a:lnTo>
                        <a:pt x="693" y="273"/>
                      </a:lnTo>
                      <a:lnTo>
                        <a:pt x="707" y="273"/>
                      </a:lnTo>
                      <a:lnTo>
                        <a:pt x="711" y="279"/>
                      </a:lnTo>
                      <a:lnTo>
                        <a:pt x="722" y="285"/>
                      </a:lnTo>
                      <a:lnTo>
                        <a:pt x="728" y="276"/>
                      </a:lnTo>
                      <a:lnTo>
                        <a:pt x="735" y="262"/>
                      </a:lnTo>
                      <a:lnTo>
                        <a:pt x="739" y="254"/>
                      </a:lnTo>
                      <a:lnTo>
                        <a:pt x="750" y="259"/>
                      </a:lnTo>
                      <a:lnTo>
                        <a:pt x="763" y="240"/>
                      </a:lnTo>
                      <a:lnTo>
                        <a:pt x="763" y="226"/>
                      </a:lnTo>
                      <a:lnTo>
                        <a:pt x="768" y="215"/>
                      </a:lnTo>
                      <a:lnTo>
                        <a:pt x="770" y="206"/>
                      </a:lnTo>
                      <a:lnTo>
                        <a:pt x="796" y="198"/>
                      </a:lnTo>
                      <a:lnTo>
                        <a:pt x="818" y="190"/>
                      </a:lnTo>
                      <a:lnTo>
                        <a:pt x="847" y="179"/>
                      </a:lnTo>
                      <a:lnTo>
                        <a:pt x="879" y="187"/>
                      </a:lnTo>
                      <a:lnTo>
                        <a:pt x="912" y="187"/>
                      </a:lnTo>
                      <a:lnTo>
                        <a:pt x="967" y="187"/>
                      </a:lnTo>
                      <a:lnTo>
                        <a:pt x="976" y="120"/>
                      </a:lnTo>
                      <a:lnTo>
                        <a:pt x="1006" y="123"/>
                      </a:lnTo>
                      <a:lnTo>
                        <a:pt x="1028" y="173"/>
                      </a:lnTo>
                      <a:lnTo>
                        <a:pt x="1033" y="131"/>
                      </a:lnTo>
                      <a:lnTo>
                        <a:pt x="1133" y="8"/>
                      </a:lnTo>
                      <a:lnTo>
                        <a:pt x="1173" y="8"/>
                      </a:lnTo>
                      <a:lnTo>
                        <a:pt x="1208" y="33"/>
                      </a:lnTo>
                      <a:lnTo>
                        <a:pt x="1253" y="31"/>
                      </a:lnTo>
                      <a:lnTo>
                        <a:pt x="1315" y="75"/>
                      </a:lnTo>
                      <a:lnTo>
                        <a:pt x="1385" y="100"/>
                      </a:lnTo>
                      <a:lnTo>
                        <a:pt x="1435" y="95"/>
                      </a:lnTo>
                      <a:lnTo>
                        <a:pt x="1501" y="123"/>
                      </a:lnTo>
                      <a:lnTo>
                        <a:pt x="1555" y="123"/>
                      </a:lnTo>
                      <a:lnTo>
                        <a:pt x="1582" y="103"/>
                      </a:lnTo>
                      <a:lnTo>
                        <a:pt x="1643" y="103"/>
                      </a:lnTo>
                      <a:lnTo>
                        <a:pt x="1676" y="126"/>
                      </a:lnTo>
                      <a:lnTo>
                        <a:pt x="1759" y="126"/>
                      </a:lnTo>
                      <a:lnTo>
                        <a:pt x="1829" y="162"/>
                      </a:lnTo>
                      <a:lnTo>
                        <a:pt x="1953" y="156"/>
                      </a:lnTo>
                      <a:lnTo>
                        <a:pt x="2157" y="173"/>
                      </a:lnTo>
                      <a:lnTo>
                        <a:pt x="2255" y="226"/>
                      </a:lnTo>
                      <a:lnTo>
                        <a:pt x="2338" y="259"/>
                      </a:lnTo>
                      <a:lnTo>
                        <a:pt x="2391" y="287"/>
                      </a:lnTo>
                      <a:lnTo>
                        <a:pt x="2376" y="296"/>
                      </a:lnTo>
                      <a:lnTo>
                        <a:pt x="2338" y="273"/>
                      </a:lnTo>
                      <a:lnTo>
                        <a:pt x="2253" y="265"/>
                      </a:lnTo>
                      <a:lnTo>
                        <a:pt x="2277" y="287"/>
                      </a:lnTo>
                      <a:lnTo>
                        <a:pt x="2314" y="298"/>
                      </a:lnTo>
                      <a:lnTo>
                        <a:pt x="2303" y="335"/>
                      </a:lnTo>
                      <a:lnTo>
                        <a:pt x="2264" y="357"/>
                      </a:lnTo>
                      <a:lnTo>
                        <a:pt x="2251" y="393"/>
                      </a:lnTo>
                      <a:lnTo>
                        <a:pt x="2303" y="427"/>
                      </a:lnTo>
                      <a:lnTo>
                        <a:pt x="2341" y="471"/>
                      </a:lnTo>
                      <a:lnTo>
                        <a:pt x="2360" y="536"/>
                      </a:lnTo>
                      <a:lnTo>
                        <a:pt x="2336" y="541"/>
                      </a:lnTo>
                      <a:lnTo>
                        <a:pt x="2284" y="522"/>
                      </a:lnTo>
                      <a:lnTo>
                        <a:pt x="2229" y="474"/>
                      </a:lnTo>
                      <a:lnTo>
                        <a:pt x="2207" y="449"/>
                      </a:lnTo>
                      <a:lnTo>
                        <a:pt x="2194" y="416"/>
                      </a:lnTo>
                      <a:lnTo>
                        <a:pt x="2181" y="365"/>
                      </a:lnTo>
                      <a:lnTo>
                        <a:pt x="2159" y="349"/>
                      </a:lnTo>
                      <a:lnTo>
                        <a:pt x="2139" y="346"/>
                      </a:lnTo>
                      <a:lnTo>
                        <a:pt x="2122" y="351"/>
                      </a:lnTo>
                      <a:lnTo>
                        <a:pt x="2142" y="391"/>
                      </a:lnTo>
                      <a:lnTo>
                        <a:pt x="2089" y="396"/>
                      </a:lnTo>
                      <a:lnTo>
                        <a:pt x="2065" y="377"/>
                      </a:lnTo>
                      <a:lnTo>
                        <a:pt x="2019" y="388"/>
                      </a:lnTo>
                      <a:lnTo>
                        <a:pt x="1984" y="418"/>
                      </a:lnTo>
                      <a:lnTo>
                        <a:pt x="1984" y="435"/>
                      </a:lnTo>
                      <a:lnTo>
                        <a:pt x="1997" y="463"/>
                      </a:lnTo>
                      <a:lnTo>
                        <a:pt x="2052" y="471"/>
                      </a:lnTo>
                      <a:lnTo>
                        <a:pt x="2096" y="505"/>
                      </a:lnTo>
                      <a:lnTo>
                        <a:pt x="2170" y="597"/>
                      </a:lnTo>
                      <a:lnTo>
                        <a:pt x="2201" y="658"/>
                      </a:lnTo>
                      <a:lnTo>
                        <a:pt x="2205" y="722"/>
                      </a:lnTo>
                      <a:lnTo>
                        <a:pt x="2198" y="775"/>
                      </a:lnTo>
                      <a:lnTo>
                        <a:pt x="2181" y="775"/>
                      </a:lnTo>
                      <a:lnTo>
                        <a:pt x="2161" y="756"/>
                      </a:lnTo>
                      <a:lnTo>
                        <a:pt x="2133" y="781"/>
                      </a:lnTo>
                      <a:lnTo>
                        <a:pt x="2104" y="803"/>
                      </a:lnTo>
                      <a:lnTo>
                        <a:pt x="2100" y="840"/>
                      </a:lnTo>
                      <a:lnTo>
                        <a:pt x="2131" y="884"/>
                      </a:lnTo>
                      <a:lnTo>
                        <a:pt x="2111" y="920"/>
                      </a:lnTo>
                      <a:lnTo>
                        <a:pt x="2104" y="982"/>
                      </a:lnTo>
                      <a:lnTo>
                        <a:pt x="2142" y="1021"/>
                      </a:lnTo>
                      <a:lnTo>
                        <a:pt x="2183" y="1032"/>
                      </a:lnTo>
                      <a:lnTo>
                        <a:pt x="2227" y="1074"/>
                      </a:lnTo>
                      <a:lnTo>
                        <a:pt x="2264" y="1130"/>
                      </a:lnTo>
                      <a:lnTo>
                        <a:pt x="2266" y="1213"/>
                      </a:lnTo>
                      <a:lnTo>
                        <a:pt x="2253" y="1252"/>
                      </a:lnTo>
                      <a:lnTo>
                        <a:pt x="2214" y="1286"/>
                      </a:lnTo>
                      <a:lnTo>
                        <a:pt x="2166" y="1303"/>
                      </a:lnTo>
                      <a:lnTo>
                        <a:pt x="2135" y="1328"/>
                      </a:lnTo>
                      <a:lnTo>
                        <a:pt x="2118" y="1314"/>
                      </a:lnTo>
                      <a:lnTo>
                        <a:pt x="2102" y="1328"/>
                      </a:lnTo>
                      <a:lnTo>
                        <a:pt x="2098" y="1389"/>
                      </a:lnTo>
                      <a:lnTo>
                        <a:pt x="2109" y="1425"/>
                      </a:lnTo>
                      <a:lnTo>
                        <a:pt x="2157" y="1467"/>
                      </a:lnTo>
                      <a:lnTo>
                        <a:pt x="2177" y="1509"/>
                      </a:lnTo>
                      <a:lnTo>
                        <a:pt x="2192" y="1531"/>
                      </a:lnTo>
                      <a:lnTo>
                        <a:pt x="2188" y="1576"/>
                      </a:lnTo>
                      <a:lnTo>
                        <a:pt x="2157" y="1612"/>
                      </a:lnTo>
                      <a:lnTo>
                        <a:pt x="2124" y="1612"/>
                      </a:lnTo>
                      <a:lnTo>
                        <a:pt x="2072" y="1559"/>
                      </a:lnTo>
                      <a:lnTo>
                        <a:pt x="2034" y="1540"/>
                      </a:lnTo>
                      <a:lnTo>
                        <a:pt x="2019" y="1529"/>
                      </a:lnTo>
                      <a:lnTo>
                        <a:pt x="2004" y="1556"/>
                      </a:lnTo>
                      <a:lnTo>
                        <a:pt x="2008" y="1596"/>
                      </a:lnTo>
                      <a:lnTo>
                        <a:pt x="2021" y="1626"/>
                      </a:lnTo>
                      <a:lnTo>
                        <a:pt x="2030" y="1674"/>
                      </a:lnTo>
                      <a:lnTo>
                        <a:pt x="2063" y="1690"/>
                      </a:lnTo>
                      <a:lnTo>
                        <a:pt x="2052" y="1715"/>
                      </a:lnTo>
                      <a:lnTo>
                        <a:pt x="2054" y="1752"/>
                      </a:lnTo>
                      <a:lnTo>
                        <a:pt x="2065" y="1788"/>
                      </a:lnTo>
                      <a:lnTo>
                        <a:pt x="2043" y="1785"/>
                      </a:lnTo>
                      <a:lnTo>
                        <a:pt x="2019" y="1743"/>
                      </a:lnTo>
                      <a:lnTo>
                        <a:pt x="2021" y="1699"/>
                      </a:lnTo>
                      <a:lnTo>
                        <a:pt x="2013" y="1685"/>
                      </a:lnTo>
                      <a:lnTo>
                        <a:pt x="2004" y="1635"/>
                      </a:lnTo>
                      <a:lnTo>
                        <a:pt x="1993" y="1621"/>
                      </a:lnTo>
                      <a:lnTo>
                        <a:pt x="1988" y="1551"/>
                      </a:lnTo>
                      <a:lnTo>
                        <a:pt x="1973" y="1509"/>
                      </a:lnTo>
                      <a:lnTo>
                        <a:pt x="1947" y="1470"/>
                      </a:lnTo>
                      <a:lnTo>
                        <a:pt x="1899" y="1448"/>
                      </a:lnTo>
                      <a:lnTo>
                        <a:pt x="1866" y="1411"/>
                      </a:lnTo>
                      <a:lnTo>
                        <a:pt x="1853" y="1384"/>
                      </a:lnTo>
                      <a:lnTo>
                        <a:pt x="1829" y="1353"/>
                      </a:lnTo>
                      <a:lnTo>
                        <a:pt x="1792" y="1283"/>
                      </a:lnTo>
                      <a:lnTo>
                        <a:pt x="1759" y="1289"/>
                      </a:lnTo>
                      <a:lnTo>
                        <a:pt x="1715" y="1322"/>
                      </a:lnTo>
                      <a:lnTo>
                        <a:pt x="1695" y="1350"/>
                      </a:lnTo>
                      <a:lnTo>
                        <a:pt x="1656" y="1403"/>
                      </a:lnTo>
                      <a:lnTo>
                        <a:pt x="1628" y="1459"/>
                      </a:lnTo>
                      <a:lnTo>
                        <a:pt x="1617" y="1478"/>
                      </a:lnTo>
                      <a:lnTo>
                        <a:pt x="1628" y="1543"/>
                      </a:lnTo>
                      <a:lnTo>
                        <a:pt x="1625" y="1607"/>
                      </a:lnTo>
                      <a:lnTo>
                        <a:pt x="1590" y="1651"/>
                      </a:lnTo>
                      <a:lnTo>
                        <a:pt x="1571" y="1654"/>
                      </a:lnTo>
                      <a:lnTo>
                        <a:pt x="1529" y="1562"/>
                      </a:lnTo>
                      <a:lnTo>
                        <a:pt x="1496" y="1498"/>
                      </a:lnTo>
                      <a:lnTo>
                        <a:pt x="1431" y="1375"/>
                      </a:lnTo>
                      <a:lnTo>
                        <a:pt x="1428" y="1328"/>
                      </a:lnTo>
                      <a:lnTo>
                        <a:pt x="1413" y="1305"/>
                      </a:lnTo>
                      <a:lnTo>
                        <a:pt x="1402" y="1336"/>
                      </a:lnTo>
                      <a:lnTo>
                        <a:pt x="1345" y="1266"/>
                      </a:lnTo>
                      <a:lnTo>
                        <a:pt x="1269" y="1213"/>
                      </a:lnTo>
                      <a:lnTo>
                        <a:pt x="1221" y="1225"/>
                      </a:lnTo>
                      <a:lnTo>
                        <a:pt x="1151" y="1219"/>
                      </a:lnTo>
                      <a:lnTo>
                        <a:pt x="1118" y="1180"/>
                      </a:lnTo>
                      <a:lnTo>
                        <a:pt x="1081" y="1185"/>
                      </a:lnTo>
                      <a:lnTo>
                        <a:pt x="1028" y="1169"/>
                      </a:lnTo>
                      <a:lnTo>
                        <a:pt x="919" y="1038"/>
                      </a:lnTo>
                      <a:lnTo>
                        <a:pt x="925" y="1091"/>
                      </a:lnTo>
                      <a:lnTo>
                        <a:pt x="958" y="1166"/>
                      </a:lnTo>
                      <a:lnTo>
                        <a:pt x="995" y="1219"/>
                      </a:lnTo>
                      <a:lnTo>
                        <a:pt x="1035" y="1247"/>
                      </a:lnTo>
                      <a:lnTo>
                        <a:pt x="1078" y="1225"/>
                      </a:lnTo>
                      <a:lnTo>
                        <a:pt x="1113" y="1225"/>
                      </a:lnTo>
                      <a:lnTo>
                        <a:pt x="1159" y="1272"/>
                      </a:lnTo>
                      <a:lnTo>
                        <a:pt x="1186" y="1308"/>
                      </a:lnTo>
                      <a:lnTo>
                        <a:pt x="1181" y="1331"/>
                      </a:lnTo>
                      <a:lnTo>
                        <a:pt x="1103" y="1434"/>
                      </a:lnTo>
                      <a:lnTo>
                        <a:pt x="1050" y="1473"/>
                      </a:lnTo>
                      <a:lnTo>
                        <a:pt x="941" y="1523"/>
                      </a:lnTo>
                      <a:lnTo>
                        <a:pt x="908" y="1540"/>
                      </a:lnTo>
                      <a:lnTo>
                        <a:pt x="888" y="1523"/>
                      </a:lnTo>
                      <a:lnTo>
                        <a:pt x="882" y="1503"/>
                      </a:lnTo>
                      <a:lnTo>
                        <a:pt x="879" y="1473"/>
                      </a:lnTo>
                      <a:lnTo>
                        <a:pt x="871" y="1442"/>
                      </a:lnTo>
                      <a:lnTo>
                        <a:pt x="855" y="1417"/>
                      </a:lnTo>
                      <a:lnTo>
                        <a:pt x="842" y="1395"/>
                      </a:lnTo>
                      <a:lnTo>
                        <a:pt x="823" y="1364"/>
                      </a:lnTo>
                      <a:lnTo>
                        <a:pt x="812" y="1344"/>
                      </a:lnTo>
                      <a:lnTo>
                        <a:pt x="803" y="1319"/>
                      </a:lnTo>
                      <a:lnTo>
                        <a:pt x="788" y="1297"/>
                      </a:lnTo>
                      <a:lnTo>
                        <a:pt x="763" y="1241"/>
                      </a:lnTo>
                      <a:lnTo>
                        <a:pt x="750" y="1219"/>
                      </a:lnTo>
                      <a:lnTo>
                        <a:pt x="733" y="1188"/>
                      </a:lnTo>
                      <a:lnTo>
                        <a:pt x="704" y="1146"/>
                      </a:lnTo>
                      <a:lnTo>
                        <a:pt x="689" y="1121"/>
                      </a:lnTo>
                      <a:lnTo>
                        <a:pt x="676" y="1105"/>
                      </a:lnTo>
                      <a:lnTo>
                        <a:pt x="661" y="1068"/>
                      </a:lnTo>
                      <a:lnTo>
                        <a:pt x="707" y="1035"/>
                      </a:lnTo>
                      <a:lnTo>
                        <a:pt x="726" y="962"/>
                      </a:lnTo>
                      <a:lnTo>
                        <a:pt x="683" y="943"/>
                      </a:lnTo>
                      <a:lnTo>
                        <a:pt x="623" y="954"/>
                      </a:lnTo>
                      <a:lnTo>
                        <a:pt x="610" y="946"/>
                      </a:lnTo>
                      <a:lnTo>
                        <a:pt x="604" y="946"/>
                      </a:lnTo>
                      <a:lnTo>
                        <a:pt x="595" y="946"/>
                      </a:lnTo>
                      <a:lnTo>
                        <a:pt x="588" y="946"/>
                      </a:lnTo>
                      <a:lnTo>
                        <a:pt x="586" y="932"/>
                      </a:lnTo>
                      <a:lnTo>
                        <a:pt x="582" y="920"/>
                      </a:lnTo>
                      <a:lnTo>
                        <a:pt x="582" y="898"/>
                      </a:lnTo>
                      <a:lnTo>
                        <a:pt x="571" y="887"/>
                      </a:lnTo>
                      <a:lnTo>
                        <a:pt x="569" y="873"/>
                      </a:lnTo>
                      <a:lnTo>
                        <a:pt x="562" y="870"/>
                      </a:lnTo>
                      <a:lnTo>
                        <a:pt x="556" y="859"/>
                      </a:lnTo>
                      <a:lnTo>
                        <a:pt x="553" y="848"/>
                      </a:lnTo>
                      <a:lnTo>
                        <a:pt x="549" y="837"/>
                      </a:lnTo>
                      <a:lnTo>
                        <a:pt x="545" y="831"/>
                      </a:lnTo>
                      <a:lnTo>
                        <a:pt x="532" y="831"/>
                      </a:lnTo>
                      <a:lnTo>
                        <a:pt x="523" y="831"/>
                      </a:lnTo>
                      <a:lnTo>
                        <a:pt x="518" y="831"/>
                      </a:lnTo>
                      <a:lnTo>
                        <a:pt x="516" y="845"/>
                      </a:lnTo>
                      <a:lnTo>
                        <a:pt x="516" y="859"/>
                      </a:lnTo>
                      <a:lnTo>
                        <a:pt x="516" y="876"/>
                      </a:lnTo>
                      <a:lnTo>
                        <a:pt x="516" y="893"/>
                      </a:lnTo>
                      <a:lnTo>
                        <a:pt x="516" y="904"/>
                      </a:lnTo>
                      <a:lnTo>
                        <a:pt x="505" y="909"/>
                      </a:lnTo>
                      <a:lnTo>
                        <a:pt x="497" y="920"/>
                      </a:lnTo>
                      <a:lnTo>
                        <a:pt x="483" y="904"/>
                      </a:lnTo>
                      <a:lnTo>
                        <a:pt x="475" y="881"/>
                      </a:lnTo>
                      <a:lnTo>
                        <a:pt x="477" y="856"/>
                      </a:lnTo>
                      <a:lnTo>
                        <a:pt x="464" y="823"/>
                      </a:lnTo>
                      <a:lnTo>
                        <a:pt x="457" y="801"/>
                      </a:lnTo>
                      <a:lnTo>
                        <a:pt x="442" y="787"/>
                      </a:lnTo>
                      <a:lnTo>
                        <a:pt x="424" y="773"/>
                      </a:lnTo>
                      <a:lnTo>
                        <a:pt x="416" y="753"/>
                      </a:lnTo>
                      <a:lnTo>
                        <a:pt x="409" y="739"/>
                      </a:lnTo>
                      <a:lnTo>
                        <a:pt x="394" y="736"/>
                      </a:lnTo>
                      <a:lnTo>
                        <a:pt x="389" y="728"/>
                      </a:lnTo>
                      <a:lnTo>
                        <a:pt x="378" y="728"/>
                      </a:lnTo>
                      <a:lnTo>
                        <a:pt x="370" y="742"/>
                      </a:lnTo>
                      <a:lnTo>
                        <a:pt x="361" y="753"/>
                      </a:lnTo>
                      <a:lnTo>
                        <a:pt x="381" y="767"/>
                      </a:lnTo>
                      <a:lnTo>
                        <a:pt x="392" y="787"/>
                      </a:lnTo>
                      <a:lnTo>
                        <a:pt x="411" y="812"/>
                      </a:lnTo>
                      <a:lnTo>
                        <a:pt x="420" y="823"/>
                      </a:lnTo>
                      <a:lnTo>
                        <a:pt x="435" y="831"/>
                      </a:lnTo>
                      <a:lnTo>
                        <a:pt x="446" y="848"/>
                      </a:lnTo>
                      <a:lnTo>
                        <a:pt x="433" y="868"/>
                      </a:lnTo>
                      <a:lnTo>
                        <a:pt x="431" y="859"/>
                      </a:lnTo>
                      <a:lnTo>
                        <a:pt x="431" y="848"/>
                      </a:lnTo>
                      <a:lnTo>
                        <a:pt x="424" y="873"/>
                      </a:lnTo>
                      <a:lnTo>
                        <a:pt x="422" y="895"/>
                      </a:lnTo>
                      <a:lnTo>
                        <a:pt x="409" y="901"/>
                      </a:lnTo>
                      <a:lnTo>
                        <a:pt x="413" y="873"/>
                      </a:lnTo>
                      <a:lnTo>
                        <a:pt x="411" y="859"/>
                      </a:lnTo>
                      <a:lnTo>
                        <a:pt x="396" y="851"/>
                      </a:lnTo>
                      <a:lnTo>
                        <a:pt x="389" y="845"/>
                      </a:lnTo>
                      <a:lnTo>
                        <a:pt x="383" y="834"/>
                      </a:lnTo>
                      <a:lnTo>
                        <a:pt x="370" y="828"/>
                      </a:lnTo>
                      <a:lnTo>
                        <a:pt x="361" y="820"/>
                      </a:lnTo>
                      <a:lnTo>
                        <a:pt x="352" y="803"/>
                      </a:lnTo>
                      <a:lnTo>
                        <a:pt x="341" y="795"/>
                      </a:lnTo>
                      <a:lnTo>
                        <a:pt x="335" y="778"/>
                      </a:lnTo>
                      <a:lnTo>
                        <a:pt x="333" y="764"/>
                      </a:lnTo>
                      <a:lnTo>
                        <a:pt x="324" y="759"/>
                      </a:lnTo>
                      <a:lnTo>
                        <a:pt x="315" y="750"/>
                      </a:lnTo>
                      <a:lnTo>
                        <a:pt x="298" y="750"/>
                      </a:lnTo>
                      <a:lnTo>
                        <a:pt x="282" y="753"/>
                      </a:lnTo>
                      <a:lnTo>
                        <a:pt x="265" y="750"/>
                      </a:lnTo>
                      <a:lnTo>
                        <a:pt x="234" y="753"/>
                      </a:lnTo>
                      <a:lnTo>
                        <a:pt x="212" y="756"/>
                      </a:lnTo>
                      <a:lnTo>
                        <a:pt x="206" y="762"/>
                      </a:lnTo>
                      <a:lnTo>
                        <a:pt x="203" y="778"/>
                      </a:lnTo>
                      <a:lnTo>
                        <a:pt x="203" y="798"/>
                      </a:lnTo>
                      <a:lnTo>
                        <a:pt x="190" y="817"/>
                      </a:lnTo>
                      <a:lnTo>
                        <a:pt x="182" y="826"/>
                      </a:lnTo>
                      <a:lnTo>
                        <a:pt x="177" y="831"/>
                      </a:lnTo>
                      <a:lnTo>
                        <a:pt x="171" y="845"/>
                      </a:lnTo>
                      <a:lnTo>
                        <a:pt x="166" y="856"/>
                      </a:lnTo>
                      <a:lnTo>
                        <a:pt x="173" y="865"/>
                      </a:lnTo>
                      <a:lnTo>
                        <a:pt x="173" y="881"/>
                      </a:lnTo>
                      <a:lnTo>
                        <a:pt x="171" y="890"/>
                      </a:lnTo>
                      <a:lnTo>
                        <a:pt x="166" y="901"/>
                      </a:lnTo>
                      <a:lnTo>
                        <a:pt x="155" y="920"/>
                      </a:lnTo>
                      <a:lnTo>
                        <a:pt x="149" y="912"/>
                      </a:lnTo>
                      <a:lnTo>
                        <a:pt x="142" y="918"/>
                      </a:lnTo>
                      <a:lnTo>
                        <a:pt x="133" y="926"/>
                      </a:lnTo>
                      <a:lnTo>
                        <a:pt x="120" y="929"/>
                      </a:lnTo>
                      <a:lnTo>
                        <a:pt x="107" y="943"/>
                      </a:lnTo>
                      <a:lnTo>
                        <a:pt x="94" y="946"/>
                      </a:lnTo>
                      <a:lnTo>
                        <a:pt x="81" y="946"/>
                      </a:lnTo>
                      <a:lnTo>
                        <a:pt x="68" y="946"/>
                      </a:lnTo>
                      <a:lnTo>
                        <a:pt x="39" y="954"/>
                      </a:lnTo>
                      <a:lnTo>
                        <a:pt x="26" y="954"/>
                      </a:lnTo>
                      <a:lnTo>
                        <a:pt x="20" y="934"/>
                      </a:lnTo>
                      <a:lnTo>
                        <a:pt x="13" y="909"/>
                      </a:lnTo>
                      <a:lnTo>
                        <a:pt x="9" y="887"/>
                      </a:lnTo>
                      <a:lnTo>
                        <a:pt x="7" y="865"/>
                      </a:lnTo>
                      <a:lnTo>
                        <a:pt x="7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5" name=""/>
            <p:cNvGrpSpPr/>
            <p:nvPr/>
          </p:nvGrpSpPr>
          <p:grpSpPr>
            <a:xfrm>
              <a:off x="0" y="0"/>
              <a:ext cx="3042720" cy="5256360"/>
              <a:chOff x="0" y="0"/>
              <a:chExt cx="3042720" cy="5256360"/>
            </a:xfrm>
          </p:grpSpPr>
          <p:sp>
            <p:nvSpPr>
              <p:cNvPr id="156" name=""/>
              <p:cNvSpPr/>
              <p:nvPr/>
            </p:nvSpPr>
            <p:spPr>
              <a:xfrm>
                <a:off x="0" y="231840"/>
                <a:ext cx="2058120" cy="2460600"/>
              </a:xfrm>
              <a:custGeom>
                <a:avLst/>
                <a:gdLst/>
                <a:ahLst/>
                <a:rect l="l" t="t" r="r" b="b"/>
                <a:pathLst>
                  <a:path w="1419" h="1550">
                    <a:moveTo>
                      <a:pt x="0" y="398"/>
                    </a:moveTo>
                    <a:lnTo>
                      <a:pt x="68" y="345"/>
                    </a:lnTo>
                    <a:lnTo>
                      <a:pt x="107" y="323"/>
                    </a:lnTo>
                    <a:lnTo>
                      <a:pt x="114" y="290"/>
                    </a:lnTo>
                    <a:lnTo>
                      <a:pt x="83" y="270"/>
                    </a:lnTo>
                    <a:lnTo>
                      <a:pt x="81" y="231"/>
                    </a:lnTo>
                    <a:lnTo>
                      <a:pt x="94" y="220"/>
                    </a:lnTo>
                    <a:lnTo>
                      <a:pt x="92" y="203"/>
                    </a:lnTo>
                    <a:lnTo>
                      <a:pt x="144" y="198"/>
                    </a:lnTo>
                    <a:lnTo>
                      <a:pt x="157" y="167"/>
                    </a:lnTo>
                    <a:lnTo>
                      <a:pt x="159" y="139"/>
                    </a:lnTo>
                    <a:lnTo>
                      <a:pt x="203" y="131"/>
                    </a:lnTo>
                    <a:lnTo>
                      <a:pt x="208" y="103"/>
                    </a:lnTo>
                    <a:lnTo>
                      <a:pt x="166" y="95"/>
                    </a:lnTo>
                    <a:lnTo>
                      <a:pt x="186" y="75"/>
                    </a:lnTo>
                    <a:lnTo>
                      <a:pt x="253" y="75"/>
                    </a:lnTo>
                    <a:lnTo>
                      <a:pt x="273" y="53"/>
                    </a:lnTo>
                    <a:lnTo>
                      <a:pt x="302" y="50"/>
                    </a:lnTo>
                    <a:lnTo>
                      <a:pt x="319" y="33"/>
                    </a:lnTo>
                    <a:lnTo>
                      <a:pt x="341" y="64"/>
                    </a:lnTo>
                    <a:lnTo>
                      <a:pt x="426" y="59"/>
                    </a:lnTo>
                    <a:lnTo>
                      <a:pt x="465" y="92"/>
                    </a:lnTo>
                    <a:lnTo>
                      <a:pt x="592" y="84"/>
                    </a:lnTo>
                    <a:lnTo>
                      <a:pt x="612" y="67"/>
                    </a:lnTo>
                    <a:lnTo>
                      <a:pt x="660" y="95"/>
                    </a:lnTo>
                    <a:lnTo>
                      <a:pt x="710" y="120"/>
                    </a:lnTo>
                    <a:lnTo>
                      <a:pt x="734" y="109"/>
                    </a:lnTo>
                    <a:lnTo>
                      <a:pt x="749" y="95"/>
                    </a:lnTo>
                    <a:lnTo>
                      <a:pt x="791" y="103"/>
                    </a:lnTo>
                    <a:lnTo>
                      <a:pt x="763" y="84"/>
                    </a:lnTo>
                    <a:lnTo>
                      <a:pt x="736" y="86"/>
                    </a:lnTo>
                    <a:lnTo>
                      <a:pt x="697" y="92"/>
                    </a:lnTo>
                    <a:lnTo>
                      <a:pt x="677" y="64"/>
                    </a:lnTo>
                    <a:lnTo>
                      <a:pt x="655" y="50"/>
                    </a:lnTo>
                    <a:lnTo>
                      <a:pt x="655" y="28"/>
                    </a:lnTo>
                    <a:lnTo>
                      <a:pt x="662" y="3"/>
                    </a:lnTo>
                    <a:lnTo>
                      <a:pt x="680" y="0"/>
                    </a:lnTo>
                    <a:lnTo>
                      <a:pt x="704" y="22"/>
                    </a:lnTo>
                    <a:lnTo>
                      <a:pt x="710" y="11"/>
                    </a:lnTo>
                    <a:lnTo>
                      <a:pt x="730" y="0"/>
                    </a:lnTo>
                    <a:lnTo>
                      <a:pt x="754" y="17"/>
                    </a:lnTo>
                    <a:lnTo>
                      <a:pt x="767" y="3"/>
                    </a:lnTo>
                    <a:lnTo>
                      <a:pt x="780" y="25"/>
                    </a:lnTo>
                    <a:lnTo>
                      <a:pt x="782" y="39"/>
                    </a:lnTo>
                    <a:lnTo>
                      <a:pt x="817" y="59"/>
                    </a:lnTo>
                    <a:lnTo>
                      <a:pt x="804" y="75"/>
                    </a:lnTo>
                    <a:lnTo>
                      <a:pt x="804" y="98"/>
                    </a:lnTo>
                    <a:lnTo>
                      <a:pt x="863" y="103"/>
                    </a:lnTo>
                    <a:lnTo>
                      <a:pt x="878" y="75"/>
                    </a:lnTo>
                    <a:lnTo>
                      <a:pt x="867" y="61"/>
                    </a:lnTo>
                    <a:lnTo>
                      <a:pt x="841" y="64"/>
                    </a:lnTo>
                    <a:lnTo>
                      <a:pt x="848" y="33"/>
                    </a:lnTo>
                    <a:lnTo>
                      <a:pt x="900" y="50"/>
                    </a:lnTo>
                    <a:lnTo>
                      <a:pt x="911" y="72"/>
                    </a:lnTo>
                    <a:lnTo>
                      <a:pt x="955" y="72"/>
                    </a:lnTo>
                    <a:lnTo>
                      <a:pt x="994" y="100"/>
                    </a:lnTo>
                    <a:lnTo>
                      <a:pt x="1016" y="95"/>
                    </a:lnTo>
                    <a:lnTo>
                      <a:pt x="1040" y="120"/>
                    </a:lnTo>
                    <a:lnTo>
                      <a:pt x="1016" y="153"/>
                    </a:lnTo>
                    <a:lnTo>
                      <a:pt x="996" y="128"/>
                    </a:lnTo>
                    <a:lnTo>
                      <a:pt x="983" y="137"/>
                    </a:lnTo>
                    <a:lnTo>
                      <a:pt x="966" y="156"/>
                    </a:lnTo>
                    <a:lnTo>
                      <a:pt x="937" y="173"/>
                    </a:lnTo>
                    <a:lnTo>
                      <a:pt x="953" y="198"/>
                    </a:lnTo>
                    <a:lnTo>
                      <a:pt x="926" y="201"/>
                    </a:lnTo>
                    <a:lnTo>
                      <a:pt x="905" y="234"/>
                    </a:lnTo>
                    <a:lnTo>
                      <a:pt x="883" y="276"/>
                    </a:lnTo>
                    <a:lnTo>
                      <a:pt x="915" y="312"/>
                    </a:lnTo>
                    <a:lnTo>
                      <a:pt x="942" y="354"/>
                    </a:lnTo>
                    <a:lnTo>
                      <a:pt x="988" y="359"/>
                    </a:lnTo>
                    <a:lnTo>
                      <a:pt x="1031" y="354"/>
                    </a:lnTo>
                    <a:lnTo>
                      <a:pt x="1051" y="376"/>
                    </a:lnTo>
                    <a:lnTo>
                      <a:pt x="1042" y="387"/>
                    </a:lnTo>
                    <a:lnTo>
                      <a:pt x="1029" y="410"/>
                    </a:lnTo>
                    <a:lnTo>
                      <a:pt x="1049" y="449"/>
                    </a:lnTo>
                    <a:lnTo>
                      <a:pt x="1055" y="476"/>
                    </a:lnTo>
                    <a:lnTo>
                      <a:pt x="1079" y="490"/>
                    </a:lnTo>
                    <a:lnTo>
                      <a:pt x="1112" y="465"/>
                    </a:lnTo>
                    <a:lnTo>
                      <a:pt x="1103" y="429"/>
                    </a:lnTo>
                    <a:lnTo>
                      <a:pt x="1075" y="398"/>
                    </a:lnTo>
                    <a:lnTo>
                      <a:pt x="1108" y="362"/>
                    </a:lnTo>
                    <a:lnTo>
                      <a:pt x="1079" y="301"/>
                    </a:lnTo>
                    <a:lnTo>
                      <a:pt x="1053" y="276"/>
                    </a:lnTo>
                    <a:lnTo>
                      <a:pt x="1075" y="254"/>
                    </a:lnTo>
                    <a:lnTo>
                      <a:pt x="1071" y="220"/>
                    </a:lnTo>
                    <a:lnTo>
                      <a:pt x="1086" y="201"/>
                    </a:lnTo>
                    <a:lnTo>
                      <a:pt x="1112" y="220"/>
                    </a:lnTo>
                    <a:lnTo>
                      <a:pt x="1173" y="293"/>
                    </a:lnTo>
                    <a:lnTo>
                      <a:pt x="1210" y="304"/>
                    </a:lnTo>
                    <a:lnTo>
                      <a:pt x="1221" y="284"/>
                    </a:lnTo>
                    <a:lnTo>
                      <a:pt x="1213" y="245"/>
                    </a:lnTo>
                    <a:lnTo>
                      <a:pt x="1234" y="251"/>
                    </a:lnTo>
                    <a:lnTo>
                      <a:pt x="1272" y="295"/>
                    </a:lnTo>
                    <a:lnTo>
                      <a:pt x="1278" y="320"/>
                    </a:lnTo>
                    <a:lnTo>
                      <a:pt x="1300" y="337"/>
                    </a:lnTo>
                    <a:lnTo>
                      <a:pt x="1344" y="357"/>
                    </a:lnTo>
                    <a:lnTo>
                      <a:pt x="1366" y="393"/>
                    </a:lnTo>
                    <a:lnTo>
                      <a:pt x="1398" y="418"/>
                    </a:lnTo>
                    <a:lnTo>
                      <a:pt x="1416" y="426"/>
                    </a:lnTo>
                    <a:lnTo>
                      <a:pt x="1418" y="449"/>
                    </a:lnTo>
                    <a:lnTo>
                      <a:pt x="1392" y="462"/>
                    </a:lnTo>
                    <a:lnTo>
                      <a:pt x="1376" y="446"/>
                    </a:lnTo>
                    <a:lnTo>
                      <a:pt x="1363" y="449"/>
                    </a:lnTo>
                    <a:lnTo>
                      <a:pt x="1359" y="485"/>
                    </a:lnTo>
                    <a:lnTo>
                      <a:pt x="1337" y="493"/>
                    </a:lnTo>
                    <a:lnTo>
                      <a:pt x="1313" y="474"/>
                    </a:lnTo>
                    <a:lnTo>
                      <a:pt x="1263" y="474"/>
                    </a:lnTo>
                    <a:lnTo>
                      <a:pt x="1256" y="515"/>
                    </a:lnTo>
                    <a:lnTo>
                      <a:pt x="1269" y="540"/>
                    </a:lnTo>
                    <a:lnTo>
                      <a:pt x="1289" y="527"/>
                    </a:lnTo>
                    <a:lnTo>
                      <a:pt x="1309" y="521"/>
                    </a:lnTo>
                    <a:lnTo>
                      <a:pt x="1328" y="535"/>
                    </a:lnTo>
                    <a:lnTo>
                      <a:pt x="1302" y="566"/>
                    </a:lnTo>
                    <a:lnTo>
                      <a:pt x="1328" y="593"/>
                    </a:lnTo>
                    <a:lnTo>
                      <a:pt x="1363" y="602"/>
                    </a:lnTo>
                    <a:lnTo>
                      <a:pt x="1359" y="618"/>
                    </a:lnTo>
                    <a:lnTo>
                      <a:pt x="1346" y="621"/>
                    </a:lnTo>
                    <a:lnTo>
                      <a:pt x="1313" y="716"/>
                    </a:lnTo>
                    <a:lnTo>
                      <a:pt x="1315" y="655"/>
                    </a:lnTo>
                    <a:lnTo>
                      <a:pt x="1331" y="624"/>
                    </a:lnTo>
                    <a:lnTo>
                      <a:pt x="1313" y="610"/>
                    </a:lnTo>
                    <a:lnTo>
                      <a:pt x="1293" y="630"/>
                    </a:lnTo>
                    <a:lnTo>
                      <a:pt x="1304" y="646"/>
                    </a:lnTo>
                    <a:lnTo>
                      <a:pt x="1289" y="657"/>
                    </a:lnTo>
                    <a:lnTo>
                      <a:pt x="1274" y="671"/>
                    </a:lnTo>
                    <a:lnTo>
                      <a:pt x="1276" y="713"/>
                    </a:lnTo>
                    <a:lnTo>
                      <a:pt x="1254" y="727"/>
                    </a:lnTo>
                    <a:lnTo>
                      <a:pt x="1224" y="730"/>
                    </a:lnTo>
                    <a:lnTo>
                      <a:pt x="1234" y="752"/>
                    </a:lnTo>
                    <a:lnTo>
                      <a:pt x="1224" y="777"/>
                    </a:lnTo>
                    <a:lnTo>
                      <a:pt x="1234" y="797"/>
                    </a:lnTo>
                    <a:lnTo>
                      <a:pt x="1217" y="839"/>
                    </a:lnTo>
                    <a:lnTo>
                      <a:pt x="1210" y="878"/>
                    </a:lnTo>
                    <a:lnTo>
                      <a:pt x="1184" y="900"/>
                    </a:lnTo>
                    <a:lnTo>
                      <a:pt x="1151" y="961"/>
                    </a:lnTo>
                    <a:lnTo>
                      <a:pt x="1147" y="1003"/>
                    </a:lnTo>
                    <a:lnTo>
                      <a:pt x="1158" y="1036"/>
                    </a:lnTo>
                    <a:lnTo>
                      <a:pt x="1173" y="1078"/>
                    </a:lnTo>
                    <a:lnTo>
                      <a:pt x="1182" y="1123"/>
                    </a:lnTo>
                    <a:lnTo>
                      <a:pt x="1167" y="1142"/>
                    </a:lnTo>
                    <a:lnTo>
                      <a:pt x="1147" y="1128"/>
                    </a:lnTo>
                    <a:lnTo>
                      <a:pt x="1151" y="1106"/>
                    </a:lnTo>
                    <a:lnTo>
                      <a:pt x="1141" y="1056"/>
                    </a:lnTo>
                    <a:lnTo>
                      <a:pt x="1127" y="1048"/>
                    </a:lnTo>
                    <a:lnTo>
                      <a:pt x="1119" y="1017"/>
                    </a:lnTo>
                    <a:lnTo>
                      <a:pt x="1101" y="1017"/>
                    </a:lnTo>
                    <a:lnTo>
                      <a:pt x="1082" y="1000"/>
                    </a:lnTo>
                    <a:lnTo>
                      <a:pt x="1060" y="1006"/>
                    </a:lnTo>
                    <a:lnTo>
                      <a:pt x="1040" y="995"/>
                    </a:lnTo>
                    <a:lnTo>
                      <a:pt x="1016" y="1009"/>
                    </a:lnTo>
                    <a:lnTo>
                      <a:pt x="972" y="997"/>
                    </a:lnTo>
                    <a:lnTo>
                      <a:pt x="1001" y="1034"/>
                    </a:lnTo>
                    <a:lnTo>
                      <a:pt x="966" y="1031"/>
                    </a:lnTo>
                    <a:lnTo>
                      <a:pt x="942" y="1003"/>
                    </a:lnTo>
                    <a:lnTo>
                      <a:pt x="898" y="1003"/>
                    </a:lnTo>
                    <a:lnTo>
                      <a:pt x="905" y="1048"/>
                    </a:lnTo>
                    <a:lnTo>
                      <a:pt x="872" y="1034"/>
                    </a:lnTo>
                    <a:lnTo>
                      <a:pt x="854" y="1078"/>
                    </a:lnTo>
                    <a:lnTo>
                      <a:pt x="867" y="1098"/>
                    </a:lnTo>
                    <a:lnTo>
                      <a:pt x="854" y="1151"/>
                    </a:lnTo>
                    <a:lnTo>
                      <a:pt x="870" y="1212"/>
                    </a:lnTo>
                    <a:lnTo>
                      <a:pt x="887" y="1254"/>
                    </a:lnTo>
                    <a:lnTo>
                      <a:pt x="907" y="1293"/>
                    </a:lnTo>
                    <a:lnTo>
                      <a:pt x="966" y="1290"/>
                    </a:lnTo>
                    <a:lnTo>
                      <a:pt x="990" y="1282"/>
                    </a:lnTo>
                    <a:lnTo>
                      <a:pt x="994" y="1254"/>
                    </a:lnTo>
                    <a:lnTo>
                      <a:pt x="981" y="1231"/>
                    </a:lnTo>
                    <a:lnTo>
                      <a:pt x="983" y="1212"/>
                    </a:lnTo>
                    <a:lnTo>
                      <a:pt x="1020" y="1217"/>
                    </a:lnTo>
                    <a:lnTo>
                      <a:pt x="1057" y="1206"/>
                    </a:lnTo>
                    <a:lnTo>
                      <a:pt x="1057" y="1231"/>
                    </a:lnTo>
                    <a:lnTo>
                      <a:pt x="1047" y="1268"/>
                    </a:lnTo>
                    <a:lnTo>
                      <a:pt x="1029" y="1295"/>
                    </a:lnTo>
                    <a:lnTo>
                      <a:pt x="1025" y="1334"/>
                    </a:lnTo>
                    <a:lnTo>
                      <a:pt x="1049" y="1351"/>
                    </a:lnTo>
                    <a:lnTo>
                      <a:pt x="1082" y="1346"/>
                    </a:lnTo>
                    <a:lnTo>
                      <a:pt x="1101" y="1360"/>
                    </a:lnTo>
                    <a:lnTo>
                      <a:pt x="1119" y="1354"/>
                    </a:lnTo>
                    <a:lnTo>
                      <a:pt x="1125" y="1379"/>
                    </a:lnTo>
                    <a:lnTo>
                      <a:pt x="1110" y="1415"/>
                    </a:lnTo>
                    <a:lnTo>
                      <a:pt x="1123" y="1438"/>
                    </a:lnTo>
                    <a:lnTo>
                      <a:pt x="1125" y="1482"/>
                    </a:lnTo>
                    <a:lnTo>
                      <a:pt x="1147" y="1513"/>
                    </a:lnTo>
                    <a:lnTo>
                      <a:pt x="1175" y="1521"/>
                    </a:lnTo>
                    <a:lnTo>
                      <a:pt x="1195" y="1513"/>
                    </a:lnTo>
                    <a:lnTo>
                      <a:pt x="1204" y="1516"/>
                    </a:lnTo>
                    <a:lnTo>
                      <a:pt x="1241" y="1516"/>
                    </a:lnTo>
                    <a:lnTo>
                      <a:pt x="1274" y="1518"/>
                    </a:lnTo>
                    <a:lnTo>
                      <a:pt x="1283" y="1499"/>
                    </a:lnTo>
                    <a:lnTo>
                      <a:pt x="1254" y="1532"/>
                    </a:lnTo>
                    <a:lnTo>
                      <a:pt x="1234" y="1529"/>
                    </a:lnTo>
                    <a:lnTo>
                      <a:pt x="1215" y="1532"/>
                    </a:lnTo>
                    <a:lnTo>
                      <a:pt x="1175" y="1549"/>
                    </a:lnTo>
                    <a:lnTo>
                      <a:pt x="1143" y="1527"/>
                    </a:lnTo>
                    <a:lnTo>
                      <a:pt x="1112" y="1513"/>
                    </a:lnTo>
                    <a:lnTo>
                      <a:pt x="1099" y="1516"/>
                    </a:lnTo>
                    <a:lnTo>
                      <a:pt x="1101" y="1496"/>
                    </a:lnTo>
                    <a:lnTo>
                      <a:pt x="1099" y="1465"/>
                    </a:lnTo>
                    <a:lnTo>
                      <a:pt x="1073" y="1438"/>
                    </a:lnTo>
                    <a:lnTo>
                      <a:pt x="1018" y="1421"/>
                    </a:lnTo>
                    <a:lnTo>
                      <a:pt x="1009" y="1410"/>
                    </a:lnTo>
                    <a:lnTo>
                      <a:pt x="994" y="1412"/>
                    </a:lnTo>
                    <a:lnTo>
                      <a:pt x="979" y="1399"/>
                    </a:lnTo>
                    <a:lnTo>
                      <a:pt x="959" y="1385"/>
                    </a:lnTo>
                    <a:lnTo>
                      <a:pt x="933" y="1346"/>
                    </a:lnTo>
                    <a:lnTo>
                      <a:pt x="902" y="1334"/>
                    </a:lnTo>
                    <a:lnTo>
                      <a:pt x="885" y="1360"/>
                    </a:lnTo>
                    <a:lnTo>
                      <a:pt x="865" y="1340"/>
                    </a:lnTo>
                    <a:lnTo>
                      <a:pt x="841" y="1340"/>
                    </a:lnTo>
                    <a:lnTo>
                      <a:pt x="793" y="1326"/>
                    </a:lnTo>
                    <a:lnTo>
                      <a:pt x="706" y="1259"/>
                    </a:lnTo>
                    <a:lnTo>
                      <a:pt x="699" y="1190"/>
                    </a:lnTo>
                    <a:lnTo>
                      <a:pt x="690" y="1162"/>
                    </a:lnTo>
                    <a:lnTo>
                      <a:pt x="675" y="1142"/>
                    </a:lnTo>
                    <a:lnTo>
                      <a:pt x="655" y="1103"/>
                    </a:lnTo>
                    <a:lnTo>
                      <a:pt x="564" y="970"/>
                    </a:lnTo>
                    <a:lnTo>
                      <a:pt x="564" y="1020"/>
                    </a:lnTo>
                    <a:lnTo>
                      <a:pt x="621" y="1109"/>
                    </a:lnTo>
                    <a:lnTo>
                      <a:pt x="645" y="1184"/>
                    </a:lnTo>
                    <a:lnTo>
                      <a:pt x="610" y="1167"/>
                    </a:lnTo>
                    <a:lnTo>
                      <a:pt x="603" y="1123"/>
                    </a:lnTo>
                    <a:lnTo>
                      <a:pt x="557" y="1095"/>
                    </a:lnTo>
                    <a:lnTo>
                      <a:pt x="583" y="1078"/>
                    </a:lnTo>
                    <a:lnTo>
                      <a:pt x="522" y="1031"/>
                    </a:lnTo>
                    <a:lnTo>
                      <a:pt x="546" y="1003"/>
                    </a:lnTo>
                    <a:lnTo>
                      <a:pt x="524" y="947"/>
                    </a:lnTo>
                    <a:lnTo>
                      <a:pt x="450" y="830"/>
                    </a:lnTo>
                    <a:lnTo>
                      <a:pt x="441" y="763"/>
                    </a:lnTo>
                    <a:lnTo>
                      <a:pt x="446" y="713"/>
                    </a:lnTo>
                    <a:lnTo>
                      <a:pt x="465" y="657"/>
                    </a:lnTo>
                    <a:lnTo>
                      <a:pt x="465" y="602"/>
                    </a:lnTo>
                    <a:lnTo>
                      <a:pt x="450" y="568"/>
                    </a:lnTo>
                    <a:lnTo>
                      <a:pt x="492" y="557"/>
                    </a:lnTo>
                    <a:lnTo>
                      <a:pt x="441" y="490"/>
                    </a:lnTo>
                    <a:lnTo>
                      <a:pt x="444" y="460"/>
                    </a:lnTo>
                    <a:lnTo>
                      <a:pt x="422" y="418"/>
                    </a:lnTo>
                    <a:lnTo>
                      <a:pt x="430" y="393"/>
                    </a:lnTo>
                    <a:lnTo>
                      <a:pt x="415" y="379"/>
                    </a:lnTo>
                    <a:lnTo>
                      <a:pt x="413" y="351"/>
                    </a:lnTo>
                    <a:lnTo>
                      <a:pt x="398" y="329"/>
                    </a:lnTo>
                    <a:lnTo>
                      <a:pt x="415" y="309"/>
                    </a:lnTo>
                    <a:lnTo>
                      <a:pt x="391" y="295"/>
                    </a:lnTo>
                    <a:lnTo>
                      <a:pt x="371" y="315"/>
                    </a:lnTo>
                    <a:lnTo>
                      <a:pt x="343" y="276"/>
                    </a:lnTo>
                    <a:lnTo>
                      <a:pt x="312" y="265"/>
                    </a:lnTo>
                    <a:lnTo>
                      <a:pt x="269" y="265"/>
                    </a:lnTo>
                    <a:lnTo>
                      <a:pt x="240" y="301"/>
                    </a:lnTo>
                    <a:lnTo>
                      <a:pt x="227" y="290"/>
                    </a:lnTo>
                    <a:lnTo>
                      <a:pt x="251" y="242"/>
                    </a:lnTo>
                    <a:lnTo>
                      <a:pt x="229" y="251"/>
                    </a:lnTo>
                    <a:lnTo>
                      <a:pt x="186" y="301"/>
                    </a:lnTo>
                    <a:lnTo>
                      <a:pt x="140" y="345"/>
                    </a:lnTo>
                    <a:lnTo>
                      <a:pt x="98" y="357"/>
                    </a:lnTo>
                    <a:lnTo>
                      <a:pt x="28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470600" y="0"/>
                <a:ext cx="700560" cy="647640"/>
              </a:xfrm>
              <a:custGeom>
                <a:avLst/>
                <a:gdLst/>
                <a:ahLst/>
                <a:rect l="l" t="t" r="r" b="b"/>
                <a:pathLst>
                  <a:path w="483" h="408">
                    <a:moveTo>
                      <a:pt x="0" y="84"/>
                    </a:moveTo>
                    <a:lnTo>
                      <a:pt x="11" y="53"/>
                    </a:lnTo>
                    <a:lnTo>
                      <a:pt x="11" y="31"/>
                    </a:lnTo>
                    <a:lnTo>
                      <a:pt x="28" y="0"/>
                    </a:lnTo>
                    <a:lnTo>
                      <a:pt x="116" y="20"/>
                    </a:lnTo>
                    <a:lnTo>
                      <a:pt x="266" y="56"/>
                    </a:lnTo>
                    <a:lnTo>
                      <a:pt x="325" y="86"/>
                    </a:lnTo>
                    <a:lnTo>
                      <a:pt x="403" y="114"/>
                    </a:lnTo>
                    <a:lnTo>
                      <a:pt x="443" y="167"/>
                    </a:lnTo>
                    <a:lnTo>
                      <a:pt x="482" y="192"/>
                    </a:lnTo>
                    <a:lnTo>
                      <a:pt x="467" y="212"/>
                    </a:lnTo>
                    <a:lnTo>
                      <a:pt x="467" y="237"/>
                    </a:lnTo>
                    <a:lnTo>
                      <a:pt x="451" y="243"/>
                    </a:lnTo>
                    <a:lnTo>
                      <a:pt x="438" y="265"/>
                    </a:lnTo>
                    <a:lnTo>
                      <a:pt x="451" y="287"/>
                    </a:lnTo>
                    <a:lnTo>
                      <a:pt x="449" y="304"/>
                    </a:lnTo>
                    <a:lnTo>
                      <a:pt x="434" y="326"/>
                    </a:lnTo>
                    <a:lnTo>
                      <a:pt x="436" y="348"/>
                    </a:lnTo>
                    <a:lnTo>
                      <a:pt x="462" y="371"/>
                    </a:lnTo>
                    <a:lnTo>
                      <a:pt x="465" y="393"/>
                    </a:lnTo>
                    <a:lnTo>
                      <a:pt x="458" y="404"/>
                    </a:lnTo>
                    <a:lnTo>
                      <a:pt x="432" y="407"/>
                    </a:lnTo>
                    <a:lnTo>
                      <a:pt x="412" y="396"/>
                    </a:lnTo>
                    <a:lnTo>
                      <a:pt x="390" y="368"/>
                    </a:lnTo>
                    <a:lnTo>
                      <a:pt x="382" y="368"/>
                    </a:lnTo>
                    <a:lnTo>
                      <a:pt x="371" y="357"/>
                    </a:lnTo>
                    <a:lnTo>
                      <a:pt x="360" y="323"/>
                    </a:lnTo>
                    <a:lnTo>
                      <a:pt x="347" y="312"/>
                    </a:lnTo>
                    <a:lnTo>
                      <a:pt x="318" y="295"/>
                    </a:lnTo>
                    <a:lnTo>
                      <a:pt x="294" y="284"/>
                    </a:lnTo>
                    <a:lnTo>
                      <a:pt x="260" y="254"/>
                    </a:lnTo>
                    <a:lnTo>
                      <a:pt x="244" y="231"/>
                    </a:lnTo>
                    <a:lnTo>
                      <a:pt x="246" y="215"/>
                    </a:lnTo>
                    <a:lnTo>
                      <a:pt x="262" y="201"/>
                    </a:lnTo>
                    <a:lnTo>
                      <a:pt x="249" y="184"/>
                    </a:lnTo>
                    <a:lnTo>
                      <a:pt x="236" y="192"/>
                    </a:lnTo>
                    <a:lnTo>
                      <a:pt x="214" y="167"/>
                    </a:lnTo>
                    <a:lnTo>
                      <a:pt x="209" y="181"/>
                    </a:lnTo>
                    <a:lnTo>
                      <a:pt x="190" y="181"/>
                    </a:lnTo>
                    <a:lnTo>
                      <a:pt x="185" y="170"/>
                    </a:lnTo>
                    <a:lnTo>
                      <a:pt x="185" y="151"/>
                    </a:lnTo>
                    <a:lnTo>
                      <a:pt x="177" y="139"/>
                    </a:lnTo>
                    <a:lnTo>
                      <a:pt x="164" y="142"/>
                    </a:lnTo>
                    <a:lnTo>
                      <a:pt x="146" y="112"/>
                    </a:lnTo>
                    <a:lnTo>
                      <a:pt x="133" y="109"/>
                    </a:lnTo>
                    <a:lnTo>
                      <a:pt x="113" y="95"/>
                    </a:lnTo>
                    <a:lnTo>
                      <a:pt x="72" y="98"/>
                    </a:lnTo>
                    <a:lnTo>
                      <a:pt x="31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331280" y="227160"/>
                <a:ext cx="446400" cy="333360"/>
              </a:xfrm>
              <a:custGeom>
                <a:avLst/>
                <a:gdLst/>
                <a:ahLst/>
                <a:rect l="l" t="t" r="r" b="b"/>
                <a:pathLst>
                  <a:path w="308" h="210">
                    <a:moveTo>
                      <a:pt x="11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22" y="56"/>
                    </a:lnTo>
                    <a:lnTo>
                      <a:pt x="35" y="50"/>
                    </a:lnTo>
                    <a:lnTo>
                      <a:pt x="39" y="59"/>
                    </a:lnTo>
                    <a:lnTo>
                      <a:pt x="52" y="61"/>
                    </a:lnTo>
                    <a:lnTo>
                      <a:pt x="61" y="47"/>
                    </a:lnTo>
                    <a:lnTo>
                      <a:pt x="91" y="50"/>
                    </a:lnTo>
                    <a:lnTo>
                      <a:pt x="95" y="64"/>
                    </a:lnTo>
                    <a:lnTo>
                      <a:pt x="106" y="70"/>
                    </a:lnTo>
                    <a:lnTo>
                      <a:pt x="132" y="67"/>
                    </a:lnTo>
                    <a:lnTo>
                      <a:pt x="141" y="75"/>
                    </a:lnTo>
                    <a:lnTo>
                      <a:pt x="154" y="84"/>
                    </a:lnTo>
                    <a:lnTo>
                      <a:pt x="164" y="100"/>
                    </a:lnTo>
                    <a:lnTo>
                      <a:pt x="164" y="123"/>
                    </a:lnTo>
                    <a:lnTo>
                      <a:pt x="156" y="128"/>
                    </a:lnTo>
                    <a:lnTo>
                      <a:pt x="160" y="137"/>
                    </a:lnTo>
                    <a:lnTo>
                      <a:pt x="147" y="150"/>
                    </a:lnTo>
                    <a:lnTo>
                      <a:pt x="147" y="170"/>
                    </a:lnTo>
                    <a:lnTo>
                      <a:pt x="166" y="173"/>
                    </a:lnTo>
                    <a:lnTo>
                      <a:pt x="177" y="167"/>
                    </a:lnTo>
                    <a:lnTo>
                      <a:pt x="182" y="159"/>
                    </a:lnTo>
                    <a:lnTo>
                      <a:pt x="188" y="167"/>
                    </a:lnTo>
                    <a:lnTo>
                      <a:pt x="199" y="162"/>
                    </a:lnTo>
                    <a:lnTo>
                      <a:pt x="223" y="173"/>
                    </a:lnTo>
                    <a:lnTo>
                      <a:pt x="238" y="192"/>
                    </a:lnTo>
                    <a:lnTo>
                      <a:pt x="242" y="192"/>
                    </a:lnTo>
                    <a:lnTo>
                      <a:pt x="244" y="203"/>
                    </a:lnTo>
                    <a:lnTo>
                      <a:pt x="259" y="209"/>
                    </a:lnTo>
                    <a:lnTo>
                      <a:pt x="277" y="209"/>
                    </a:lnTo>
                    <a:lnTo>
                      <a:pt x="266" y="198"/>
                    </a:lnTo>
                    <a:lnTo>
                      <a:pt x="270" y="187"/>
                    </a:lnTo>
                    <a:lnTo>
                      <a:pt x="283" y="198"/>
                    </a:lnTo>
                    <a:lnTo>
                      <a:pt x="298" y="201"/>
                    </a:lnTo>
                    <a:lnTo>
                      <a:pt x="301" y="184"/>
                    </a:lnTo>
                    <a:lnTo>
                      <a:pt x="285" y="170"/>
                    </a:lnTo>
                    <a:lnTo>
                      <a:pt x="275" y="170"/>
                    </a:lnTo>
                    <a:lnTo>
                      <a:pt x="259" y="156"/>
                    </a:lnTo>
                    <a:lnTo>
                      <a:pt x="275" y="156"/>
                    </a:lnTo>
                    <a:lnTo>
                      <a:pt x="285" y="164"/>
                    </a:lnTo>
                    <a:lnTo>
                      <a:pt x="307" y="164"/>
                    </a:lnTo>
                    <a:lnTo>
                      <a:pt x="303" y="148"/>
                    </a:lnTo>
                    <a:lnTo>
                      <a:pt x="283" y="131"/>
                    </a:lnTo>
                    <a:lnTo>
                      <a:pt x="270" y="128"/>
                    </a:lnTo>
                    <a:lnTo>
                      <a:pt x="251" y="109"/>
                    </a:lnTo>
                    <a:lnTo>
                      <a:pt x="227" y="103"/>
                    </a:lnTo>
                    <a:lnTo>
                      <a:pt x="208" y="95"/>
                    </a:lnTo>
                    <a:lnTo>
                      <a:pt x="192" y="70"/>
                    </a:lnTo>
                    <a:lnTo>
                      <a:pt x="182" y="39"/>
                    </a:lnTo>
                    <a:lnTo>
                      <a:pt x="166" y="39"/>
                    </a:lnTo>
                    <a:lnTo>
                      <a:pt x="162" y="31"/>
                    </a:lnTo>
                    <a:lnTo>
                      <a:pt x="154" y="33"/>
                    </a:lnTo>
                    <a:lnTo>
                      <a:pt x="138" y="20"/>
                    </a:lnTo>
                    <a:lnTo>
                      <a:pt x="112" y="14"/>
                    </a:lnTo>
                    <a:lnTo>
                      <a:pt x="102" y="22"/>
                    </a:lnTo>
                    <a:lnTo>
                      <a:pt x="78" y="14"/>
                    </a:lnTo>
                    <a:lnTo>
                      <a:pt x="63" y="14"/>
                    </a:lnTo>
                    <a:lnTo>
                      <a:pt x="56" y="3"/>
                    </a:lnTo>
                    <a:lnTo>
                      <a:pt x="50" y="0"/>
                    </a:lnTo>
                    <a:lnTo>
                      <a:pt x="39" y="3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585080" y="2079720"/>
                <a:ext cx="317520" cy="155520"/>
              </a:xfrm>
              <a:custGeom>
                <a:avLst/>
                <a:gdLst/>
                <a:ahLst/>
                <a:rect l="l" t="t" r="r" b="b"/>
                <a:pathLst>
                  <a:path w="219" h="98">
                    <a:moveTo>
                      <a:pt x="0" y="49"/>
                    </a:moveTo>
                    <a:lnTo>
                      <a:pt x="19" y="20"/>
                    </a:lnTo>
                    <a:lnTo>
                      <a:pt x="28" y="20"/>
                    </a:lnTo>
                    <a:lnTo>
                      <a:pt x="43" y="6"/>
                    </a:lnTo>
                    <a:lnTo>
                      <a:pt x="60" y="6"/>
                    </a:lnTo>
                    <a:lnTo>
                      <a:pt x="65" y="3"/>
                    </a:lnTo>
                    <a:lnTo>
                      <a:pt x="71" y="0"/>
                    </a:lnTo>
                    <a:lnTo>
                      <a:pt x="93" y="17"/>
                    </a:lnTo>
                    <a:lnTo>
                      <a:pt x="99" y="29"/>
                    </a:lnTo>
                    <a:lnTo>
                      <a:pt x="104" y="23"/>
                    </a:lnTo>
                    <a:lnTo>
                      <a:pt x="121" y="34"/>
                    </a:lnTo>
                    <a:lnTo>
                      <a:pt x="132" y="34"/>
                    </a:lnTo>
                    <a:lnTo>
                      <a:pt x="140" y="43"/>
                    </a:lnTo>
                    <a:lnTo>
                      <a:pt x="155" y="49"/>
                    </a:lnTo>
                    <a:lnTo>
                      <a:pt x="155" y="63"/>
                    </a:lnTo>
                    <a:lnTo>
                      <a:pt x="183" y="63"/>
                    </a:lnTo>
                    <a:lnTo>
                      <a:pt x="190" y="77"/>
                    </a:lnTo>
                    <a:lnTo>
                      <a:pt x="207" y="77"/>
                    </a:lnTo>
                    <a:lnTo>
                      <a:pt x="218" y="94"/>
                    </a:lnTo>
                    <a:lnTo>
                      <a:pt x="212" y="97"/>
                    </a:lnTo>
                    <a:lnTo>
                      <a:pt x="207" y="91"/>
                    </a:lnTo>
                    <a:lnTo>
                      <a:pt x="205" y="88"/>
                    </a:lnTo>
                    <a:lnTo>
                      <a:pt x="190" y="91"/>
                    </a:lnTo>
                    <a:lnTo>
                      <a:pt x="186" y="94"/>
                    </a:lnTo>
                    <a:lnTo>
                      <a:pt x="173" y="97"/>
                    </a:lnTo>
                    <a:lnTo>
                      <a:pt x="153" y="97"/>
                    </a:lnTo>
                    <a:lnTo>
                      <a:pt x="140" y="97"/>
                    </a:lnTo>
                    <a:lnTo>
                      <a:pt x="140" y="88"/>
                    </a:lnTo>
                    <a:lnTo>
                      <a:pt x="121" y="66"/>
                    </a:lnTo>
                    <a:lnTo>
                      <a:pt x="121" y="51"/>
                    </a:lnTo>
                    <a:lnTo>
                      <a:pt x="99" y="51"/>
                    </a:lnTo>
                    <a:lnTo>
                      <a:pt x="91" y="43"/>
                    </a:lnTo>
                    <a:lnTo>
                      <a:pt x="84" y="51"/>
                    </a:lnTo>
                    <a:lnTo>
                      <a:pt x="78" y="40"/>
                    </a:lnTo>
                    <a:lnTo>
                      <a:pt x="71" y="40"/>
                    </a:lnTo>
                    <a:lnTo>
                      <a:pt x="71" y="26"/>
                    </a:lnTo>
                    <a:lnTo>
                      <a:pt x="65" y="20"/>
                    </a:lnTo>
                    <a:lnTo>
                      <a:pt x="45" y="23"/>
                    </a:lnTo>
                    <a:lnTo>
                      <a:pt x="32" y="40"/>
                    </a:lnTo>
                    <a:lnTo>
                      <a:pt x="17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862280" y="2190600"/>
                <a:ext cx="209880" cy="131760"/>
              </a:xfrm>
              <a:custGeom>
                <a:avLst/>
                <a:gdLst/>
                <a:ahLst/>
                <a:rect l="l" t="t" r="r" b="b"/>
                <a:pathLst>
                  <a:path w="145" h="83">
                    <a:moveTo>
                      <a:pt x="0" y="62"/>
                    </a:moveTo>
                    <a:lnTo>
                      <a:pt x="14" y="65"/>
                    </a:lnTo>
                    <a:lnTo>
                      <a:pt x="45" y="62"/>
                    </a:lnTo>
                    <a:lnTo>
                      <a:pt x="59" y="79"/>
                    </a:lnTo>
                    <a:lnTo>
                      <a:pt x="77" y="82"/>
                    </a:lnTo>
                    <a:lnTo>
                      <a:pt x="86" y="62"/>
                    </a:lnTo>
                    <a:lnTo>
                      <a:pt x="81" y="57"/>
                    </a:lnTo>
                    <a:lnTo>
                      <a:pt x="90" y="48"/>
                    </a:lnTo>
                    <a:lnTo>
                      <a:pt x="108" y="62"/>
                    </a:lnTo>
                    <a:lnTo>
                      <a:pt x="122" y="62"/>
                    </a:lnTo>
                    <a:lnTo>
                      <a:pt x="122" y="54"/>
                    </a:lnTo>
                    <a:lnTo>
                      <a:pt x="131" y="54"/>
                    </a:lnTo>
                    <a:lnTo>
                      <a:pt x="144" y="40"/>
                    </a:lnTo>
                    <a:lnTo>
                      <a:pt x="135" y="37"/>
                    </a:lnTo>
                    <a:lnTo>
                      <a:pt x="135" y="23"/>
                    </a:lnTo>
                    <a:lnTo>
                      <a:pt x="135" y="11"/>
                    </a:lnTo>
                    <a:lnTo>
                      <a:pt x="115" y="8"/>
                    </a:lnTo>
                    <a:lnTo>
                      <a:pt x="99" y="11"/>
                    </a:lnTo>
                    <a:lnTo>
                      <a:pt x="86" y="11"/>
                    </a:lnTo>
                    <a:lnTo>
                      <a:pt x="65" y="8"/>
                    </a:lnTo>
                    <a:lnTo>
                      <a:pt x="50" y="0"/>
                    </a:lnTo>
                    <a:lnTo>
                      <a:pt x="45" y="8"/>
                    </a:lnTo>
                    <a:lnTo>
                      <a:pt x="43" y="25"/>
                    </a:lnTo>
                    <a:lnTo>
                      <a:pt x="27" y="25"/>
                    </a:lnTo>
                    <a:lnTo>
                      <a:pt x="23" y="40"/>
                    </a:lnTo>
                    <a:lnTo>
                      <a:pt x="14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733040" y="2560680"/>
                <a:ext cx="1309680" cy="2695680"/>
              </a:xfrm>
              <a:custGeom>
                <a:avLst/>
                <a:gdLst/>
                <a:ahLst/>
                <a:rect l="l" t="t" r="r" b="b"/>
                <a:pathLst>
                  <a:path w="903" h="1698">
                    <a:moveTo>
                      <a:pt x="70" y="75"/>
                    </a:moveTo>
                    <a:lnTo>
                      <a:pt x="81" y="56"/>
                    </a:lnTo>
                    <a:lnTo>
                      <a:pt x="103" y="28"/>
                    </a:lnTo>
                    <a:lnTo>
                      <a:pt x="136" y="11"/>
                    </a:lnTo>
                    <a:lnTo>
                      <a:pt x="154" y="0"/>
                    </a:lnTo>
                    <a:lnTo>
                      <a:pt x="171" y="3"/>
                    </a:lnTo>
                    <a:lnTo>
                      <a:pt x="167" y="17"/>
                    </a:lnTo>
                    <a:lnTo>
                      <a:pt x="147" y="31"/>
                    </a:lnTo>
                    <a:lnTo>
                      <a:pt x="143" y="59"/>
                    </a:lnTo>
                    <a:lnTo>
                      <a:pt x="147" y="81"/>
                    </a:lnTo>
                    <a:lnTo>
                      <a:pt x="165" y="81"/>
                    </a:lnTo>
                    <a:lnTo>
                      <a:pt x="171" y="56"/>
                    </a:lnTo>
                    <a:lnTo>
                      <a:pt x="176" y="31"/>
                    </a:lnTo>
                    <a:lnTo>
                      <a:pt x="187" y="39"/>
                    </a:lnTo>
                    <a:lnTo>
                      <a:pt x="200" y="53"/>
                    </a:lnTo>
                    <a:lnTo>
                      <a:pt x="222" y="47"/>
                    </a:lnTo>
                    <a:lnTo>
                      <a:pt x="235" y="59"/>
                    </a:lnTo>
                    <a:lnTo>
                      <a:pt x="239" y="73"/>
                    </a:lnTo>
                    <a:lnTo>
                      <a:pt x="272" y="67"/>
                    </a:lnTo>
                    <a:lnTo>
                      <a:pt x="338" y="59"/>
                    </a:lnTo>
                    <a:lnTo>
                      <a:pt x="362" y="103"/>
                    </a:lnTo>
                    <a:lnTo>
                      <a:pt x="404" y="126"/>
                    </a:lnTo>
                    <a:lnTo>
                      <a:pt x="402" y="145"/>
                    </a:lnTo>
                    <a:lnTo>
                      <a:pt x="419" y="134"/>
                    </a:lnTo>
                    <a:lnTo>
                      <a:pt x="439" y="134"/>
                    </a:lnTo>
                    <a:lnTo>
                      <a:pt x="463" y="154"/>
                    </a:lnTo>
                    <a:lnTo>
                      <a:pt x="492" y="151"/>
                    </a:lnTo>
                    <a:lnTo>
                      <a:pt x="516" y="154"/>
                    </a:lnTo>
                    <a:lnTo>
                      <a:pt x="555" y="190"/>
                    </a:lnTo>
                    <a:lnTo>
                      <a:pt x="597" y="234"/>
                    </a:lnTo>
                    <a:lnTo>
                      <a:pt x="615" y="285"/>
                    </a:lnTo>
                    <a:lnTo>
                      <a:pt x="604" y="324"/>
                    </a:lnTo>
                    <a:lnTo>
                      <a:pt x="654" y="338"/>
                    </a:lnTo>
                    <a:lnTo>
                      <a:pt x="737" y="357"/>
                    </a:lnTo>
                    <a:lnTo>
                      <a:pt x="823" y="380"/>
                    </a:lnTo>
                    <a:lnTo>
                      <a:pt x="878" y="424"/>
                    </a:lnTo>
                    <a:lnTo>
                      <a:pt x="902" y="466"/>
                    </a:lnTo>
                    <a:lnTo>
                      <a:pt x="902" y="519"/>
                    </a:lnTo>
                    <a:lnTo>
                      <a:pt x="880" y="567"/>
                    </a:lnTo>
                    <a:lnTo>
                      <a:pt x="856" y="592"/>
                    </a:lnTo>
                    <a:lnTo>
                      <a:pt x="841" y="608"/>
                    </a:lnTo>
                    <a:lnTo>
                      <a:pt x="823" y="642"/>
                    </a:lnTo>
                    <a:lnTo>
                      <a:pt x="821" y="673"/>
                    </a:lnTo>
                    <a:lnTo>
                      <a:pt x="823" y="712"/>
                    </a:lnTo>
                    <a:lnTo>
                      <a:pt x="814" y="751"/>
                    </a:lnTo>
                    <a:lnTo>
                      <a:pt x="801" y="759"/>
                    </a:lnTo>
                    <a:lnTo>
                      <a:pt x="797" y="782"/>
                    </a:lnTo>
                    <a:lnTo>
                      <a:pt x="781" y="798"/>
                    </a:lnTo>
                    <a:lnTo>
                      <a:pt x="779" y="818"/>
                    </a:lnTo>
                    <a:lnTo>
                      <a:pt x="759" y="840"/>
                    </a:lnTo>
                    <a:lnTo>
                      <a:pt x="729" y="879"/>
                    </a:lnTo>
                    <a:lnTo>
                      <a:pt x="702" y="890"/>
                    </a:lnTo>
                    <a:lnTo>
                      <a:pt x="685" y="888"/>
                    </a:lnTo>
                    <a:lnTo>
                      <a:pt x="652" y="907"/>
                    </a:lnTo>
                    <a:lnTo>
                      <a:pt x="619" y="952"/>
                    </a:lnTo>
                    <a:lnTo>
                      <a:pt x="612" y="969"/>
                    </a:lnTo>
                    <a:lnTo>
                      <a:pt x="612" y="991"/>
                    </a:lnTo>
                    <a:lnTo>
                      <a:pt x="619" y="1016"/>
                    </a:lnTo>
                    <a:lnTo>
                      <a:pt x="604" y="1041"/>
                    </a:lnTo>
                    <a:lnTo>
                      <a:pt x="604" y="1061"/>
                    </a:lnTo>
                    <a:lnTo>
                      <a:pt x="577" y="1083"/>
                    </a:lnTo>
                    <a:lnTo>
                      <a:pt x="557" y="1100"/>
                    </a:lnTo>
                    <a:lnTo>
                      <a:pt x="542" y="1125"/>
                    </a:lnTo>
                    <a:lnTo>
                      <a:pt x="535" y="1150"/>
                    </a:lnTo>
                    <a:lnTo>
                      <a:pt x="514" y="1181"/>
                    </a:lnTo>
                    <a:lnTo>
                      <a:pt x="505" y="1175"/>
                    </a:lnTo>
                    <a:lnTo>
                      <a:pt x="487" y="1175"/>
                    </a:lnTo>
                    <a:lnTo>
                      <a:pt x="465" y="1186"/>
                    </a:lnTo>
                    <a:lnTo>
                      <a:pt x="481" y="1200"/>
                    </a:lnTo>
                    <a:lnTo>
                      <a:pt x="481" y="1228"/>
                    </a:lnTo>
                    <a:lnTo>
                      <a:pt x="478" y="1250"/>
                    </a:lnTo>
                    <a:lnTo>
                      <a:pt x="467" y="1267"/>
                    </a:lnTo>
                    <a:lnTo>
                      <a:pt x="439" y="1270"/>
                    </a:lnTo>
                    <a:lnTo>
                      <a:pt x="417" y="1278"/>
                    </a:lnTo>
                    <a:lnTo>
                      <a:pt x="406" y="1295"/>
                    </a:lnTo>
                    <a:lnTo>
                      <a:pt x="406" y="1323"/>
                    </a:lnTo>
                    <a:lnTo>
                      <a:pt x="380" y="1326"/>
                    </a:lnTo>
                    <a:lnTo>
                      <a:pt x="358" y="1323"/>
                    </a:lnTo>
                    <a:lnTo>
                      <a:pt x="351" y="1334"/>
                    </a:lnTo>
                    <a:lnTo>
                      <a:pt x="362" y="1345"/>
                    </a:lnTo>
                    <a:lnTo>
                      <a:pt x="356" y="1387"/>
                    </a:lnTo>
                    <a:lnTo>
                      <a:pt x="347" y="1423"/>
                    </a:lnTo>
                    <a:lnTo>
                      <a:pt x="318" y="1423"/>
                    </a:lnTo>
                    <a:lnTo>
                      <a:pt x="309" y="1437"/>
                    </a:lnTo>
                    <a:lnTo>
                      <a:pt x="312" y="1465"/>
                    </a:lnTo>
                    <a:lnTo>
                      <a:pt x="327" y="1465"/>
                    </a:lnTo>
                    <a:lnTo>
                      <a:pt x="338" y="1482"/>
                    </a:lnTo>
                    <a:lnTo>
                      <a:pt x="331" y="1510"/>
                    </a:lnTo>
                    <a:lnTo>
                      <a:pt x="316" y="1513"/>
                    </a:lnTo>
                    <a:lnTo>
                      <a:pt x="292" y="1524"/>
                    </a:lnTo>
                    <a:lnTo>
                      <a:pt x="285" y="1546"/>
                    </a:lnTo>
                    <a:lnTo>
                      <a:pt x="283" y="1580"/>
                    </a:lnTo>
                    <a:lnTo>
                      <a:pt x="268" y="1597"/>
                    </a:lnTo>
                    <a:lnTo>
                      <a:pt x="323" y="1652"/>
                    </a:lnTo>
                    <a:lnTo>
                      <a:pt x="338" y="1680"/>
                    </a:lnTo>
                    <a:lnTo>
                      <a:pt x="329" y="1697"/>
                    </a:lnTo>
                    <a:lnTo>
                      <a:pt x="305" y="1686"/>
                    </a:lnTo>
                    <a:lnTo>
                      <a:pt x="285" y="1664"/>
                    </a:lnTo>
                    <a:lnTo>
                      <a:pt x="257" y="1647"/>
                    </a:lnTo>
                    <a:lnTo>
                      <a:pt x="230" y="1619"/>
                    </a:lnTo>
                    <a:lnTo>
                      <a:pt x="213" y="1585"/>
                    </a:lnTo>
                    <a:lnTo>
                      <a:pt x="211" y="1557"/>
                    </a:lnTo>
                    <a:lnTo>
                      <a:pt x="215" y="1535"/>
                    </a:lnTo>
                    <a:lnTo>
                      <a:pt x="213" y="1354"/>
                    </a:lnTo>
                    <a:lnTo>
                      <a:pt x="206" y="1323"/>
                    </a:lnTo>
                    <a:lnTo>
                      <a:pt x="187" y="1289"/>
                    </a:lnTo>
                    <a:lnTo>
                      <a:pt x="187" y="1259"/>
                    </a:lnTo>
                    <a:lnTo>
                      <a:pt x="200" y="1223"/>
                    </a:lnTo>
                    <a:lnTo>
                      <a:pt x="211" y="1178"/>
                    </a:lnTo>
                    <a:lnTo>
                      <a:pt x="206" y="1133"/>
                    </a:lnTo>
                    <a:lnTo>
                      <a:pt x="204" y="1114"/>
                    </a:lnTo>
                    <a:lnTo>
                      <a:pt x="202" y="1089"/>
                    </a:lnTo>
                    <a:lnTo>
                      <a:pt x="208" y="1077"/>
                    </a:lnTo>
                    <a:lnTo>
                      <a:pt x="213" y="1027"/>
                    </a:lnTo>
                    <a:lnTo>
                      <a:pt x="208" y="1002"/>
                    </a:lnTo>
                    <a:lnTo>
                      <a:pt x="217" y="941"/>
                    </a:lnTo>
                    <a:lnTo>
                      <a:pt x="208" y="888"/>
                    </a:lnTo>
                    <a:lnTo>
                      <a:pt x="215" y="860"/>
                    </a:lnTo>
                    <a:lnTo>
                      <a:pt x="226" y="807"/>
                    </a:lnTo>
                    <a:lnTo>
                      <a:pt x="215" y="773"/>
                    </a:lnTo>
                    <a:lnTo>
                      <a:pt x="193" y="748"/>
                    </a:lnTo>
                    <a:lnTo>
                      <a:pt x="187" y="720"/>
                    </a:lnTo>
                    <a:lnTo>
                      <a:pt x="162" y="695"/>
                    </a:lnTo>
                    <a:lnTo>
                      <a:pt x="136" y="678"/>
                    </a:lnTo>
                    <a:lnTo>
                      <a:pt x="99" y="670"/>
                    </a:lnTo>
                    <a:lnTo>
                      <a:pt x="81" y="634"/>
                    </a:lnTo>
                    <a:lnTo>
                      <a:pt x="57" y="597"/>
                    </a:lnTo>
                    <a:lnTo>
                      <a:pt x="55" y="567"/>
                    </a:lnTo>
                    <a:lnTo>
                      <a:pt x="53" y="539"/>
                    </a:lnTo>
                    <a:lnTo>
                      <a:pt x="46" y="519"/>
                    </a:lnTo>
                    <a:lnTo>
                      <a:pt x="33" y="497"/>
                    </a:lnTo>
                    <a:lnTo>
                      <a:pt x="15" y="486"/>
                    </a:lnTo>
                    <a:lnTo>
                      <a:pt x="2" y="463"/>
                    </a:lnTo>
                    <a:lnTo>
                      <a:pt x="18" y="444"/>
                    </a:lnTo>
                    <a:lnTo>
                      <a:pt x="18" y="396"/>
                    </a:lnTo>
                    <a:lnTo>
                      <a:pt x="9" y="371"/>
                    </a:lnTo>
                    <a:lnTo>
                      <a:pt x="0" y="346"/>
                    </a:lnTo>
                    <a:lnTo>
                      <a:pt x="9" y="310"/>
                    </a:lnTo>
                    <a:lnTo>
                      <a:pt x="44" y="220"/>
                    </a:lnTo>
                    <a:lnTo>
                      <a:pt x="46" y="181"/>
                    </a:lnTo>
                    <a:lnTo>
                      <a:pt x="66" y="140"/>
                    </a:lnTo>
                    <a:lnTo>
                      <a:pt x="66" y="117"/>
                    </a:lnTo>
                    <a:lnTo>
                      <a:pt x="70" y="75"/>
                    </a:lnTo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4800600" y="358128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648320" y="3429000"/>
          <a:ext cx="380880" cy="380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3429000"/>
                    <a:ext cx="380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5" name=""/>
          <p:cNvGrpSpPr/>
          <p:nvPr/>
        </p:nvGrpSpPr>
        <p:grpSpPr>
          <a:xfrm>
            <a:off x="61920" y="260280"/>
            <a:ext cx="9081360" cy="5256360"/>
            <a:chOff x="61920" y="260280"/>
            <a:chExt cx="9081360" cy="5256360"/>
          </a:xfrm>
        </p:grpSpPr>
        <p:grpSp>
          <p:nvGrpSpPr>
            <p:cNvPr id="166" name=""/>
            <p:cNvGrpSpPr/>
            <p:nvPr/>
          </p:nvGrpSpPr>
          <p:grpSpPr>
            <a:xfrm>
              <a:off x="3686760" y="263520"/>
              <a:ext cx="5456520" cy="4889520"/>
              <a:chOff x="3686760" y="263520"/>
              <a:chExt cx="5456520" cy="488952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8341200" y="3371760"/>
                <a:ext cx="802080" cy="1781280"/>
                <a:chOff x="8341200" y="3371760"/>
                <a:chExt cx="802080" cy="178128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8341200" y="4629240"/>
                  <a:ext cx="802080" cy="523800"/>
                  <a:chOff x="8341200" y="4629240"/>
                  <a:chExt cx="802080" cy="5238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9014040" y="4629240"/>
                    <a:ext cx="12924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200">
                        <a:moveTo>
                          <a:pt x="29" y="3"/>
                        </a:moveTo>
                        <a:lnTo>
                          <a:pt x="37" y="0"/>
                        </a:lnTo>
                        <a:lnTo>
                          <a:pt x="53" y="22"/>
                        </a:lnTo>
                        <a:lnTo>
                          <a:pt x="51" y="86"/>
                        </a:lnTo>
                        <a:lnTo>
                          <a:pt x="62" y="86"/>
                        </a:lnTo>
                        <a:lnTo>
                          <a:pt x="64" y="94"/>
                        </a:lnTo>
                        <a:lnTo>
                          <a:pt x="68" y="108"/>
                        </a:lnTo>
                        <a:lnTo>
                          <a:pt x="70" y="116"/>
                        </a:lnTo>
                        <a:lnTo>
                          <a:pt x="79" y="113"/>
                        </a:lnTo>
                        <a:lnTo>
                          <a:pt x="86" y="100"/>
                        </a:lnTo>
                        <a:lnTo>
                          <a:pt x="88" y="108"/>
                        </a:lnTo>
                        <a:lnTo>
                          <a:pt x="84" y="119"/>
                        </a:lnTo>
                        <a:lnTo>
                          <a:pt x="79" y="127"/>
                        </a:lnTo>
                        <a:lnTo>
                          <a:pt x="77" y="144"/>
                        </a:lnTo>
                        <a:lnTo>
                          <a:pt x="66" y="152"/>
                        </a:lnTo>
                        <a:lnTo>
                          <a:pt x="59" y="155"/>
                        </a:lnTo>
                        <a:lnTo>
                          <a:pt x="51" y="163"/>
                        </a:lnTo>
                        <a:lnTo>
                          <a:pt x="48" y="171"/>
                        </a:lnTo>
                        <a:lnTo>
                          <a:pt x="51" y="180"/>
                        </a:lnTo>
                        <a:lnTo>
                          <a:pt x="53" y="188"/>
                        </a:lnTo>
                        <a:lnTo>
                          <a:pt x="42" y="193"/>
                        </a:lnTo>
                        <a:lnTo>
                          <a:pt x="35" y="196"/>
                        </a:lnTo>
                        <a:lnTo>
                          <a:pt x="29" y="199"/>
                        </a:lnTo>
                        <a:lnTo>
                          <a:pt x="24" y="196"/>
                        </a:lnTo>
                        <a:lnTo>
                          <a:pt x="13" y="193"/>
                        </a:lnTo>
                        <a:lnTo>
                          <a:pt x="9" y="188"/>
                        </a:lnTo>
                        <a:lnTo>
                          <a:pt x="13" y="182"/>
                        </a:lnTo>
                        <a:lnTo>
                          <a:pt x="22" y="180"/>
                        </a:lnTo>
                        <a:lnTo>
                          <a:pt x="29" y="166"/>
                        </a:lnTo>
                        <a:lnTo>
                          <a:pt x="29" y="160"/>
                        </a:lnTo>
                        <a:lnTo>
                          <a:pt x="22" y="155"/>
                        </a:lnTo>
                        <a:lnTo>
                          <a:pt x="13" y="146"/>
                        </a:lnTo>
                        <a:lnTo>
                          <a:pt x="7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7" y="130"/>
                        </a:lnTo>
                        <a:lnTo>
                          <a:pt x="13" y="127"/>
                        </a:lnTo>
                        <a:lnTo>
                          <a:pt x="22" y="119"/>
                        </a:lnTo>
                        <a:lnTo>
                          <a:pt x="26" y="116"/>
                        </a:lnTo>
                        <a:lnTo>
                          <a:pt x="31" y="86"/>
                        </a:lnTo>
                        <a:lnTo>
                          <a:pt x="26" y="77"/>
                        </a:lnTo>
                        <a:lnTo>
                          <a:pt x="20" y="72"/>
                        </a:lnTo>
                        <a:lnTo>
                          <a:pt x="18" y="55"/>
                        </a:lnTo>
                        <a:lnTo>
                          <a:pt x="20" y="39"/>
                        </a:lnTo>
                        <a:lnTo>
                          <a:pt x="22" y="28"/>
                        </a:lnTo>
                        <a:lnTo>
                          <a:pt x="29" y="3"/>
                        </a:lnTo>
                      </a:path>
                    </a:pathLst>
                  </a:custGeom>
                  <a:solidFill>
                    <a:srgbClr val="00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8768880" y="4883040"/>
                    <a:ext cx="23760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70">
                        <a:moveTo>
                          <a:pt x="115" y="0"/>
                        </a:moveTo>
                        <a:lnTo>
                          <a:pt x="134" y="0"/>
                        </a:lnTo>
                        <a:lnTo>
                          <a:pt x="163" y="44"/>
                        </a:lnTo>
                        <a:lnTo>
                          <a:pt x="132" y="83"/>
                        </a:lnTo>
                        <a:lnTo>
                          <a:pt x="132" y="100"/>
                        </a:lnTo>
                        <a:lnTo>
                          <a:pt x="126" y="105"/>
                        </a:lnTo>
                        <a:lnTo>
                          <a:pt x="108" y="105"/>
                        </a:lnTo>
                        <a:lnTo>
                          <a:pt x="86" y="127"/>
                        </a:lnTo>
                        <a:lnTo>
                          <a:pt x="66" y="150"/>
                        </a:lnTo>
                        <a:lnTo>
                          <a:pt x="53" y="169"/>
                        </a:lnTo>
                        <a:lnTo>
                          <a:pt x="53" y="152"/>
                        </a:lnTo>
                        <a:lnTo>
                          <a:pt x="29" y="155"/>
                        </a:lnTo>
                        <a:lnTo>
                          <a:pt x="18" y="155"/>
                        </a:lnTo>
                        <a:lnTo>
                          <a:pt x="0" y="155"/>
                        </a:lnTo>
                        <a:lnTo>
                          <a:pt x="24" y="127"/>
                        </a:lnTo>
                        <a:lnTo>
                          <a:pt x="33" y="114"/>
                        </a:lnTo>
                        <a:lnTo>
                          <a:pt x="42" y="114"/>
                        </a:lnTo>
                        <a:lnTo>
                          <a:pt x="59" y="91"/>
                        </a:lnTo>
                        <a:lnTo>
                          <a:pt x="66" y="91"/>
                        </a:lnTo>
                        <a:lnTo>
                          <a:pt x="66" y="89"/>
                        </a:lnTo>
                        <a:lnTo>
                          <a:pt x="75" y="80"/>
                        </a:lnTo>
                        <a:lnTo>
                          <a:pt x="86" y="80"/>
                        </a:lnTo>
                        <a:lnTo>
                          <a:pt x="82" y="55"/>
                        </a:lnTo>
                        <a:lnTo>
                          <a:pt x="84" y="55"/>
                        </a:lnTo>
                        <a:lnTo>
                          <a:pt x="95" y="42"/>
                        </a:lnTo>
                        <a:lnTo>
                          <a:pt x="99" y="53"/>
                        </a:lnTo>
                        <a:lnTo>
                          <a:pt x="117" y="33"/>
                        </a:lnTo>
                        <a:lnTo>
                          <a:pt x="115" y="0"/>
                        </a:lnTo>
                      </a:path>
                    </a:pathLst>
                  </a:custGeom>
                  <a:solidFill>
                    <a:srgbClr val="00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8341200" y="4898880"/>
                    <a:ext cx="9108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90">
                        <a:moveTo>
                          <a:pt x="0" y="0"/>
                        </a:moveTo>
                        <a:lnTo>
                          <a:pt x="13" y="0"/>
                        </a:lnTo>
                        <a:lnTo>
                          <a:pt x="29" y="11"/>
                        </a:lnTo>
                        <a:lnTo>
                          <a:pt x="62" y="11"/>
                        </a:lnTo>
                        <a:lnTo>
                          <a:pt x="58" y="25"/>
                        </a:lnTo>
                        <a:lnTo>
                          <a:pt x="62" y="42"/>
                        </a:lnTo>
                        <a:lnTo>
                          <a:pt x="51" y="42"/>
                        </a:lnTo>
                        <a:lnTo>
                          <a:pt x="49" y="45"/>
                        </a:lnTo>
                        <a:lnTo>
                          <a:pt x="42" y="47"/>
                        </a:lnTo>
                        <a:lnTo>
                          <a:pt x="49" y="89"/>
                        </a:lnTo>
                        <a:lnTo>
                          <a:pt x="29" y="86"/>
                        </a:lnTo>
                        <a:lnTo>
                          <a:pt x="11" y="72"/>
                        </a:lnTo>
                        <a:lnTo>
                          <a:pt x="11" y="45"/>
                        </a:lnTo>
                        <a:lnTo>
                          <a:pt x="11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8503560" y="3371760"/>
                  <a:ext cx="144720" cy="160200"/>
                </a:xfrm>
                <a:custGeom>
                  <a:avLst/>
                  <a:gdLst/>
                  <a:ahLst/>
                  <a:rect l="l" t="t" r="r" b="b"/>
                  <a:pathLst>
                    <a:path w="100" h="101">
                      <a:moveTo>
                        <a:pt x="18" y="37"/>
                      </a:moveTo>
                      <a:lnTo>
                        <a:pt x="0" y="80"/>
                      </a:lnTo>
                      <a:lnTo>
                        <a:pt x="7" y="97"/>
                      </a:lnTo>
                      <a:lnTo>
                        <a:pt x="35" y="100"/>
                      </a:lnTo>
                      <a:lnTo>
                        <a:pt x="59" y="100"/>
                      </a:lnTo>
                      <a:lnTo>
                        <a:pt x="68" y="83"/>
                      </a:lnTo>
                      <a:lnTo>
                        <a:pt x="73" y="66"/>
                      </a:lnTo>
                      <a:lnTo>
                        <a:pt x="99" y="66"/>
                      </a:lnTo>
                      <a:lnTo>
                        <a:pt x="95" y="40"/>
                      </a:lnTo>
                      <a:lnTo>
                        <a:pt x="95" y="14"/>
                      </a:lnTo>
                      <a:lnTo>
                        <a:pt x="68" y="0"/>
                      </a:lnTo>
                      <a:lnTo>
                        <a:pt x="66" y="29"/>
                      </a:lnTo>
                      <a:lnTo>
                        <a:pt x="81" y="46"/>
                      </a:lnTo>
                      <a:lnTo>
                        <a:pt x="57" y="46"/>
                      </a:lnTo>
                      <a:lnTo>
                        <a:pt x="48" y="57"/>
                      </a:lnTo>
                      <a:lnTo>
                        <a:pt x="18" y="37"/>
                      </a:lnTo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6916680" y="1036440"/>
                <a:ext cx="1690920" cy="3799080"/>
                <a:chOff x="6916680" y="1036440"/>
                <a:chExt cx="1690920" cy="379908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7189200" y="1423800"/>
                  <a:ext cx="376560" cy="1141560"/>
                  <a:chOff x="7189200" y="1423800"/>
                  <a:chExt cx="376560" cy="114156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7189200" y="2448000"/>
                    <a:ext cx="896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74">
                        <a:moveTo>
                          <a:pt x="0" y="56"/>
                        </a:moveTo>
                        <a:lnTo>
                          <a:pt x="11" y="70"/>
                        </a:lnTo>
                        <a:lnTo>
                          <a:pt x="24" y="67"/>
                        </a:lnTo>
                        <a:lnTo>
                          <a:pt x="44" y="73"/>
                        </a:lnTo>
                        <a:lnTo>
                          <a:pt x="59" y="73"/>
                        </a:lnTo>
                        <a:lnTo>
                          <a:pt x="61" y="48"/>
                        </a:lnTo>
                        <a:lnTo>
                          <a:pt x="57" y="31"/>
                        </a:lnTo>
                        <a:lnTo>
                          <a:pt x="46" y="11"/>
                        </a:lnTo>
                        <a:lnTo>
                          <a:pt x="35" y="11"/>
                        </a:lnTo>
                        <a:lnTo>
                          <a:pt x="31" y="0"/>
                        </a:lnTo>
                        <a:lnTo>
                          <a:pt x="15" y="0"/>
                        </a:lnTo>
                        <a:lnTo>
                          <a:pt x="15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7428240" y="2244600"/>
                    <a:ext cx="8820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94">
                        <a:moveTo>
                          <a:pt x="13" y="0"/>
                        </a:moveTo>
                        <a:lnTo>
                          <a:pt x="40" y="3"/>
                        </a:lnTo>
                        <a:lnTo>
                          <a:pt x="49" y="28"/>
                        </a:lnTo>
                        <a:lnTo>
                          <a:pt x="60" y="42"/>
                        </a:lnTo>
                        <a:lnTo>
                          <a:pt x="51" y="54"/>
                        </a:lnTo>
                        <a:lnTo>
                          <a:pt x="60" y="68"/>
                        </a:lnTo>
                        <a:lnTo>
                          <a:pt x="56" y="85"/>
                        </a:lnTo>
                        <a:lnTo>
                          <a:pt x="47" y="93"/>
                        </a:lnTo>
                        <a:lnTo>
                          <a:pt x="29" y="90"/>
                        </a:lnTo>
                        <a:lnTo>
                          <a:pt x="18" y="90"/>
                        </a:lnTo>
                        <a:lnTo>
                          <a:pt x="11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00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7412040" y="1423800"/>
                    <a:ext cx="15372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87">
                        <a:moveTo>
                          <a:pt x="15" y="0"/>
                        </a:moveTo>
                        <a:lnTo>
                          <a:pt x="28" y="14"/>
                        </a:lnTo>
                        <a:lnTo>
                          <a:pt x="42" y="11"/>
                        </a:lnTo>
                        <a:lnTo>
                          <a:pt x="61" y="14"/>
                        </a:lnTo>
                        <a:lnTo>
                          <a:pt x="79" y="14"/>
                        </a:lnTo>
                        <a:lnTo>
                          <a:pt x="88" y="22"/>
                        </a:lnTo>
                        <a:lnTo>
                          <a:pt x="98" y="42"/>
                        </a:lnTo>
                        <a:lnTo>
                          <a:pt x="105" y="50"/>
                        </a:lnTo>
                        <a:lnTo>
                          <a:pt x="81" y="55"/>
                        </a:lnTo>
                        <a:lnTo>
                          <a:pt x="74" y="61"/>
                        </a:lnTo>
                        <a:lnTo>
                          <a:pt x="81" y="72"/>
                        </a:lnTo>
                        <a:lnTo>
                          <a:pt x="81" y="83"/>
                        </a:lnTo>
                        <a:lnTo>
                          <a:pt x="57" y="72"/>
                        </a:lnTo>
                        <a:lnTo>
                          <a:pt x="37" y="64"/>
                        </a:lnTo>
                        <a:lnTo>
                          <a:pt x="28" y="67"/>
                        </a:lnTo>
                        <a:lnTo>
                          <a:pt x="28" y="83"/>
                        </a:lnTo>
                        <a:lnTo>
                          <a:pt x="15" y="86"/>
                        </a:lnTo>
                        <a:lnTo>
                          <a:pt x="9" y="72"/>
                        </a:lnTo>
                        <a:lnTo>
                          <a:pt x="7" y="55"/>
                        </a:lnTo>
                        <a:lnTo>
                          <a:pt x="0" y="53"/>
                        </a:lnTo>
                        <a:lnTo>
                          <a:pt x="7" y="36"/>
                        </a:lnTo>
                        <a:lnTo>
                          <a:pt x="18" y="31"/>
                        </a:lnTo>
                        <a:lnTo>
                          <a:pt x="15" y="0"/>
                        </a:lnTo>
                      </a:path>
                    </a:pathLst>
                  </a:custGeom>
                  <a:solidFill>
                    <a:srgbClr val="00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8" name=""/>
                <p:cNvSpPr/>
                <p:nvPr/>
              </p:nvSpPr>
              <p:spPr>
                <a:xfrm>
                  <a:off x="7541640" y="3733560"/>
                  <a:ext cx="1065960" cy="1101960"/>
                </a:xfrm>
                <a:custGeom>
                  <a:avLst/>
                  <a:gdLst/>
                  <a:ahLst/>
                  <a:rect l="l" t="t" r="r" b="b"/>
                  <a:pathLst>
                    <a:path w="735" h="694">
                      <a:moveTo>
                        <a:pt x="529" y="0"/>
                      </a:moveTo>
                      <a:lnTo>
                        <a:pt x="568" y="0"/>
                      </a:lnTo>
                      <a:lnTo>
                        <a:pt x="568" y="56"/>
                      </a:lnTo>
                      <a:lnTo>
                        <a:pt x="583" y="70"/>
                      </a:lnTo>
                      <a:lnTo>
                        <a:pt x="588" y="78"/>
                      </a:lnTo>
                      <a:lnTo>
                        <a:pt x="596" y="78"/>
                      </a:lnTo>
                      <a:lnTo>
                        <a:pt x="601" y="89"/>
                      </a:lnTo>
                      <a:lnTo>
                        <a:pt x="605" y="145"/>
                      </a:lnTo>
                      <a:lnTo>
                        <a:pt x="627" y="181"/>
                      </a:lnTo>
                      <a:lnTo>
                        <a:pt x="660" y="234"/>
                      </a:lnTo>
                      <a:lnTo>
                        <a:pt x="660" y="242"/>
                      </a:lnTo>
                      <a:lnTo>
                        <a:pt x="695" y="287"/>
                      </a:lnTo>
                      <a:lnTo>
                        <a:pt x="695" y="295"/>
                      </a:lnTo>
                      <a:lnTo>
                        <a:pt x="730" y="331"/>
                      </a:lnTo>
                      <a:lnTo>
                        <a:pt x="734" y="395"/>
                      </a:lnTo>
                      <a:lnTo>
                        <a:pt x="730" y="454"/>
                      </a:lnTo>
                      <a:lnTo>
                        <a:pt x="719" y="481"/>
                      </a:lnTo>
                      <a:lnTo>
                        <a:pt x="706" y="495"/>
                      </a:lnTo>
                      <a:lnTo>
                        <a:pt x="701" y="523"/>
                      </a:lnTo>
                      <a:lnTo>
                        <a:pt x="688" y="548"/>
                      </a:lnTo>
                      <a:lnTo>
                        <a:pt x="677" y="559"/>
                      </a:lnTo>
                      <a:lnTo>
                        <a:pt x="679" y="568"/>
                      </a:lnTo>
                      <a:lnTo>
                        <a:pt x="666" y="584"/>
                      </a:lnTo>
                      <a:lnTo>
                        <a:pt x="660" y="621"/>
                      </a:lnTo>
                      <a:lnTo>
                        <a:pt x="658" y="640"/>
                      </a:lnTo>
                      <a:lnTo>
                        <a:pt x="644" y="648"/>
                      </a:lnTo>
                      <a:lnTo>
                        <a:pt x="642" y="657"/>
                      </a:lnTo>
                      <a:lnTo>
                        <a:pt x="634" y="674"/>
                      </a:lnTo>
                      <a:lnTo>
                        <a:pt x="618" y="676"/>
                      </a:lnTo>
                      <a:lnTo>
                        <a:pt x="607" y="682"/>
                      </a:lnTo>
                      <a:lnTo>
                        <a:pt x="592" y="693"/>
                      </a:lnTo>
                      <a:lnTo>
                        <a:pt x="572" y="671"/>
                      </a:lnTo>
                      <a:lnTo>
                        <a:pt x="551" y="674"/>
                      </a:lnTo>
                      <a:lnTo>
                        <a:pt x="544" y="674"/>
                      </a:lnTo>
                      <a:lnTo>
                        <a:pt x="513" y="679"/>
                      </a:lnTo>
                      <a:lnTo>
                        <a:pt x="494" y="657"/>
                      </a:lnTo>
                      <a:lnTo>
                        <a:pt x="481" y="635"/>
                      </a:lnTo>
                      <a:lnTo>
                        <a:pt x="472" y="637"/>
                      </a:lnTo>
                      <a:lnTo>
                        <a:pt x="463" y="618"/>
                      </a:lnTo>
                      <a:lnTo>
                        <a:pt x="459" y="601"/>
                      </a:lnTo>
                      <a:lnTo>
                        <a:pt x="454" y="596"/>
                      </a:lnTo>
                      <a:lnTo>
                        <a:pt x="454" y="568"/>
                      </a:lnTo>
                      <a:lnTo>
                        <a:pt x="457" y="551"/>
                      </a:lnTo>
                      <a:lnTo>
                        <a:pt x="452" y="540"/>
                      </a:lnTo>
                      <a:lnTo>
                        <a:pt x="435" y="545"/>
                      </a:lnTo>
                      <a:lnTo>
                        <a:pt x="426" y="548"/>
                      </a:lnTo>
                      <a:lnTo>
                        <a:pt x="411" y="548"/>
                      </a:lnTo>
                      <a:lnTo>
                        <a:pt x="404" y="548"/>
                      </a:lnTo>
                      <a:lnTo>
                        <a:pt x="398" y="548"/>
                      </a:lnTo>
                      <a:lnTo>
                        <a:pt x="387" y="532"/>
                      </a:lnTo>
                      <a:lnTo>
                        <a:pt x="376" y="509"/>
                      </a:lnTo>
                      <a:lnTo>
                        <a:pt x="374" y="512"/>
                      </a:lnTo>
                      <a:lnTo>
                        <a:pt x="354" y="512"/>
                      </a:lnTo>
                      <a:lnTo>
                        <a:pt x="352" y="504"/>
                      </a:lnTo>
                      <a:lnTo>
                        <a:pt x="341" y="512"/>
                      </a:lnTo>
                      <a:lnTo>
                        <a:pt x="330" y="509"/>
                      </a:lnTo>
                      <a:lnTo>
                        <a:pt x="312" y="509"/>
                      </a:lnTo>
                      <a:lnTo>
                        <a:pt x="301" y="504"/>
                      </a:lnTo>
                      <a:lnTo>
                        <a:pt x="297" y="512"/>
                      </a:lnTo>
                      <a:lnTo>
                        <a:pt x="280" y="515"/>
                      </a:lnTo>
                      <a:lnTo>
                        <a:pt x="275" y="509"/>
                      </a:lnTo>
                      <a:lnTo>
                        <a:pt x="264" y="523"/>
                      </a:lnTo>
                      <a:lnTo>
                        <a:pt x="251" y="537"/>
                      </a:lnTo>
                      <a:lnTo>
                        <a:pt x="242" y="537"/>
                      </a:lnTo>
                      <a:lnTo>
                        <a:pt x="229" y="554"/>
                      </a:lnTo>
                      <a:lnTo>
                        <a:pt x="210" y="554"/>
                      </a:lnTo>
                      <a:lnTo>
                        <a:pt x="194" y="559"/>
                      </a:lnTo>
                      <a:lnTo>
                        <a:pt x="177" y="568"/>
                      </a:lnTo>
                      <a:lnTo>
                        <a:pt x="168" y="579"/>
                      </a:lnTo>
                      <a:lnTo>
                        <a:pt x="162" y="576"/>
                      </a:lnTo>
                      <a:lnTo>
                        <a:pt x="155" y="587"/>
                      </a:lnTo>
                      <a:lnTo>
                        <a:pt x="146" y="590"/>
                      </a:lnTo>
                      <a:lnTo>
                        <a:pt x="135" y="604"/>
                      </a:lnTo>
                      <a:lnTo>
                        <a:pt x="100" y="604"/>
                      </a:lnTo>
                      <a:lnTo>
                        <a:pt x="85" y="584"/>
                      </a:lnTo>
                      <a:lnTo>
                        <a:pt x="83" y="576"/>
                      </a:lnTo>
                      <a:lnTo>
                        <a:pt x="79" y="584"/>
                      </a:lnTo>
                      <a:lnTo>
                        <a:pt x="72" y="571"/>
                      </a:lnTo>
                      <a:lnTo>
                        <a:pt x="74" y="534"/>
                      </a:lnTo>
                      <a:lnTo>
                        <a:pt x="79" y="512"/>
                      </a:lnTo>
                      <a:lnTo>
                        <a:pt x="72" y="495"/>
                      </a:lnTo>
                      <a:lnTo>
                        <a:pt x="66" y="479"/>
                      </a:lnTo>
                      <a:lnTo>
                        <a:pt x="63" y="459"/>
                      </a:lnTo>
                      <a:lnTo>
                        <a:pt x="52" y="451"/>
                      </a:lnTo>
                      <a:lnTo>
                        <a:pt x="50" y="448"/>
                      </a:lnTo>
                      <a:lnTo>
                        <a:pt x="48" y="440"/>
                      </a:lnTo>
                      <a:lnTo>
                        <a:pt x="33" y="415"/>
                      </a:lnTo>
                      <a:lnTo>
                        <a:pt x="13" y="353"/>
                      </a:lnTo>
                      <a:lnTo>
                        <a:pt x="7" y="312"/>
                      </a:lnTo>
                      <a:lnTo>
                        <a:pt x="7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9" y="245"/>
                      </a:lnTo>
                      <a:lnTo>
                        <a:pt x="33" y="214"/>
                      </a:lnTo>
                      <a:lnTo>
                        <a:pt x="57" y="217"/>
                      </a:lnTo>
                      <a:lnTo>
                        <a:pt x="61" y="223"/>
                      </a:lnTo>
                      <a:lnTo>
                        <a:pt x="92" y="223"/>
                      </a:lnTo>
                      <a:lnTo>
                        <a:pt x="94" y="214"/>
                      </a:lnTo>
                      <a:lnTo>
                        <a:pt x="100" y="217"/>
                      </a:lnTo>
                      <a:lnTo>
                        <a:pt x="109" y="209"/>
                      </a:lnTo>
                      <a:lnTo>
                        <a:pt x="116" y="212"/>
                      </a:lnTo>
                      <a:lnTo>
                        <a:pt x="122" y="206"/>
                      </a:lnTo>
                      <a:lnTo>
                        <a:pt x="120" y="198"/>
                      </a:lnTo>
                      <a:lnTo>
                        <a:pt x="127" y="178"/>
                      </a:lnTo>
                      <a:lnTo>
                        <a:pt x="135" y="170"/>
                      </a:lnTo>
                      <a:lnTo>
                        <a:pt x="131" y="164"/>
                      </a:lnTo>
                      <a:lnTo>
                        <a:pt x="135" y="159"/>
                      </a:lnTo>
                      <a:lnTo>
                        <a:pt x="131" y="150"/>
                      </a:lnTo>
                      <a:lnTo>
                        <a:pt x="144" y="136"/>
                      </a:lnTo>
                      <a:lnTo>
                        <a:pt x="164" y="134"/>
                      </a:lnTo>
                      <a:lnTo>
                        <a:pt x="184" y="100"/>
                      </a:lnTo>
                      <a:lnTo>
                        <a:pt x="208" y="72"/>
                      </a:lnTo>
                      <a:lnTo>
                        <a:pt x="218" y="70"/>
                      </a:lnTo>
                      <a:lnTo>
                        <a:pt x="225" y="64"/>
                      </a:lnTo>
                      <a:lnTo>
                        <a:pt x="236" y="64"/>
                      </a:lnTo>
                      <a:lnTo>
                        <a:pt x="256" y="86"/>
                      </a:lnTo>
                      <a:lnTo>
                        <a:pt x="262" y="89"/>
                      </a:lnTo>
                      <a:lnTo>
                        <a:pt x="269" y="78"/>
                      </a:lnTo>
                      <a:lnTo>
                        <a:pt x="282" y="64"/>
                      </a:lnTo>
                      <a:lnTo>
                        <a:pt x="291" y="61"/>
                      </a:lnTo>
                      <a:lnTo>
                        <a:pt x="299" y="39"/>
                      </a:lnTo>
                      <a:lnTo>
                        <a:pt x="308" y="36"/>
                      </a:lnTo>
                      <a:lnTo>
                        <a:pt x="319" y="28"/>
                      </a:lnTo>
                      <a:lnTo>
                        <a:pt x="330" y="19"/>
                      </a:lnTo>
                      <a:lnTo>
                        <a:pt x="341" y="19"/>
                      </a:lnTo>
                      <a:lnTo>
                        <a:pt x="350" y="8"/>
                      </a:lnTo>
                      <a:lnTo>
                        <a:pt x="363" y="8"/>
                      </a:lnTo>
                      <a:lnTo>
                        <a:pt x="378" y="8"/>
                      </a:lnTo>
                      <a:lnTo>
                        <a:pt x="398" y="14"/>
                      </a:lnTo>
                      <a:lnTo>
                        <a:pt x="411" y="25"/>
                      </a:lnTo>
                      <a:lnTo>
                        <a:pt x="413" y="33"/>
                      </a:lnTo>
                      <a:lnTo>
                        <a:pt x="415" y="39"/>
                      </a:lnTo>
                      <a:lnTo>
                        <a:pt x="417" y="53"/>
                      </a:lnTo>
                      <a:lnTo>
                        <a:pt x="415" y="58"/>
                      </a:lnTo>
                      <a:lnTo>
                        <a:pt x="415" y="70"/>
                      </a:lnTo>
                      <a:lnTo>
                        <a:pt x="413" y="78"/>
                      </a:lnTo>
                      <a:lnTo>
                        <a:pt x="446" y="109"/>
                      </a:lnTo>
                      <a:lnTo>
                        <a:pt x="457" y="125"/>
                      </a:lnTo>
                      <a:lnTo>
                        <a:pt x="470" y="131"/>
                      </a:lnTo>
                      <a:lnTo>
                        <a:pt x="483" y="139"/>
                      </a:lnTo>
                      <a:lnTo>
                        <a:pt x="492" y="142"/>
                      </a:lnTo>
                      <a:lnTo>
                        <a:pt x="505" y="134"/>
                      </a:lnTo>
                      <a:lnTo>
                        <a:pt x="516" y="109"/>
                      </a:lnTo>
                      <a:lnTo>
                        <a:pt x="520" y="89"/>
                      </a:lnTo>
                      <a:lnTo>
                        <a:pt x="524" y="53"/>
                      </a:lnTo>
                      <a:lnTo>
                        <a:pt x="529" y="36"/>
                      </a:lnTo>
                      <a:lnTo>
                        <a:pt x="529" y="0"/>
                      </a:lnTo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290720" y="3495600"/>
                  <a:ext cx="592920" cy="150840"/>
                </a:xfrm>
                <a:custGeom>
                  <a:avLst/>
                  <a:gdLst/>
                  <a:ahLst/>
                  <a:rect l="l" t="t" r="r" b="b"/>
                  <a:pathLst>
                    <a:path w="409" h="95">
                      <a:moveTo>
                        <a:pt x="0" y="0"/>
                      </a:moveTo>
                      <a:lnTo>
                        <a:pt x="31" y="14"/>
                      </a:lnTo>
                      <a:lnTo>
                        <a:pt x="57" y="14"/>
                      </a:lnTo>
                      <a:lnTo>
                        <a:pt x="81" y="14"/>
                      </a:lnTo>
                      <a:lnTo>
                        <a:pt x="99" y="14"/>
                      </a:lnTo>
                      <a:lnTo>
                        <a:pt x="112" y="17"/>
                      </a:lnTo>
                      <a:lnTo>
                        <a:pt x="129" y="25"/>
                      </a:lnTo>
                      <a:lnTo>
                        <a:pt x="138" y="44"/>
                      </a:lnTo>
                      <a:lnTo>
                        <a:pt x="147" y="53"/>
                      </a:lnTo>
                      <a:lnTo>
                        <a:pt x="162" y="50"/>
                      </a:lnTo>
                      <a:lnTo>
                        <a:pt x="180" y="50"/>
                      </a:lnTo>
                      <a:lnTo>
                        <a:pt x="200" y="61"/>
                      </a:lnTo>
                      <a:lnTo>
                        <a:pt x="213" y="66"/>
                      </a:lnTo>
                      <a:lnTo>
                        <a:pt x="222" y="66"/>
                      </a:lnTo>
                      <a:lnTo>
                        <a:pt x="224" y="53"/>
                      </a:lnTo>
                      <a:lnTo>
                        <a:pt x="230" y="44"/>
                      </a:lnTo>
                      <a:lnTo>
                        <a:pt x="257" y="50"/>
                      </a:lnTo>
                      <a:lnTo>
                        <a:pt x="279" y="50"/>
                      </a:lnTo>
                      <a:lnTo>
                        <a:pt x="298" y="50"/>
                      </a:lnTo>
                      <a:lnTo>
                        <a:pt x="314" y="58"/>
                      </a:lnTo>
                      <a:lnTo>
                        <a:pt x="322" y="64"/>
                      </a:lnTo>
                      <a:lnTo>
                        <a:pt x="338" y="61"/>
                      </a:lnTo>
                      <a:lnTo>
                        <a:pt x="349" y="55"/>
                      </a:lnTo>
                      <a:lnTo>
                        <a:pt x="355" y="50"/>
                      </a:lnTo>
                      <a:lnTo>
                        <a:pt x="373" y="50"/>
                      </a:lnTo>
                      <a:lnTo>
                        <a:pt x="384" y="44"/>
                      </a:lnTo>
                      <a:lnTo>
                        <a:pt x="399" y="39"/>
                      </a:lnTo>
                      <a:lnTo>
                        <a:pt x="408" y="39"/>
                      </a:lnTo>
                      <a:lnTo>
                        <a:pt x="406" y="58"/>
                      </a:lnTo>
                      <a:lnTo>
                        <a:pt x="401" y="66"/>
                      </a:lnTo>
                      <a:lnTo>
                        <a:pt x="393" y="75"/>
                      </a:lnTo>
                      <a:lnTo>
                        <a:pt x="384" y="75"/>
                      </a:lnTo>
                      <a:lnTo>
                        <a:pt x="382" y="75"/>
                      </a:lnTo>
                      <a:lnTo>
                        <a:pt x="371" y="77"/>
                      </a:lnTo>
                      <a:lnTo>
                        <a:pt x="362" y="88"/>
                      </a:lnTo>
                      <a:lnTo>
                        <a:pt x="353" y="86"/>
                      </a:lnTo>
                      <a:lnTo>
                        <a:pt x="344" y="80"/>
                      </a:lnTo>
                      <a:lnTo>
                        <a:pt x="336" y="86"/>
                      </a:lnTo>
                      <a:lnTo>
                        <a:pt x="327" y="88"/>
                      </a:lnTo>
                      <a:lnTo>
                        <a:pt x="320" y="88"/>
                      </a:lnTo>
                      <a:lnTo>
                        <a:pt x="314" y="94"/>
                      </a:lnTo>
                      <a:lnTo>
                        <a:pt x="296" y="94"/>
                      </a:lnTo>
                      <a:lnTo>
                        <a:pt x="290" y="86"/>
                      </a:lnTo>
                      <a:lnTo>
                        <a:pt x="281" y="75"/>
                      </a:lnTo>
                      <a:lnTo>
                        <a:pt x="270" y="86"/>
                      </a:lnTo>
                      <a:lnTo>
                        <a:pt x="263" y="94"/>
                      </a:lnTo>
                      <a:lnTo>
                        <a:pt x="254" y="94"/>
                      </a:lnTo>
                      <a:lnTo>
                        <a:pt x="239" y="75"/>
                      </a:lnTo>
                      <a:lnTo>
                        <a:pt x="235" y="77"/>
                      </a:lnTo>
                      <a:lnTo>
                        <a:pt x="226" y="77"/>
                      </a:lnTo>
                      <a:lnTo>
                        <a:pt x="219" y="88"/>
                      </a:lnTo>
                      <a:lnTo>
                        <a:pt x="206" y="86"/>
                      </a:lnTo>
                      <a:lnTo>
                        <a:pt x="193" y="86"/>
                      </a:lnTo>
                      <a:lnTo>
                        <a:pt x="186" y="80"/>
                      </a:lnTo>
                      <a:lnTo>
                        <a:pt x="178" y="75"/>
                      </a:lnTo>
                      <a:lnTo>
                        <a:pt x="165" y="77"/>
                      </a:lnTo>
                      <a:lnTo>
                        <a:pt x="151" y="88"/>
                      </a:lnTo>
                      <a:lnTo>
                        <a:pt x="143" y="86"/>
                      </a:lnTo>
                      <a:lnTo>
                        <a:pt x="129" y="80"/>
                      </a:lnTo>
                      <a:lnTo>
                        <a:pt x="114" y="72"/>
                      </a:lnTo>
                      <a:lnTo>
                        <a:pt x="101" y="72"/>
                      </a:lnTo>
                      <a:lnTo>
                        <a:pt x="75" y="64"/>
                      </a:lnTo>
                      <a:lnTo>
                        <a:pt x="57" y="58"/>
                      </a:lnTo>
                      <a:lnTo>
                        <a:pt x="46" y="55"/>
                      </a:lnTo>
                      <a:lnTo>
                        <a:pt x="29" y="53"/>
                      </a:lnTo>
                      <a:lnTo>
                        <a:pt x="18" y="41"/>
                      </a:lnTo>
                      <a:lnTo>
                        <a:pt x="7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614000" y="3201840"/>
                  <a:ext cx="269640" cy="289080"/>
                </a:xfrm>
                <a:custGeom>
                  <a:avLst/>
                  <a:gdLst/>
                  <a:ahLst/>
                  <a:rect l="l" t="t" r="r" b="b"/>
                  <a:pathLst>
                    <a:path w="186" h="182">
                      <a:moveTo>
                        <a:pt x="46" y="0"/>
                      </a:moveTo>
                      <a:lnTo>
                        <a:pt x="90" y="3"/>
                      </a:lnTo>
                      <a:lnTo>
                        <a:pt x="132" y="3"/>
                      </a:lnTo>
                      <a:lnTo>
                        <a:pt x="154" y="0"/>
                      </a:lnTo>
                      <a:lnTo>
                        <a:pt x="185" y="17"/>
                      </a:lnTo>
                      <a:lnTo>
                        <a:pt x="165" y="22"/>
                      </a:lnTo>
                      <a:lnTo>
                        <a:pt x="154" y="31"/>
                      </a:lnTo>
                      <a:lnTo>
                        <a:pt x="148" y="36"/>
                      </a:lnTo>
                      <a:lnTo>
                        <a:pt x="143" y="42"/>
                      </a:lnTo>
                      <a:lnTo>
                        <a:pt x="143" y="47"/>
                      </a:lnTo>
                      <a:lnTo>
                        <a:pt x="143" y="56"/>
                      </a:lnTo>
                      <a:lnTo>
                        <a:pt x="130" y="61"/>
                      </a:lnTo>
                      <a:lnTo>
                        <a:pt x="119" y="61"/>
                      </a:lnTo>
                      <a:lnTo>
                        <a:pt x="115" y="64"/>
                      </a:lnTo>
                      <a:lnTo>
                        <a:pt x="104" y="64"/>
                      </a:lnTo>
                      <a:lnTo>
                        <a:pt x="99" y="56"/>
                      </a:lnTo>
                      <a:lnTo>
                        <a:pt x="90" y="45"/>
                      </a:lnTo>
                      <a:lnTo>
                        <a:pt x="81" y="36"/>
                      </a:lnTo>
                      <a:lnTo>
                        <a:pt x="64" y="36"/>
                      </a:lnTo>
                      <a:lnTo>
                        <a:pt x="59" y="36"/>
                      </a:lnTo>
                      <a:lnTo>
                        <a:pt x="55" y="50"/>
                      </a:lnTo>
                      <a:lnTo>
                        <a:pt x="57" y="64"/>
                      </a:lnTo>
                      <a:lnTo>
                        <a:pt x="57" y="72"/>
                      </a:lnTo>
                      <a:lnTo>
                        <a:pt x="59" y="81"/>
                      </a:lnTo>
                      <a:lnTo>
                        <a:pt x="68" y="78"/>
                      </a:lnTo>
                      <a:lnTo>
                        <a:pt x="81" y="70"/>
                      </a:lnTo>
                      <a:lnTo>
                        <a:pt x="90" y="70"/>
                      </a:lnTo>
                      <a:lnTo>
                        <a:pt x="97" y="75"/>
                      </a:lnTo>
                      <a:lnTo>
                        <a:pt x="97" y="81"/>
                      </a:lnTo>
                      <a:lnTo>
                        <a:pt x="93" y="92"/>
                      </a:lnTo>
                      <a:lnTo>
                        <a:pt x="90" y="97"/>
                      </a:lnTo>
                      <a:lnTo>
                        <a:pt x="90" y="103"/>
                      </a:lnTo>
                      <a:lnTo>
                        <a:pt x="88" y="111"/>
                      </a:lnTo>
                      <a:lnTo>
                        <a:pt x="93" y="120"/>
                      </a:lnTo>
                      <a:lnTo>
                        <a:pt x="101" y="131"/>
                      </a:lnTo>
                      <a:lnTo>
                        <a:pt x="104" y="128"/>
                      </a:lnTo>
                      <a:lnTo>
                        <a:pt x="104" y="139"/>
                      </a:lnTo>
                      <a:lnTo>
                        <a:pt x="99" y="148"/>
                      </a:lnTo>
                      <a:lnTo>
                        <a:pt x="95" y="156"/>
                      </a:lnTo>
                      <a:lnTo>
                        <a:pt x="93" y="170"/>
                      </a:lnTo>
                      <a:lnTo>
                        <a:pt x="84" y="175"/>
                      </a:lnTo>
                      <a:lnTo>
                        <a:pt x="77" y="175"/>
                      </a:lnTo>
                      <a:lnTo>
                        <a:pt x="70" y="175"/>
                      </a:lnTo>
                      <a:lnTo>
                        <a:pt x="70" y="164"/>
                      </a:lnTo>
                      <a:lnTo>
                        <a:pt x="68" y="145"/>
                      </a:lnTo>
                      <a:lnTo>
                        <a:pt x="62" y="139"/>
                      </a:lnTo>
                      <a:lnTo>
                        <a:pt x="59" y="131"/>
                      </a:lnTo>
                      <a:lnTo>
                        <a:pt x="62" y="114"/>
                      </a:lnTo>
                      <a:lnTo>
                        <a:pt x="55" y="109"/>
                      </a:lnTo>
                      <a:lnTo>
                        <a:pt x="40" y="114"/>
                      </a:lnTo>
                      <a:lnTo>
                        <a:pt x="33" y="109"/>
                      </a:lnTo>
                      <a:lnTo>
                        <a:pt x="26" y="117"/>
                      </a:lnTo>
                      <a:lnTo>
                        <a:pt x="33" y="123"/>
                      </a:lnTo>
                      <a:lnTo>
                        <a:pt x="44" y="128"/>
                      </a:lnTo>
                      <a:lnTo>
                        <a:pt x="46" y="134"/>
                      </a:lnTo>
                      <a:lnTo>
                        <a:pt x="53" y="145"/>
                      </a:lnTo>
                      <a:lnTo>
                        <a:pt x="53" y="153"/>
                      </a:lnTo>
                      <a:lnTo>
                        <a:pt x="46" y="167"/>
                      </a:lnTo>
                      <a:lnTo>
                        <a:pt x="37" y="178"/>
                      </a:lnTo>
                      <a:lnTo>
                        <a:pt x="33" y="181"/>
                      </a:lnTo>
                      <a:lnTo>
                        <a:pt x="33" y="173"/>
                      </a:lnTo>
                      <a:lnTo>
                        <a:pt x="33" y="164"/>
                      </a:lnTo>
                      <a:lnTo>
                        <a:pt x="35" y="153"/>
                      </a:lnTo>
                      <a:lnTo>
                        <a:pt x="24" y="145"/>
                      </a:lnTo>
                      <a:lnTo>
                        <a:pt x="13" y="136"/>
                      </a:lnTo>
                      <a:lnTo>
                        <a:pt x="11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1" y="100"/>
                      </a:lnTo>
                      <a:lnTo>
                        <a:pt x="18" y="86"/>
                      </a:lnTo>
                      <a:lnTo>
                        <a:pt x="24" y="72"/>
                      </a:lnTo>
                      <a:lnTo>
                        <a:pt x="26" y="58"/>
                      </a:lnTo>
                      <a:lnTo>
                        <a:pt x="24" y="45"/>
                      </a:lnTo>
                      <a:lnTo>
                        <a:pt x="29" y="39"/>
                      </a:lnTo>
                      <a:lnTo>
                        <a:pt x="33" y="33"/>
                      </a:lnTo>
                      <a:lnTo>
                        <a:pt x="26" y="22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334280" y="3073320"/>
                  <a:ext cx="295920" cy="395280"/>
                </a:xfrm>
                <a:custGeom>
                  <a:avLst/>
                  <a:gdLst/>
                  <a:ahLst/>
                  <a:rect l="l" t="t" r="r" b="b"/>
                  <a:pathLst>
                    <a:path w="204" h="249">
                      <a:moveTo>
                        <a:pt x="0" y="83"/>
                      </a:moveTo>
                      <a:lnTo>
                        <a:pt x="41" y="44"/>
                      </a:lnTo>
                      <a:lnTo>
                        <a:pt x="63" y="28"/>
                      </a:lnTo>
                      <a:lnTo>
                        <a:pt x="74" y="14"/>
                      </a:lnTo>
                      <a:lnTo>
                        <a:pt x="107" y="0"/>
                      </a:lnTo>
                      <a:lnTo>
                        <a:pt x="124" y="30"/>
                      </a:lnTo>
                      <a:lnTo>
                        <a:pt x="142" y="17"/>
                      </a:lnTo>
                      <a:lnTo>
                        <a:pt x="148" y="8"/>
                      </a:lnTo>
                      <a:lnTo>
                        <a:pt x="164" y="0"/>
                      </a:lnTo>
                      <a:lnTo>
                        <a:pt x="172" y="0"/>
                      </a:lnTo>
                      <a:lnTo>
                        <a:pt x="175" y="11"/>
                      </a:lnTo>
                      <a:lnTo>
                        <a:pt x="175" y="19"/>
                      </a:lnTo>
                      <a:lnTo>
                        <a:pt x="166" y="33"/>
                      </a:lnTo>
                      <a:lnTo>
                        <a:pt x="166" y="41"/>
                      </a:lnTo>
                      <a:lnTo>
                        <a:pt x="190" y="77"/>
                      </a:lnTo>
                      <a:lnTo>
                        <a:pt x="194" y="99"/>
                      </a:lnTo>
                      <a:lnTo>
                        <a:pt x="201" y="99"/>
                      </a:lnTo>
                      <a:lnTo>
                        <a:pt x="203" y="110"/>
                      </a:lnTo>
                      <a:lnTo>
                        <a:pt x="194" y="121"/>
                      </a:lnTo>
                      <a:lnTo>
                        <a:pt x="188" y="116"/>
                      </a:lnTo>
                      <a:lnTo>
                        <a:pt x="172" y="124"/>
                      </a:lnTo>
                      <a:lnTo>
                        <a:pt x="175" y="146"/>
                      </a:lnTo>
                      <a:lnTo>
                        <a:pt x="157" y="160"/>
                      </a:lnTo>
                      <a:lnTo>
                        <a:pt x="157" y="196"/>
                      </a:lnTo>
                      <a:lnTo>
                        <a:pt x="157" y="220"/>
                      </a:lnTo>
                      <a:lnTo>
                        <a:pt x="148" y="231"/>
                      </a:lnTo>
                      <a:lnTo>
                        <a:pt x="142" y="248"/>
                      </a:lnTo>
                      <a:lnTo>
                        <a:pt x="133" y="245"/>
                      </a:lnTo>
                      <a:lnTo>
                        <a:pt x="120" y="237"/>
                      </a:lnTo>
                      <a:lnTo>
                        <a:pt x="109" y="229"/>
                      </a:lnTo>
                      <a:lnTo>
                        <a:pt x="100" y="215"/>
                      </a:lnTo>
                      <a:lnTo>
                        <a:pt x="70" y="218"/>
                      </a:lnTo>
                      <a:lnTo>
                        <a:pt x="44" y="209"/>
                      </a:lnTo>
                      <a:lnTo>
                        <a:pt x="26" y="187"/>
                      </a:lnTo>
                      <a:lnTo>
                        <a:pt x="15" y="171"/>
                      </a:lnTo>
                      <a:lnTo>
                        <a:pt x="7" y="157"/>
                      </a:lnTo>
                      <a:lnTo>
                        <a:pt x="7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962120" y="3298680"/>
                  <a:ext cx="567360" cy="372960"/>
                </a:xfrm>
                <a:custGeom>
                  <a:avLst/>
                  <a:gdLst/>
                  <a:ahLst/>
                  <a:rect l="l" t="t" r="r" b="b"/>
                  <a:pathLst>
                    <a:path w="391" h="235">
                      <a:moveTo>
                        <a:pt x="0" y="0"/>
                      </a:moveTo>
                      <a:lnTo>
                        <a:pt x="35" y="3"/>
                      </a:lnTo>
                      <a:lnTo>
                        <a:pt x="64" y="6"/>
                      </a:lnTo>
                      <a:lnTo>
                        <a:pt x="77" y="39"/>
                      </a:lnTo>
                      <a:lnTo>
                        <a:pt x="79" y="50"/>
                      </a:lnTo>
                      <a:lnTo>
                        <a:pt x="83" y="56"/>
                      </a:lnTo>
                      <a:lnTo>
                        <a:pt x="92" y="47"/>
                      </a:lnTo>
                      <a:lnTo>
                        <a:pt x="107" y="47"/>
                      </a:lnTo>
                      <a:lnTo>
                        <a:pt x="116" y="56"/>
                      </a:lnTo>
                      <a:lnTo>
                        <a:pt x="121" y="53"/>
                      </a:lnTo>
                      <a:lnTo>
                        <a:pt x="134" y="39"/>
                      </a:lnTo>
                      <a:lnTo>
                        <a:pt x="136" y="39"/>
                      </a:lnTo>
                      <a:lnTo>
                        <a:pt x="147" y="31"/>
                      </a:lnTo>
                      <a:lnTo>
                        <a:pt x="158" y="31"/>
                      </a:lnTo>
                      <a:lnTo>
                        <a:pt x="193" y="47"/>
                      </a:lnTo>
                      <a:lnTo>
                        <a:pt x="208" y="47"/>
                      </a:lnTo>
                      <a:lnTo>
                        <a:pt x="223" y="61"/>
                      </a:lnTo>
                      <a:lnTo>
                        <a:pt x="239" y="67"/>
                      </a:lnTo>
                      <a:lnTo>
                        <a:pt x="252" y="78"/>
                      </a:lnTo>
                      <a:lnTo>
                        <a:pt x="263" y="81"/>
                      </a:lnTo>
                      <a:lnTo>
                        <a:pt x="291" y="92"/>
                      </a:lnTo>
                      <a:lnTo>
                        <a:pt x="305" y="111"/>
                      </a:lnTo>
                      <a:lnTo>
                        <a:pt x="311" y="123"/>
                      </a:lnTo>
                      <a:lnTo>
                        <a:pt x="309" y="128"/>
                      </a:lnTo>
                      <a:lnTo>
                        <a:pt x="320" y="139"/>
                      </a:lnTo>
                      <a:lnTo>
                        <a:pt x="329" y="142"/>
                      </a:lnTo>
                      <a:lnTo>
                        <a:pt x="333" y="145"/>
                      </a:lnTo>
                      <a:lnTo>
                        <a:pt x="344" y="148"/>
                      </a:lnTo>
                      <a:lnTo>
                        <a:pt x="362" y="164"/>
                      </a:lnTo>
                      <a:lnTo>
                        <a:pt x="362" y="176"/>
                      </a:lnTo>
                      <a:lnTo>
                        <a:pt x="372" y="187"/>
                      </a:lnTo>
                      <a:lnTo>
                        <a:pt x="375" y="192"/>
                      </a:lnTo>
                      <a:lnTo>
                        <a:pt x="390" y="215"/>
                      </a:lnTo>
                      <a:lnTo>
                        <a:pt x="377" y="234"/>
                      </a:lnTo>
                      <a:lnTo>
                        <a:pt x="372" y="234"/>
                      </a:lnTo>
                      <a:lnTo>
                        <a:pt x="359" y="234"/>
                      </a:lnTo>
                      <a:lnTo>
                        <a:pt x="355" y="226"/>
                      </a:lnTo>
                      <a:lnTo>
                        <a:pt x="348" y="226"/>
                      </a:lnTo>
                      <a:lnTo>
                        <a:pt x="342" y="228"/>
                      </a:lnTo>
                      <a:lnTo>
                        <a:pt x="309" y="184"/>
                      </a:lnTo>
                      <a:lnTo>
                        <a:pt x="289" y="187"/>
                      </a:lnTo>
                      <a:lnTo>
                        <a:pt x="269" y="184"/>
                      </a:lnTo>
                      <a:lnTo>
                        <a:pt x="263" y="189"/>
                      </a:lnTo>
                      <a:lnTo>
                        <a:pt x="256" y="198"/>
                      </a:lnTo>
                      <a:lnTo>
                        <a:pt x="254" y="192"/>
                      </a:lnTo>
                      <a:lnTo>
                        <a:pt x="245" y="206"/>
                      </a:lnTo>
                      <a:lnTo>
                        <a:pt x="232" y="226"/>
                      </a:lnTo>
                      <a:lnTo>
                        <a:pt x="221" y="217"/>
                      </a:lnTo>
                      <a:lnTo>
                        <a:pt x="208" y="212"/>
                      </a:lnTo>
                      <a:lnTo>
                        <a:pt x="199" y="212"/>
                      </a:lnTo>
                      <a:lnTo>
                        <a:pt x="186" y="206"/>
                      </a:lnTo>
                      <a:lnTo>
                        <a:pt x="180" y="212"/>
                      </a:lnTo>
                      <a:lnTo>
                        <a:pt x="171" y="184"/>
                      </a:lnTo>
                      <a:lnTo>
                        <a:pt x="156" y="159"/>
                      </a:lnTo>
                      <a:lnTo>
                        <a:pt x="140" y="128"/>
                      </a:lnTo>
                      <a:lnTo>
                        <a:pt x="127" y="111"/>
                      </a:lnTo>
                      <a:lnTo>
                        <a:pt x="116" y="95"/>
                      </a:lnTo>
                      <a:lnTo>
                        <a:pt x="92" y="95"/>
                      </a:lnTo>
                      <a:lnTo>
                        <a:pt x="70" y="103"/>
                      </a:lnTo>
                      <a:lnTo>
                        <a:pt x="59" y="92"/>
                      </a:lnTo>
                      <a:lnTo>
                        <a:pt x="37" y="84"/>
                      </a:lnTo>
                      <a:lnTo>
                        <a:pt x="26" y="75"/>
                      </a:lnTo>
                      <a:lnTo>
                        <a:pt x="26" y="42"/>
                      </a:lnTo>
                      <a:lnTo>
                        <a:pt x="28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916680" y="3033720"/>
                  <a:ext cx="340560" cy="492120"/>
                </a:xfrm>
                <a:custGeom>
                  <a:avLst/>
                  <a:gdLst/>
                  <a:ahLst/>
                  <a:rect l="l" t="t" r="r" b="b"/>
                  <a:pathLst>
                    <a:path w="235" h="310">
                      <a:moveTo>
                        <a:pt x="0" y="8"/>
                      </a:moveTo>
                      <a:lnTo>
                        <a:pt x="24" y="0"/>
                      </a:lnTo>
                      <a:lnTo>
                        <a:pt x="52" y="14"/>
                      </a:lnTo>
                      <a:lnTo>
                        <a:pt x="56" y="28"/>
                      </a:lnTo>
                      <a:lnTo>
                        <a:pt x="56" y="33"/>
                      </a:lnTo>
                      <a:lnTo>
                        <a:pt x="63" y="36"/>
                      </a:lnTo>
                      <a:lnTo>
                        <a:pt x="63" y="42"/>
                      </a:lnTo>
                      <a:lnTo>
                        <a:pt x="72" y="45"/>
                      </a:lnTo>
                      <a:lnTo>
                        <a:pt x="72" y="56"/>
                      </a:lnTo>
                      <a:lnTo>
                        <a:pt x="100" y="89"/>
                      </a:lnTo>
                      <a:lnTo>
                        <a:pt x="104" y="89"/>
                      </a:lnTo>
                      <a:lnTo>
                        <a:pt x="108" y="97"/>
                      </a:lnTo>
                      <a:lnTo>
                        <a:pt x="113" y="106"/>
                      </a:lnTo>
                      <a:lnTo>
                        <a:pt x="117" y="106"/>
                      </a:lnTo>
                      <a:lnTo>
                        <a:pt x="137" y="117"/>
                      </a:lnTo>
                      <a:lnTo>
                        <a:pt x="173" y="122"/>
                      </a:lnTo>
                      <a:lnTo>
                        <a:pt x="176" y="161"/>
                      </a:lnTo>
                      <a:lnTo>
                        <a:pt x="184" y="167"/>
                      </a:lnTo>
                      <a:lnTo>
                        <a:pt x="182" y="181"/>
                      </a:lnTo>
                      <a:lnTo>
                        <a:pt x="204" y="200"/>
                      </a:lnTo>
                      <a:lnTo>
                        <a:pt x="223" y="209"/>
                      </a:lnTo>
                      <a:lnTo>
                        <a:pt x="223" y="273"/>
                      </a:lnTo>
                      <a:lnTo>
                        <a:pt x="234" y="298"/>
                      </a:lnTo>
                      <a:lnTo>
                        <a:pt x="228" y="306"/>
                      </a:lnTo>
                      <a:lnTo>
                        <a:pt x="215" y="309"/>
                      </a:lnTo>
                      <a:lnTo>
                        <a:pt x="212" y="287"/>
                      </a:lnTo>
                      <a:lnTo>
                        <a:pt x="191" y="309"/>
                      </a:lnTo>
                      <a:lnTo>
                        <a:pt x="176" y="276"/>
                      </a:lnTo>
                      <a:lnTo>
                        <a:pt x="167" y="253"/>
                      </a:lnTo>
                      <a:lnTo>
                        <a:pt x="141" y="223"/>
                      </a:lnTo>
                      <a:lnTo>
                        <a:pt x="134" y="223"/>
                      </a:lnTo>
                      <a:lnTo>
                        <a:pt x="111" y="206"/>
                      </a:lnTo>
                      <a:lnTo>
                        <a:pt x="106" y="189"/>
                      </a:lnTo>
                      <a:lnTo>
                        <a:pt x="106" y="178"/>
                      </a:lnTo>
                      <a:lnTo>
                        <a:pt x="87" y="134"/>
                      </a:lnTo>
                      <a:lnTo>
                        <a:pt x="78" y="106"/>
                      </a:lnTo>
                      <a:lnTo>
                        <a:pt x="54" y="81"/>
                      </a:lnTo>
                      <a:lnTo>
                        <a:pt x="22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521480" y="2504880"/>
                  <a:ext cx="334800" cy="541440"/>
                </a:xfrm>
                <a:custGeom>
                  <a:avLst/>
                  <a:gdLst/>
                  <a:ahLst/>
                  <a:rect l="l" t="t" r="r" b="b"/>
                  <a:pathLst>
                    <a:path w="231" h="341">
                      <a:moveTo>
                        <a:pt x="15" y="0"/>
                      </a:moveTo>
                      <a:lnTo>
                        <a:pt x="35" y="0"/>
                      </a:lnTo>
                      <a:lnTo>
                        <a:pt x="58" y="36"/>
                      </a:lnTo>
                      <a:lnTo>
                        <a:pt x="53" y="70"/>
                      </a:lnTo>
                      <a:lnTo>
                        <a:pt x="66" y="81"/>
                      </a:lnTo>
                      <a:lnTo>
                        <a:pt x="73" y="103"/>
                      </a:lnTo>
                      <a:lnTo>
                        <a:pt x="88" y="114"/>
                      </a:lnTo>
                      <a:lnTo>
                        <a:pt x="106" y="117"/>
                      </a:lnTo>
                      <a:lnTo>
                        <a:pt x="133" y="134"/>
                      </a:lnTo>
                      <a:lnTo>
                        <a:pt x="150" y="153"/>
                      </a:lnTo>
                      <a:lnTo>
                        <a:pt x="155" y="153"/>
                      </a:lnTo>
                      <a:lnTo>
                        <a:pt x="177" y="170"/>
                      </a:lnTo>
                      <a:lnTo>
                        <a:pt x="177" y="212"/>
                      </a:lnTo>
                      <a:lnTo>
                        <a:pt x="184" y="231"/>
                      </a:lnTo>
                      <a:lnTo>
                        <a:pt x="190" y="242"/>
                      </a:lnTo>
                      <a:lnTo>
                        <a:pt x="199" y="254"/>
                      </a:lnTo>
                      <a:lnTo>
                        <a:pt x="208" y="268"/>
                      </a:lnTo>
                      <a:lnTo>
                        <a:pt x="212" y="284"/>
                      </a:lnTo>
                      <a:lnTo>
                        <a:pt x="230" y="298"/>
                      </a:lnTo>
                      <a:lnTo>
                        <a:pt x="228" y="315"/>
                      </a:lnTo>
                      <a:lnTo>
                        <a:pt x="210" y="318"/>
                      </a:lnTo>
                      <a:lnTo>
                        <a:pt x="203" y="304"/>
                      </a:lnTo>
                      <a:lnTo>
                        <a:pt x="190" y="304"/>
                      </a:lnTo>
                      <a:lnTo>
                        <a:pt x="190" y="340"/>
                      </a:lnTo>
                      <a:lnTo>
                        <a:pt x="179" y="340"/>
                      </a:lnTo>
                      <a:lnTo>
                        <a:pt x="166" y="323"/>
                      </a:lnTo>
                      <a:lnTo>
                        <a:pt x="157" y="315"/>
                      </a:lnTo>
                      <a:lnTo>
                        <a:pt x="157" y="295"/>
                      </a:lnTo>
                      <a:lnTo>
                        <a:pt x="137" y="295"/>
                      </a:lnTo>
                      <a:lnTo>
                        <a:pt x="130" y="315"/>
                      </a:lnTo>
                      <a:lnTo>
                        <a:pt x="124" y="295"/>
                      </a:lnTo>
                      <a:lnTo>
                        <a:pt x="122" y="276"/>
                      </a:lnTo>
                      <a:lnTo>
                        <a:pt x="146" y="268"/>
                      </a:lnTo>
                      <a:lnTo>
                        <a:pt x="159" y="273"/>
                      </a:lnTo>
                      <a:lnTo>
                        <a:pt x="161" y="240"/>
                      </a:lnTo>
                      <a:lnTo>
                        <a:pt x="148" y="229"/>
                      </a:lnTo>
                      <a:lnTo>
                        <a:pt x="139" y="201"/>
                      </a:lnTo>
                      <a:lnTo>
                        <a:pt x="133" y="167"/>
                      </a:lnTo>
                      <a:lnTo>
                        <a:pt x="108" y="156"/>
                      </a:lnTo>
                      <a:lnTo>
                        <a:pt x="97" y="142"/>
                      </a:lnTo>
                      <a:lnTo>
                        <a:pt x="77" y="134"/>
                      </a:lnTo>
                      <a:lnTo>
                        <a:pt x="88" y="164"/>
                      </a:lnTo>
                      <a:lnTo>
                        <a:pt x="66" y="178"/>
                      </a:lnTo>
                      <a:lnTo>
                        <a:pt x="53" y="145"/>
                      </a:lnTo>
                      <a:lnTo>
                        <a:pt x="42" y="137"/>
                      </a:lnTo>
                      <a:lnTo>
                        <a:pt x="42" y="117"/>
                      </a:lnTo>
                      <a:lnTo>
                        <a:pt x="27" y="95"/>
                      </a:lnTo>
                      <a:lnTo>
                        <a:pt x="9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8" y="61"/>
                      </a:lnTo>
                      <a:lnTo>
                        <a:pt x="22" y="47"/>
                      </a:lnTo>
                      <a:lnTo>
                        <a:pt x="18" y="28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447320" y="1589040"/>
                  <a:ext cx="244800" cy="458640"/>
                </a:xfrm>
                <a:custGeom>
                  <a:avLst/>
                  <a:gdLst/>
                  <a:ahLst/>
                  <a:rect l="l" t="t" r="r" b="b"/>
                  <a:pathLst>
                    <a:path w="169" h="289">
                      <a:moveTo>
                        <a:pt x="35" y="0"/>
                      </a:moveTo>
                      <a:lnTo>
                        <a:pt x="68" y="20"/>
                      </a:lnTo>
                      <a:lnTo>
                        <a:pt x="87" y="36"/>
                      </a:lnTo>
                      <a:lnTo>
                        <a:pt x="100" y="62"/>
                      </a:lnTo>
                      <a:lnTo>
                        <a:pt x="111" y="62"/>
                      </a:lnTo>
                      <a:lnTo>
                        <a:pt x="109" y="78"/>
                      </a:lnTo>
                      <a:lnTo>
                        <a:pt x="122" y="89"/>
                      </a:lnTo>
                      <a:lnTo>
                        <a:pt x="131" y="106"/>
                      </a:lnTo>
                      <a:lnTo>
                        <a:pt x="153" y="140"/>
                      </a:lnTo>
                      <a:lnTo>
                        <a:pt x="168" y="179"/>
                      </a:lnTo>
                      <a:lnTo>
                        <a:pt x="140" y="176"/>
                      </a:lnTo>
                      <a:lnTo>
                        <a:pt x="118" y="171"/>
                      </a:lnTo>
                      <a:lnTo>
                        <a:pt x="133" y="199"/>
                      </a:lnTo>
                      <a:lnTo>
                        <a:pt x="133" y="215"/>
                      </a:lnTo>
                      <a:lnTo>
                        <a:pt x="133" y="232"/>
                      </a:lnTo>
                      <a:lnTo>
                        <a:pt x="124" y="224"/>
                      </a:lnTo>
                      <a:lnTo>
                        <a:pt x="113" y="210"/>
                      </a:lnTo>
                      <a:lnTo>
                        <a:pt x="94" y="193"/>
                      </a:lnTo>
                      <a:lnTo>
                        <a:pt x="83" y="185"/>
                      </a:lnTo>
                      <a:lnTo>
                        <a:pt x="65" y="193"/>
                      </a:lnTo>
                      <a:lnTo>
                        <a:pt x="55" y="199"/>
                      </a:lnTo>
                      <a:lnTo>
                        <a:pt x="61" y="213"/>
                      </a:lnTo>
                      <a:lnTo>
                        <a:pt x="79" y="224"/>
                      </a:lnTo>
                      <a:lnTo>
                        <a:pt x="96" y="235"/>
                      </a:lnTo>
                      <a:lnTo>
                        <a:pt x="103" y="254"/>
                      </a:lnTo>
                      <a:lnTo>
                        <a:pt x="100" y="280"/>
                      </a:lnTo>
                      <a:lnTo>
                        <a:pt x="100" y="288"/>
                      </a:lnTo>
                      <a:lnTo>
                        <a:pt x="94" y="288"/>
                      </a:lnTo>
                      <a:lnTo>
                        <a:pt x="83" y="280"/>
                      </a:lnTo>
                      <a:lnTo>
                        <a:pt x="79" y="277"/>
                      </a:lnTo>
                      <a:lnTo>
                        <a:pt x="72" y="271"/>
                      </a:lnTo>
                      <a:lnTo>
                        <a:pt x="65" y="285"/>
                      </a:lnTo>
                      <a:lnTo>
                        <a:pt x="55" y="288"/>
                      </a:lnTo>
                      <a:lnTo>
                        <a:pt x="46" y="277"/>
                      </a:lnTo>
                      <a:lnTo>
                        <a:pt x="46" y="252"/>
                      </a:lnTo>
                      <a:lnTo>
                        <a:pt x="44" y="238"/>
                      </a:lnTo>
                      <a:lnTo>
                        <a:pt x="33" y="229"/>
                      </a:lnTo>
                      <a:lnTo>
                        <a:pt x="22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7" y="187"/>
                      </a:lnTo>
                      <a:lnTo>
                        <a:pt x="15" y="143"/>
                      </a:lnTo>
                      <a:lnTo>
                        <a:pt x="15" y="131"/>
                      </a:lnTo>
                      <a:lnTo>
                        <a:pt x="28" y="129"/>
                      </a:lnTo>
                      <a:lnTo>
                        <a:pt x="39" y="140"/>
                      </a:lnTo>
                      <a:lnTo>
                        <a:pt x="59" y="145"/>
                      </a:lnTo>
                      <a:lnTo>
                        <a:pt x="59" y="126"/>
                      </a:lnTo>
                      <a:lnTo>
                        <a:pt x="50" y="115"/>
                      </a:lnTo>
                      <a:lnTo>
                        <a:pt x="46" y="106"/>
                      </a:lnTo>
                      <a:lnTo>
                        <a:pt x="52" y="106"/>
                      </a:lnTo>
                      <a:lnTo>
                        <a:pt x="57" y="106"/>
                      </a:lnTo>
                      <a:lnTo>
                        <a:pt x="61" y="106"/>
                      </a:lnTo>
                      <a:lnTo>
                        <a:pt x="65" y="106"/>
                      </a:lnTo>
                      <a:lnTo>
                        <a:pt x="72" y="98"/>
                      </a:lnTo>
                      <a:lnTo>
                        <a:pt x="70" y="89"/>
                      </a:lnTo>
                      <a:lnTo>
                        <a:pt x="63" y="70"/>
                      </a:lnTo>
                      <a:lnTo>
                        <a:pt x="50" y="50"/>
                      </a:lnTo>
                      <a:lnTo>
                        <a:pt x="33" y="39"/>
                      </a:lnTo>
                      <a:lnTo>
                        <a:pt x="26" y="28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168680" y="1036440"/>
                  <a:ext cx="269640" cy="376200"/>
                </a:xfrm>
                <a:custGeom>
                  <a:avLst/>
                  <a:gdLst/>
                  <a:ahLst/>
                  <a:rect l="l" t="t" r="r" b="b"/>
                  <a:pathLst>
                    <a:path w="186" h="23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24" y="17"/>
                      </a:lnTo>
                      <a:lnTo>
                        <a:pt x="48" y="42"/>
                      </a:lnTo>
                      <a:lnTo>
                        <a:pt x="59" y="69"/>
                      </a:lnTo>
                      <a:lnTo>
                        <a:pt x="77" y="72"/>
                      </a:lnTo>
                      <a:lnTo>
                        <a:pt x="90" y="78"/>
                      </a:lnTo>
                      <a:lnTo>
                        <a:pt x="101" y="89"/>
                      </a:lnTo>
                      <a:lnTo>
                        <a:pt x="115" y="89"/>
                      </a:lnTo>
                      <a:lnTo>
                        <a:pt x="130" y="106"/>
                      </a:lnTo>
                      <a:lnTo>
                        <a:pt x="143" y="119"/>
                      </a:lnTo>
                      <a:lnTo>
                        <a:pt x="159" y="128"/>
                      </a:lnTo>
                      <a:lnTo>
                        <a:pt x="156" y="136"/>
                      </a:lnTo>
                      <a:lnTo>
                        <a:pt x="148" y="142"/>
                      </a:lnTo>
                      <a:lnTo>
                        <a:pt x="139" y="142"/>
                      </a:lnTo>
                      <a:lnTo>
                        <a:pt x="134" y="150"/>
                      </a:lnTo>
                      <a:lnTo>
                        <a:pt x="152" y="167"/>
                      </a:lnTo>
                      <a:lnTo>
                        <a:pt x="165" y="183"/>
                      </a:lnTo>
                      <a:lnTo>
                        <a:pt x="185" y="200"/>
                      </a:lnTo>
                      <a:lnTo>
                        <a:pt x="172" y="219"/>
                      </a:lnTo>
                      <a:lnTo>
                        <a:pt x="161" y="225"/>
                      </a:lnTo>
                      <a:lnTo>
                        <a:pt x="163" y="236"/>
                      </a:lnTo>
                      <a:lnTo>
                        <a:pt x="143" y="236"/>
                      </a:lnTo>
                      <a:lnTo>
                        <a:pt x="137" y="228"/>
                      </a:lnTo>
                      <a:lnTo>
                        <a:pt x="121" y="205"/>
                      </a:lnTo>
                      <a:lnTo>
                        <a:pt x="110" y="186"/>
                      </a:lnTo>
                      <a:lnTo>
                        <a:pt x="93" y="153"/>
                      </a:lnTo>
                      <a:lnTo>
                        <a:pt x="73" y="128"/>
                      </a:lnTo>
                      <a:lnTo>
                        <a:pt x="51" y="92"/>
                      </a:lnTo>
                      <a:lnTo>
                        <a:pt x="37" y="81"/>
                      </a:lnTo>
                      <a:lnTo>
                        <a:pt x="26" y="72"/>
                      </a:lnTo>
                      <a:lnTo>
                        <a:pt x="22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3686760" y="263520"/>
                <a:ext cx="3895560" cy="4390920"/>
                <a:chOff x="3686760" y="263520"/>
                <a:chExt cx="3895560" cy="439092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3686760" y="1798560"/>
                  <a:ext cx="1937520" cy="2855880"/>
                </a:xfrm>
                <a:custGeom>
                  <a:avLst/>
                  <a:gdLst/>
                  <a:ahLst/>
                  <a:rect l="l" t="t" r="r" b="b"/>
                  <a:pathLst>
                    <a:path w="1336" h="1799">
                      <a:moveTo>
                        <a:pt x="998" y="215"/>
                      </a:moveTo>
                      <a:lnTo>
                        <a:pt x="1020" y="290"/>
                      </a:lnTo>
                      <a:lnTo>
                        <a:pt x="1061" y="405"/>
                      </a:lnTo>
                      <a:lnTo>
                        <a:pt x="1145" y="589"/>
                      </a:lnTo>
                      <a:lnTo>
                        <a:pt x="1175" y="611"/>
                      </a:lnTo>
                      <a:lnTo>
                        <a:pt x="1195" y="664"/>
                      </a:lnTo>
                      <a:lnTo>
                        <a:pt x="1261" y="662"/>
                      </a:lnTo>
                      <a:lnTo>
                        <a:pt x="1304" y="645"/>
                      </a:lnTo>
                      <a:lnTo>
                        <a:pt x="1335" y="645"/>
                      </a:lnTo>
                      <a:lnTo>
                        <a:pt x="1333" y="718"/>
                      </a:lnTo>
                      <a:lnTo>
                        <a:pt x="1322" y="757"/>
                      </a:lnTo>
                      <a:lnTo>
                        <a:pt x="1202" y="919"/>
                      </a:lnTo>
                      <a:lnTo>
                        <a:pt x="1092" y="1086"/>
                      </a:lnTo>
                      <a:lnTo>
                        <a:pt x="1094" y="1150"/>
                      </a:lnTo>
                      <a:lnTo>
                        <a:pt x="1125" y="1198"/>
                      </a:lnTo>
                      <a:lnTo>
                        <a:pt x="1110" y="1234"/>
                      </a:lnTo>
                      <a:lnTo>
                        <a:pt x="1118" y="1281"/>
                      </a:lnTo>
                      <a:lnTo>
                        <a:pt x="1110" y="1318"/>
                      </a:lnTo>
                      <a:lnTo>
                        <a:pt x="1083" y="1349"/>
                      </a:lnTo>
                      <a:lnTo>
                        <a:pt x="1061" y="1349"/>
                      </a:lnTo>
                      <a:lnTo>
                        <a:pt x="1024" y="1402"/>
                      </a:lnTo>
                      <a:lnTo>
                        <a:pt x="991" y="1463"/>
                      </a:lnTo>
                      <a:lnTo>
                        <a:pt x="998" y="1530"/>
                      </a:lnTo>
                      <a:lnTo>
                        <a:pt x="965" y="1561"/>
                      </a:lnTo>
                      <a:lnTo>
                        <a:pt x="935" y="1630"/>
                      </a:lnTo>
                      <a:lnTo>
                        <a:pt x="899" y="1695"/>
                      </a:lnTo>
                      <a:lnTo>
                        <a:pt x="880" y="1720"/>
                      </a:lnTo>
                      <a:lnTo>
                        <a:pt x="862" y="1725"/>
                      </a:lnTo>
                      <a:lnTo>
                        <a:pt x="832" y="1767"/>
                      </a:lnTo>
                      <a:lnTo>
                        <a:pt x="781" y="1792"/>
                      </a:lnTo>
                      <a:lnTo>
                        <a:pt x="718" y="1798"/>
                      </a:lnTo>
                      <a:lnTo>
                        <a:pt x="683" y="1770"/>
                      </a:lnTo>
                      <a:lnTo>
                        <a:pt x="678" y="1742"/>
                      </a:lnTo>
                      <a:lnTo>
                        <a:pt x="672" y="1706"/>
                      </a:lnTo>
                      <a:lnTo>
                        <a:pt x="648" y="1686"/>
                      </a:lnTo>
                      <a:lnTo>
                        <a:pt x="628" y="1617"/>
                      </a:lnTo>
                      <a:lnTo>
                        <a:pt x="622" y="1583"/>
                      </a:lnTo>
                      <a:lnTo>
                        <a:pt x="619" y="1541"/>
                      </a:lnTo>
                      <a:lnTo>
                        <a:pt x="608" y="1510"/>
                      </a:lnTo>
                      <a:lnTo>
                        <a:pt x="606" y="1491"/>
                      </a:lnTo>
                      <a:lnTo>
                        <a:pt x="587" y="1460"/>
                      </a:lnTo>
                      <a:lnTo>
                        <a:pt x="565" y="1435"/>
                      </a:lnTo>
                      <a:lnTo>
                        <a:pt x="549" y="1393"/>
                      </a:lnTo>
                      <a:lnTo>
                        <a:pt x="538" y="1362"/>
                      </a:lnTo>
                      <a:lnTo>
                        <a:pt x="543" y="1312"/>
                      </a:lnTo>
                      <a:lnTo>
                        <a:pt x="576" y="1240"/>
                      </a:lnTo>
                      <a:lnTo>
                        <a:pt x="582" y="1159"/>
                      </a:lnTo>
                      <a:lnTo>
                        <a:pt x="558" y="1067"/>
                      </a:lnTo>
                      <a:lnTo>
                        <a:pt x="523" y="1030"/>
                      </a:lnTo>
                      <a:lnTo>
                        <a:pt x="499" y="980"/>
                      </a:lnTo>
                      <a:lnTo>
                        <a:pt x="508" y="902"/>
                      </a:lnTo>
                      <a:lnTo>
                        <a:pt x="490" y="843"/>
                      </a:lnTo>
                      <a:lnTo>
                        <a:pt x="449" y="838"/>
                      </a:lnTo>
                      <a:lnTo>
                        <a:pt x="405" y="793"/>
                      </a:lnTo>
                      <a:lnTo>
                        <a:pt x="350" y="768"/>
                      </a:lnTo>
                      <a:lnTo>
                        <a:pt x="293" y="807"/>
                      </a:lnTo>
                      <a:lnTo>
                        <a:pt x="144" y="796"/>
                      </a:lnTo>
                      <a:lnTo>
                        <a:pt x="63" y="698"/>
                      </a:lnTo>
                      <a:lnTo>
                        <a:pt x="0" y="567"/>
                      </a:lnTo>
                      <a:lnTo>
                        <a:pt x="11" y="522"/>
                      </a:lnTo>
                      <a:lnTo>
                        <a:pt x="39" y="489"/>
                      </a:lnTo>
                      <a:lnTo>
                        <a:pt x="53" y="396"/>
                      </a:lnTo>
                      <a:lnTo>
                        <a:pt x="72" y="329"/>
                      </a:lnTo>
                      <a:lnTo>
                        <a:pt x="129" y="260"/>
                      </a:lnTo>
                      <a:lnTo>
                        <a:pt x="188" y="229"/>
                      </a:lnTo>
                      <a:lnTo>
                        <a:pt x="243" y="156"/>
                      </a:lnTo>
                      <a:lnTo>
                        <a:pt x="256" y="126"/>
                      </a:lnTo>
                      <a:lnTo>
                        <a:pt x="328" y="47"/>
                      </a:lnTo>
                      <a:lnTo>
                        <a:pt x="374" y="78"/>
                      </a:lnTo>
                      <a:lnTo>
                        <a:pt x="407" y="75"/>
                      </a:lnTo>
                      <a:lnTo>
                        <a:pt x="446" y="34"/>
                      </a:lnTo>
                      <a:lnTo>
                        <a:pt x="492" y="28"/>
                      </a:lnTo>
                      <a:lnTo>
                        <a:pt x="523" y="39"/>
                      </a:lnTo>
                      <a:lnTo>
                        <a:pt x="552" y="6"/>
                      </a:lnTo>
                      <a:lnTo>
                        <a:pt x="589" y="0"/>
                      </a:lnTo>
                      <a:lnTo>
                        <a:pt x="597" y="61"/>
                      </a:lnTo>
                      <a:lnTo>
                        <a:pt x="622" y="106"/>
                      </a:lnTo>
                      <a:lnTo>
                        <a:pt x="689" y="151"/>
                      </a:lnTo>
                      <a:lnTo>
                        <a:pt x="746" y="159"/>
                      </a:lnTo>
                      <a:lnTo>
                        <a:pt x="753" y="109"/>
                      </a:lnTo>
                      <a:lnTo>
                        <a:pt x="797" y="109"/>
                      </a:lnTo>
                      <a:lnTo>
                        <a:pt x="849" y="140"/>
                      </a:lnTo>
                      <a:lnTo>
                        <a:pt x="906" y="156"/>
                      </a:lnTo>
                      <a:lnTo>
                        <a:pt x="954" y="137"/>
                      </a:lnTo>
                      <a:lnTo>
                        <a:pt x="998" y="215"/>
                      </a:lnTo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9" name=""/>
                <p:cNvGrpSpPr/>
                <p:nvPr/>
              </p:nvGrpSpPr>
              <p:grpSpPr>
                <a:xfrm>
                  <a:off x="3818520" y="263520"/>
                  <a:ext cx="858240" cy="984240"/>
                  <a:chOff x="3818520" y="263520"/>
                  <a:chExt cx="858240" cy="984240"/>
                </a:xfrm>
              </p:grpSpPr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4157640" y="877680"/>
                    <a:ext cx="269280" cy="370080"/>
                    <a:chOff x="4157640" y="877680"/>
                    <a:chExt cx="269280" cy="370080"/>
                  </a:xfrm>
                </p:grpSpPr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4157640" y="1012680"/>
                      <a:ext cx="12744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132">
                          <a:moveTo>
                            <a:pt x="20" y="40"/>
                          </a:moveTo>
                          <a:lnTo>
                            <a:pt x="27" y="26"/>
                          </a:lnTo>
                          <a:lnTo>
                            <a:pt x="42" y="26"/>
                          </a:lnTo>
                          <a:lnTo>
                            <a:pt x="65" y="0"/>
                          </a:lnTo>
                          <a:lnTo>
                            <a:pt x="71" y="17"/>
                          </a:lnTo>
                          <a:lnTo>
                            <a:pt x="83" y="17"/>
                          </a:lnTo>
                          <a:lnTo>
                            <a:pt x="87" y="26"/>
                          </a:lnTo>
                          <a:lnTo>
                            <a:pt x="80" y="40"/>
                          </a:lnTo>
                          <a:lnTo>
                            <a:pt x="71" y="46"/>
                          </a:lnTo>
                          <a:lnTo>
                            <a:pt x="71" y="57"/>
                          </a:lnTo>
                          <a:lnTo>
                            <a:pt x="69" y="63"/>
                          </a:lnTo>
                          <a:lnTo>
                            <a:pt x="67" y="71"/>
                          </a:lnTo>
                          <a:lnTo>
                            <a:pt x="71" y="83"/>
                          </a:lnTo>
                          <a:lnTo>
                            <a:pt x="65" y="94"/>
                          </a:lnTo>
                          <a:lnTo>
                            <a:pt x="58" y="100"/>
                          </a:lnTo>
                          <a:lnTo>
                            <a:pt x="51" y="100"/>
                          </a:lnTo>
                          <a:lnTo>
                            <a:pt x="49" y="103"/>
                          </a:lnTo>
                          <a:lnTo>
                            <a:pt x="47" y="111"/>
                          </a:lnTo>
                          <a:lnTo>
                            <a:pt x="36" y="114"/>
                          </a:lnTo>
                          <a:lnTo>
                            <a:pt x="33" y="111"/>
                          </a:lnTo>
                          <a:lnTo>
                            <a:pt x="25" y="120"/>
                          </a:lnTo>
                          <a:lnTo>
                            <a:pt x="22" y="122"/>
                          </a:lnTo>
                          <a:lnTo>
                            <a:pt x="11" y="131"/>
                          </a:lnTo>
                          <a:lnTo>
                            <a:pt x="7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7" y="91"/>
                          </a:lnTo>
                          <a:lnTo>
                            <a:pt x="13" y="85"/>
                          </a:lnTo>
                          <a:lnTo>
                            <a:pt x="18" y="74"/>
                          </a:lnTo>
                          <a:lnTo>
                            <a:pt x="25" y="74"/>
                          </a:lnTo>
                          <a:lnTo>
                            <a:pt x="29" y="77"/>
                          </a:lnTo>
                          <a:lnTo>
                            <a:pt x="36" y="74"/>
                          </a:lnTo>
                          <a:lnTo>
                            <a:pt x="29" y="71"/>
                          </a:lnTo>
                          <a:lnTo>
                            <a:pt x="20" y="40"/>
                          </a:lnTo>
                        </a:path>
                      </a:pathLst>
                    </a:cu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73200" y="877680"/>
                      <a:ext cx="153720" cy="37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233">
                          <a:moveTo>
                            <a:pt x="34" y="34"/>
                          </a:moveTo>
                          <a:lnTo>
                            <a:pt x="40" y="25"/>
                          </a:lnTo>
                          <a:lnTo>
                            <a:pt x="60" y="28"/>
                          </a:lnTo>
                          <a:lnTo>
                            <a:pt x="65" y="22"/>
                          </a:lnTo>
                          <a:lnTo>
                            <a:pt x="69" y="14"/>
                          </a:lnTo>
                          <a:lnTo>
                            <a:pt x="74" y="14"/>
                          </a:lnTo>
                          <a:lnTo>
                            <a:pt x="78" y="11"/>
                          </a:lnTo>
                          <a:lnTo>
                            <a:pt x="85" y="6"/>
                          </a:lnTo>
                          <a:lnTo>
                            <a:pt x="94" y="0"/>
                          </a:lnTo>
                          <a:lnTo>
                            <a:pt x="105" y="3"/>
                          </a:lnTo>
                          <a:lnTo>
                            <a:pt x="103" y="14"/>
                          </a:lnTo>
                          <a:lnTo>
                            <a:pt x="98" y="22"/>
                          </a:lnTo>
                          <a:lnTo>
                            <a:pt x="94" y="25"/>
                          </a:lnTo>
                          <a:lnTo>
                            <a:pt x="89" y="28"/>
                          </a:lnTo>
                          <a:lnTo>
                            <a:pt x="76" y="34"/>
                          </a:lnTo>
                          <a:lnTo>
                            <a:pt x="76" y="45"/>
                          </a:lnTo>
                          <a:lnTo>
                            <a:pt x="78" y="50"/>
                          </a:lnTo>
                          <a:lnTo>
                            <a:pt x="92" y="45"/>
                          </a:lnTo>
                          <a:lnTo>
                            <a:pt x="103" y="39"/>
                          </a:lnTo>
                          <a:lnTo>
                            <a:pt x="105" y="45"/>
                          </a:lnTo>
                          <a:lnTo>
                            <a:pt x="105" y="61"/>
                          </a:lnTo>
                          <a:lnTo>
                            <a:pt x="96" y="64"/>
                          </a:lnTo>
                          <a:lnTo>
                            <a:pt x="87" y="64"/>
                          </a:lnTo>
                          <a:lnTo>
                            <a:pt x="80" y="73"/>
                          </a:lnTo>
                          <a:lnTo>
                            <a:pt x="78" y="78"/>
                          </a:lnTo>
                          <a:lnTo>
                            <a:pt x="78" y="87"/>
                          </a:lnTo>
                          <a:lnTo>
                            <a:pt x="85" y="98"/>
                          </a:lnTo>
                          <a:lnTo>
                            <a:pt x="92" y="106"/>
                          </a:lnTo>
                          <a:lnTo>
                            <a:pt x="96" y="115"/>
                          </a:lnTo>
                          <a:lnTo>
                            <a:pt x="98" y="126"/>
                          </a:lnTo>
                          <a:lnTo>
                            <a:pt x="101" y="137"/>
                          </a:lnTo>
                          <a:lnTo>
                            <a:pt x="105" y="151"/>
                          </a:lnTo>
                          <a:lnTo>
                            <a:pt x="105" y="171"/>
                          </a:lnTo>
                          <a:lnTo>
                            <a:pt x="101" y="182"/>
                          </a:lnTo>
                          <a:lnTo>
                            <a:pt x="92" y="190"/>
                          </a:lnTo>
                          <a:lnTo>
                            <a:pt x="89" y="196"/>
                          </a:lnTo>
                          <a:lnTo>
                            <a:pt x="94" y="207"/>
                          </a:lnTo>
                          <a:lnTo>
                            <a:pt x="98" y="218"/>
                          </a:lnTo>
                          <a:lnTo>
                            <a:pt x="85" y="218"/>
                          </a:lnTo>
                          <a:lnTo>
                            <a:pt x="74" y="218"/>
                          </a:lnTo>
                          <a:lnTo>
                            <a:pt x="69" y="215"/>
                          </a:lnTo>
                          <a:lnTo>
                            <a:pt x="60" y="215"/>
                          </a:lnTo>
                          <a:lnTo>
                            <a:pt x="49" y="218"/>
                          </a:lnTo>
                          <a:lnTo>
                            <a:pt x="40" y="224"/>
                          </a:lnTo>
                          <a:lnTo>
                            <a:pt x="34" y="224"/>
                          </a:lnTo>
                          <a:lnTo>
                            <a:pt x="29" y="226"/>
                          </a:lnTo>
                          <a:lnTo>
                            <a:pt x="18" y="232"/>
                          </a:lnTo>
                          <a:lnTo>
                            <a:pt x="16" y="229"/>
                          </a:lnTo>
                          <a:lnTo>
                            <a:pt x="11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1" y="193"/>
                          </a:lnTo>
                          <a:lnTo>
                            <a:pt x="18" y="190"/>
                          </a:lnTo>
                          <a:lnTo>
                            <a:pt x="27" y="190"/>
                          </a:lnTo>
                          <a:lnTo>
                            <a:pt x="27" y="187"/>
                          </a:lnTo>
                          <a:lnTo>
                            <a:pt x="18" y="182"/>
                          </a:lnTo>
                          <a:lnTo>
                            <a:pt x="18" y="173"/>
                          </a:lnTo>
                          <a:lnTo>
                            <a:pt x="18" y="168"/>
                          </a:lnTo>
                          <a:lnTo>
                            <a:pt x="27" y="162"/>
                          </a:lnTo>
                          <a:lnTo>
                            <a:pt x="31" y="159"/>
                          </a:lnTo>
                          <a:lnTo>
                            <a:pt x="36" y="157"/>
                          </a:lnTo>
                          <a:lnTo>
                            <a:pt x="42" y="157"/>
                          </a:lnTo>
                          <a:lnTo>
                            <a:pt x="47" y="154"/>
                          </a:lnTo>
                          <a:lnTo>
                            <a:pt x="49" y="131"/>
                          </a:lnTo>
                          <a:lnTo>
                            <a:pt x="56" y="115"/>
                          </a:lnTo>
                          <a:lnTo>
                            <a:pt x="56" y="106"/>
                          </a:lnTo>
                          <a:lnTo>
                            <a:pt x="40" y="103"/>
                          </a:lnTo>
                          <a:lnTo>
                            <a:pt x="45" y="89"/>
                          </a:lnTo>
                          <a:lnTo>
                            <a:pt x="34" y="81"/>
                          </a:lnTo>
                          <a:lnTo>
                            <a:pt x="22" y="84"/>
                          </a:lnTo>
                          <a:lnTo>
                            <a:pt x="36" y="64"/>
                          </a:lnTo>
                          <a:lnTo>
                            <a:pt x="34" y="34"/>
                          </a:lnTo>
                        </a:path>
                      </a:pathLst>
                    </a:cu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3" name=""/>
                  <p:cNvSpPr/>
                  <p:nvPr/>
                </p:nvSpPr>
                <p:spPr>
                  <a:xfrm>
                    <a:off x="3818520" y="263520"/>
                    <a:ext cx="85824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92" h="390">
                        <a:moveTo>
                          <a:pt x="0" y="389"/>
                        </a:moveTo>
                        <a:lnTo>
                          <a:pt x="37" y="381"/>
                        </a:lnTo>
                        <a:lnTo>
                          <a:pt x="50" y="364"/>
                        </a:lnTo>
                        <a:lnTo>
                          <a:pt x="59" y="353"/>
                        </a:lnTo>
                        <a:lnTo>
                          <a:pt x="63" y="344"/>
                        </a:lnTo>
                        <a:lnTo>
                          <a:pt x="72" y="344"/>
                        </a:lnTo>
                        <a:lnTo>
                          <a:pt x="81" y="336"/>
                        </a:lnTo>
                        <a:lnTo>
                          <a:pt x="92" y="336"/>
                        </a:lnTo>
                        <a:lnTo>
                          <a:pt x="99" y="336"/>
                        </a:lnTo>
                        <a:lnTo>
                          <a:pt x="107" y="336"/>
                        </a:lnTo>
                        <a:lnTo>
                          <a:pt x="112" y="336"/>
                        </a:lnTo>
                        <a:lnTo>
                          <a:pt x="120" y="325"/>
                        </a:lnTo>
                        <a:lnTo>
                          <a:pt x="125" y="316"/>
                        </a:lnTo>
                        <a:lnTo>
                          <a:pt x="136" y="308"/>
                        </a:lnTo>
                        <a:lnTo>
                          <a:pt x="144" y="305"/>
                        </a:lnTo>
                        <a:lnTo>
                          <a:pt x="151" y="299"/>
                        </a:lnTo>
                        <a:lnTo>
                          <a:pt x="160" y="297"/>
                        </a:lnTo>
                        <a:lnTo>
                          <a:pt x="166" y="291"/>
                        </a:lnTo>
                        <a:lnTo>
                          <a:pt x="175" y="285"/>
                        </a:lnTo>
                        <a:lnTo>
                          <a:pt x="184" y="280"/>
                        </a:lnTo>
                        <a:lnTo>
                          <a:pt x="195" y="271"/>
                        </a:lnTo>
                        <a:lnTo>
                          <a:pt x="206" y="274"/>
                        </a:lnTo>
                        <a:lnTo>
                          <a:pt x="223" y="280"/>
                        </a:lnTo>
                        <a:lnTo>
                          <a:pt x="241" y="280"/>
                        </a:lnTo>
                        <a:lnTo>
                          <a:pt x="260" y="271"/>
                        </a:lnTo>
                        <a:lnTo>
                          <a:pt x="269" y="269"/>
                        </a:lnTo>
                        <a:lnTo>
                          <a:pt x="276" y="252"/>
                        </a:lnTo>
                        <a:lnTo>
                          <a:pt x="285" y="241"/>
                        </a:lnTo>
                        <a:lnTo>
                          <a:pt x="300" y="227"/>
                        </a:lnTo>
                        <a:lnTo>
                          <a:pt x="304" y="218"/>
                        </a:lnTo>
                        <a:lnTo>
                          <a:pt x="304" y="207"/>
                        </a:lnTo>
                        <a:lnTo>
                          <a:pt x="317" y="199"/>
                        </a:lnTo>
                        <a:lnTo>
                          <a:pt x="324" y="190"/>
                        </a:lnTo>
                        <a:lnTo>
                          <a:pt x="328" y="182"/>
                        </a:lnTo>
                        <a:lnTo>
                          <a:pt x="333" y="182"/>
                        </a:lnTo>
                        <a:lnTo>
                          <a:pt x="355" y="165"/>
                        </a:lnTo>
                        <a:lnTo>
                          <a:pt x="355" y="182"/>
                        </a:lnTo>
                        <a:lnTo>
                          <a:pt x="350" y="188"/>
                        </a:lnTo>
                        <a:lnTo>
                          <a:pt x="355" y="196"/>
                        </a:lnTo>
                        <a:lnTo>
                          <a:pt x="370" y="199"/>
                        </a:lnTo>
                        <a:lnTo>
                          <a:pt x="379" y="199"/>
                        </a:lnTo>
                        <a:lnTo>
                          <a:pt x="387" y="190"/>
                        </a:lnTo>
                        <a:lnTo>
                          <a:pt x="394" y="182"/>
                        </a:lnTo>
                        <a:lnTo>
                          <a:pt x="394" y="174"/>
                        </a:lnTo>
                        <a:lnTo>
                          <a:pt x="401" y="165"/>
                        </a:lnTo>
                        <a:lnTo>
                          <a:pt x="401" y="157"/>
                        </a:lnTo>
                        <a:lnTo>
                          <a:pt x="407" y="146"/>
                        </a:lnTo>
                        <a:lnTo>
                          <a:pt x="412" y="140"/>
                        </a:lnTo>
                        <a:lnTo>
                          <a:pt x="422" y="140"/>
                        </a:lnTo>
                        <a:lnTo>
                          <a:pt x="444" y="140"/>
                        </a:lnTo>
                        <a:lnTo>
                          <a:pt x="462" y="129"/>
                        </a:lnTo>
                        <a:lnTo>
                          <a:pt x="477" y="112"/>
                        </a:lnTo>
                        <a:lnTo>
                          <a:pt x="495" y="106"/>
                        </a:lnTo>
                        <a:lnTo>
                          <a:pt x="510" y="92"/>
                        </a:lnTo>
                        <a:lnTo>
                          <a:pt x="521" y="70"/>
                        </a:lnTo>
                        <a:lnTo>
                          <a:pt x="545" y="45"/>
                        </a:lnTo>
                        <a:lnTo>
                          <a:pt x="560" y="34"/>
                        </a:lnTo>
                        <a:lnTo>
                          <a:pt x="576" y="22"/>
                        </a:lnTo>
                        <a:lnTo>
                          <a:pt x="591" y="8"/>
                        </a:lnTo>
                        <a:lnTo>
                          <a:pt x="565" y="0"/>
                        </a:lnTo>
                        <a:lnTo>
                          <a:pt x="538" y="0"/>
                        </a:lnTo>
                        <a:lnTo>
                          <a:pt x="512" y="14"/>
                        </a:lnTo>
                        <a:lnTo>
                          <a:pt x="499" y="22"/>
                        </a:lnTo>
                        <a:lnTo>
                          <a:pt x="477" y="28"/>
                        </a:lnTo>
                        <a:lnTo>
                          <a:pt x="453" y="31"/>
                        </a:lnTo>
                        <a:lnTo>
                          <a:pt x="440" y="36"/>
                        </a:lnTo>
                        <a:lnTo>
                          <a:pt x="412" y="50"/>
                        </a:lnTo>
                        <a:lnTo>
                          <a:pt x="394" y="59"/>
                        </a:lnTo>
                        <a:lnTo>
                          <a:pt x="376" y="67"/>
                        </a:lnTo>
                        <a:lnTo>
                          <a:pt x="355" y="73"/>
                        </a:lnTo>
                        <a:lnTo>
                          <a:pt x="333" y="81"/>
                        </a:lnTo>
                        <a:lnTo>
                          <a:pt x="313" y="92"/>
                        </a:lnTo>
                        <a:lnTo>
                          <a:pt x="298" y="106"/>
                        </a:lnTo>
                        <a:lnTo>
                          <a:pt x="285" y="120"/>
                        </a:lnTo>
                        <a:lnTo>
                          <a:pt x="271" y="132"/>
                        </a:lnTo>
                        <a:lnTo>
                          <a:pt x="260" y="140"/>
                        </a:lnTo>
                        <a:lnTo>
                          <a:pt x="236" y="157"/>
                        </a:lnTo>
                        <a:lnTo>
                          <a:pt x="212" y="174"/>
                        </a:lnTo>
                        <a:lnTo>
                          <a:pt x="184" y="190"/>
                        </a:lnTo>
                        <a:lnTo>
                          <a:pt x="164" y="215"/>
                        </a:lnTo>
                        <a:lnTo>
                          <a:pt x="142" y="235"/>
                        </a:lnTo>
                        <a:lnTo>
                          <a:pt x="123" y="246"/>
                        </a:lnTo>
                        <a:lnTo>
                          <a:pt x="103" y="271"/>
                        </a:lnTo>
                        <a:lnTo>
                          <a:pt x="90" y="288"/>
                        </a:lnTo>
                        <a:lnTo>
                          <a:pt x="72" y="305"/>
                        </a:lnTo>
                        <a:lnTo>
                          <a:pt x="55" y="316"/>
                        </a:lnTo>
                        <a:lnTo>
                          <a:pt x="37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4" name=""/>
                <p:cNvSpPr/>
                <p:nvPr/>
              </p:nvSpPr>
              <p:spPr>
                <a:xfrm>
                  <a:off x="5335560" y="3752640"/>
                  <a:ext cx="256680" cy="600120"/>
                </a:xfrm>
                <a:custGeom>
                  <a:avLst/>
                  <a:gdLst/>
                  <a:ahLst/>
                  <a:rect l="l" t="t" r="r" b="b"/>
                  <a:pathLst>
                    <a:path w="177" h="378">
                      <a:moveTo>
                        <a:pt x="33" y="117"/>
                      </a:moveTo>
                      <a:lnTo>
                        <a:pt x="29" y="193"/>
                      </a:lnTo>
                      <a:lnTo>
                        <a:pt x="13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20" y="371"/>
                      </a:lnTo>
                      <a:lnTo>
                        <a:pt x="33" y="374"/>
                      </a:lnTo>
                      <a:lnTo>
                        <a:pt x="44" y="374"/>
                      </a:lnTo>
                      <a:lnTo>
                        <a:pt x="57" y="377"/>
                      </a:lnTo>
                      <a:lnTo>
                        <a:pt x="64" y="357"/>
                      </a:lnTo>
                      <a:lnTo>
                        <a:pt x="70" y="307"/>
                      </a:lnTo>
                      <a:lnTo>
                        <a:pt x="90" y="274"/>
                      </a:lnTo>
                      <a:lnTo>
                        <a:pt x="95" y="223"/>
                      </a:lnTo>
                      <a:lnTo>
                        <a:pt x="103" y="204"/>
                      </a:lnTo>
                      <a:lnTo>
                        <a:pt x="112" y="190"/>
                      </a:lnTo>
                      <a:lnTo>
                        <a:pt x="119" y="154"/>
                      </a:lnTo>
                      <a:lnTo>
                        <a:pt x="132" y="131"/>
                      </a:lnTo>
                      <a:lnTo>
                        <a:pt x="141" y="114"/>
                      </a:lnTo>
                      <a:lnTo>
                        <a:pt x="150" y="101"/>
                      </a:lnTo>
                      <a:lnTo>
                        <a:pt x="150" y="92"/>
                      </a:lnTo>
                      <a:lnTo>
                        <a:pt x="169" y="73"/>
                      </a:lnTo>
                      <a:lnTo>
                        <a:pt x="172" y="42"/>
                      </a:lnTo>
                      <a:lnTo>
                        <a:pt x="176" y="22"/>
                      </a:lnTo>
                      <a:lnTo>
                        <a:pt x="158" y="14"/>
                      </a:lnTo>
                      <a:lnTo>
                        <a:pt x="147" y="0"/>
                      </a:lnTo>
                      <a:lnTo>
                        <a:pt x="132" y="14"/>
                      </a:lnTo>
                      <a:lnTo>
                        <a:pt x="119" y="47"/>
                      </a:lnTo>
                      <a:lnTo>
                        <a:pt x="103" y="70"/>
                      </a:lnTo>
                      <a:lnTo>
                        <a:pt x="90" y="89"/>
                      </a:lnTo>
                      <a:lnTo>
                        <a:pt x="84" y="89"/>
                      </a:lnTo>
                      <a:lnTo>
                        <a:pt x="70" y="101"/>
                      </a:lnTo>
                      <a:lnTo>
                        <a:pt x="64" y="112"/>
                      </a:lnTo>
                      <a:lnTo>
                        <a:pt x="33" y="117"/>
                      </a:lnTo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113000" y="323640"/>
                  <a:ext cx="3469320" cy="2840040"/>
                </a:xfrm>
                <a:custGeom>
                  <a:avLst/>
                  <a:gdLst/>
                  <a:ahLst/>
                  <a:rect l="l" t="t" r="r" b="b"/>
                  <a:pathLst>
                    <a:path w="2392" h="1789">
                      <a:moveTo>
                        <a:pt x="0" y="803"/>
                      </a:moveTo>
                      <a:lnTo>
                        <a:pt x="22" y="778"/>
                      </a:lnTo>
                      <a:lnTo>
                        <a:pt x="35" y="759"/>
                      </a:lnTo>
                      <a:lnTo>
                        <a:pt x="63" y="759"/>
                      </a:lnTo>
                      <a:lnTo>
                        <a:pt x="94" y="764"/>
                      </a:lnTo>
                      <a:lnTo>
                        <a:pt x="116" y="753"/>
                      </a:lnTo>
                      <a:lnTo>
                        <a:pt x="140" y="750"/>
                      </a:lnTo>
                      <a:lnTo>
                        <a:pt x="142" y="717"/>
                      </a:lnTo>
                      <a:lnTo>
                        <a:pt x="155" y="695"/>
                      </a:lnTo>
                      <a:lnTo>
                        <a:pt x="123" y="669"/>
                      </a:lnTo>
                      <a:lnTo>
                        <a:pt x="118" y="650"/>
                      </a:lnTo>
                      <a:lnTo>
                        <a:pt x="120" y="622"/>
                      </a:lnTo>
                      <a:lnTo>
                        <a:pt x="144" y="622"/>
                      </a:lnTo>
                      <a:lnTo>
                        <a:pt x="160" y="619"/>
                      </a:lnTo>
                      <a:lnTo>
                        <a:pt x="162" y="622"/>
                      </a:lnTo>
                      <a:lnTo>
                        <a:pt x="179" y="605"/>
                      </a:lnTo>
                      <a:lnTo>
                        <a:pt x="197" y="597"/>
                      </a:lnTo>
                      <a:lnTo>
                        <a:pt x="203" y="597"/>
                      </a:lnTo>
                      <a:lnTo>
                        <a:pt x="214" y="580"/>
                      </a:lnTo>
                      <a:lnTo>
                        <a:pt x="228" y="575"/>
                      </a:lnTo>
                      <a:lnTo>
                        <a:pt x="241" y="544"/>
                      </a:lnTo>
                      <a:lnTo>
                        <a:pt x="249" y="552"/>
                      </a:lnTo>
                      <a:lnTo>
                        <a:pt x="267" y="533"/>
                      </a:lnTo>
                      <a:lnTo>
                        <a:pt x="269" y="533"/>
                      </a:lnTo>
                      <a:lnTo>
                        <a:pt x="291" y="510"/>
                      </a:lnTo>
                      <a:lnTo>
                        <a:pt x="304" y="508"/>
                      </a:lnTo>
                      <a:lnTo>
                        <a:pt x="322" y="508"/>
                      </a:lnTo>
                      <a:lnTo>
                        <a:pt x="333" y="508"/>
                      </a:lnTo>
                      <a:lnTo>
                        <a:pt x="324" y="480"/>
                      </a:lnTo>
                      <a:lnTo>
                        <a:pt x="319" y="457"/>
                      </a:lnTo>
                      <a:lnTo>
                        <a:pt x="315" y="410"/>
                      </a:lnTo>
                      <a:lnTo>
                        <a:pt x="341" y="407"/>
                      </a:lnTo>
                      <a:lnTo>
                        <a:pt x="354" y="399"/>
                      </a:lnTo>
                      <a:lnTo>
                        <a:pt x="348" y="418"/>
                      </a:lnTo>
                      <a:lnTo>
                        <a:pt x="359" y="432"/>
                      </a:lnTo>
                      <a:lnTo>
                        <a:pt x="370" y="449"/>
                      </a:lnTo>
                      <a:lnTo>
                        <a:pt x="376" y="460"/>
                      </a:lnTo>
                      <a:lnTo>
                        <a:pt x="407" y="457"/>
                      </a:lnTo>
                      <a:lnTo>
                        <a:pt x="433" y="416"/>
                      </a:lnTo>
                      <a:lnTo>
                        <a:pt x="453" y="396"/>
                      </a:lnTo>
                      <a:lnTo>
                        <a:pt x="464" y="382"/>
                      </a:lnTo>
                      <a:lnTo>
                        <a:pt x="477" y="365"/>
                      </a:lnTo>
                      <a:lnTo>
                        <a:pt x="490" y="343"/>
                      </a:lnTo>
                      <a:lnTo>
                        <a:pt x="501" y="351"/>
                      </a:lnTo>
                      <a:lnTo>
                        <a:pt x="501" y="338"/>
                      </a:lnTo>
                      <a:lnTo>
                        <a:pt x="508" y="329"/>
                      </a:lnTo>
                      <a:lnTo>
                        <a:pt x="527" y="335"/>
                      </a:lnTo>
                      <a:lnTo>
                        <a:pt x="560" y="371"/>
                      </a:lnTo>
                      <a:lnTo>
                        <a:pt x="553" y="271"/>
                      </a:lnTo>
                      <a:lnTo>
                        <a:pt x="525" y="315"/>
                      </a:lnTo>
                      <a:lnTo>
                        <a:pt x="503" y="312"/>
                      </a:lnTo>
                      <a:lnTo>
                        <a:pt x="497" y="285"/>
                      </a:lnTo>
                      <a:lnTo>
                        <a:pt x="497" y="271"/>
                      </a:lnTo>
                      <a:lnTo>
                        <a:pt x="490" y="262"/>
                      </a:lnTo>
                      <a:lnTo>
                        <a:pt x="508" y="240"/>
                      </a:lnTo>
                      <a:lnTo>
                        <a:pt x="518" y="223"/>
                      </a:lnTo>
                      <a:lnTo>
                        <a:pt x="529" y="218"/>
                      </a:lnTo>
                      <a:lnTo>
                        <a:pt x="538" y="215"/>
                      </a:lnTo>
                      <a:lnTo>
                        <a:pt x="545" y="201"/>
                      </a:lnTo>
                      <a:lnTo>
                        <a:pt x="553" y="198"/>
                      </a:lnTo>
                      <a:lnTo>
                        <a:pt x="564" y="198"/>
                      </a:lnTo>
                      <a:lnTo>
                        <a:pt x="545" y="173"/>
                      </a:lnTo>
                      <a:lnTo>
                        <a:pt x="525" y="179"/>
                      </a:lnTo>
                      <a:lnTo>
                        <a:pt x="512" y="179"/>
                      </a:lnTo>
                      <a:lnTo>
                        <a:pt x="501" y="170"/>
                      </a:lnTo>
                      <a:lnTo>
                        <a:pt x="501" y="187"/>
                      </a:lnTo>
                      <a:lnTo>
                        <a:pt x="490" y="204"/>
                      </a:lnTo>
                      <a:lnTo>
                        <a:pt x="475" y="232"/>
                      </a:lnTo>
                      <a:lnTo>
                        <a:pt x="459" y="243"/>
                      </a:lnTo>
                      <a:lnTo>
                        <a:pt x="448" y="243"/>
                      </a:lnTo>
                      <a:lnTo>
                        <a:pt x="444" y="262"/>
                      </a:lnTo>
                      <a:lnTo>
                        <a:pt x="444" y="271"/>
                      </a:lnTo>
                      <a:lnTo>
                        <a:pt x="435" y="279"/>
                      </a:lnTo>
                      <a:lnTo>
                        <a:pt x="446" y="312"/>
                      </a:lnTo>
                      <a:lnTo>
                        <a:pt x="453" y="329"/>
                      </a:lnTo>
                      <a:lnTo>
                        <a:pt x="440" y="354"/>
                      </a:lnTo>
                      <a:lnTo>
                        <a:pt x="424" y="371"/>
                      </a:lnTo>
                      <a:lnTo>
                        <a:pt x="420" y="396"/>
                      </a:lnTo>
                      <a:lnTo>
                        <a:pt x="411" y="416"/>
                      </a:lnTo>
                      <a:lnTo>
                        <a:pt x="403" y="416"/>
                      </a:lnTo>
                      <a:lnTo>
                        <a:pt x="389" y="418"/>
                      </a:lnTo>
                      <a:lnTo>
                        <a:pt x="376" y="427"/>
                      </a:lnTo>
                      <a:lnTo>
                        <a:pt x="372" y="424"/>
                      </a:lnTo>
                      <a:lnTo>
                        <a:pt x="372" y="410"/>
                      </a:lnTo>
                      <a:lnTo>
                        <a:pt x="370" y="388"/>
                      </a:lnTo>
                      <a:lnTo>
                        <a:pt x="359" y="388"/>
                      </a:lnTo>
                      <a:lnTo>
                        <a:pt x="352" y="374"/>
                      </a:lnTo>
                      <a:lnTo>
                        <a:pt x="354" y="354"/>
                      </a:lnTo>
                      <a:lnTo>
                        <a:pt x="357" y="343"/>
                      </a:lnTo>
                      <a:lnTo>
                        <a:pt x="354" y="338"/>
                      </a:lnTo>
                      <a:lnTo>
                        <a:pt x="346" y="343"/>
                      </a:lnTo>
                      <a:lnTo>
                        <a:pt x="341" y="343"/>
                      </a:lnTo>
                      <a:lnTo>
                        <a:pt x="335" y="340"/>
                      </a:lnTo>
                      <a:lnTo>
                        <a:pt x="330" y="338"/>
                      </a:lnTo>
                      <a:lnTo>
                        <a:pt x="319" y="349"/>
                      </a:lnTo>
                      <a:lnTo>
                        <a:pt x="308" y="363"/>
                      </a:lnTo>
                      <a:lnTo>
                        <a:pt x="298" y="377"/>
                      </a:lnTo>
                      <a:lnTo>
                        <a:pt x="273" y="374"/>
                      </a:lnTo>
                      <a:lnTo>
                        <a:pt x="258" y="371"/>
                      </a:lnTo>
                      <a:lnTo>
                        <a:pt x="247" y="357"/>
                      </a:lnTo>
                      <a:lnTo>
                        <a:pt x="247" y="349"/>
                      </a:lnTo>
                      <a:lnTo>
                        <a:pt x="254" y="338"/>
                      </a:lnTo>
                      <a:lnTo>
                        <a:pt x="263" y="329"/>
                      </a:lnTo>
                      <a:lnTo>
                        <a:pt x="269" y="318"/>
                      </a:lnTo>
                      <a:lnTo>
                        <a:pt x="254" y="324"/>
                      </a:lnTo>
                      <a:lnTo>
                        <a:pt x="247" y="310"/>
                      </a:lnTo>
                      <a:lnTo>
                        <a:pt x="247" y="301"/>
                      </a:lnTo>
                      <a:lnTo>
                        <a:pt x="269" y="298"/>
                      </a:lnTo>
                      <a:lnTo>
                        <a:pt x="289" y="296"/>
                      </a:lnTo>
                      <a:lnTo>
                        <a:pt x="276" y="287"/>
                      </a:lnTo>
                      <a:lnTo>
                        <a:pt x="256" y="290"/>
                      </a:lnTo>
                      <a:lnTo>
                        <a:pt x="256" y="273"/>
                      </a:lnTo>
                      <a:lnTo>
                        <a:pt x="265" y="262"/>
                      </a:lnTo>
                      <a:lnTo>
                        <a:pt x="284" y="251"/>
                      </a:lnTo>
                      <a:lnTo>
                        <a:pt x="291" y="240"/>
                      </a:lnTo>
                      <a:lnTo>
                        <a:pt x="298" y="234"/>
                      </a:lnTo>
                      <a:lnTo>
                        <a:pt x="313" y="232"/>
                      </a:lnTo>
                      <a:lnTo>
                        <a:pt x="326" y="234"/>
                      </a:lnTo>
                      <a:lnTo>
                        <a:pt x="333" y="240"/>
                      </a:lnTo>
                      <a:lnTo>
                        <a:pt x="343" y="232"/>
                      </a:lnTo>
                      <a:lnTo>
                        <a:pt x="333" y="229"/>
                      </a:lnTo>
                      <a:lnTo>
                        <a:pt x="333" y="206"/>
                      </a:lnTo>
                      <a:lnTo>
                        <a:pt x="361" y="181"/>
                      </a:lnTo>
                      <a:lnTo>
                        <a:pt x="376" y="165"/>
                      </a:lnTo>
                      <a:lnTo>
                        <a:pt x="385" y="162"/>
                      </a:lnTo>
                      <a:lnTo>
                        <a:pt x="383" y="153"/>
                      </a:lnTo>
                      <a:lnTo>
                        <a:pt x="396" y="137"/>
                      </a:lnTo>
                      <a:lnTo>
                        <a:pt x="411" y="112"/>
                      </a:lnTo>
                      <a:lnTo>
                        <a:pt x="429" y="100"/>
                      </a:lnTo>
                      <a:lnTo>
                        <a:pt x="416" y="89"/>
                      </a:lnTo>
                      <a:lnTo>
                        <a:pt x="451" y="64"/>
                      </a:lnTo>
                      <a:lnTo>
                        <a:pt x="466" y="67"/>
                      </a:lnTo>
                      <a:lnTo>
                        <a:pt x="464" y="53"/>
                      </a:lnTo>
                      <a:lnTo>
                        <a:pt x="494" y="50"/>
                      </a:lnTo>
                      <a:lnTo>
                        <a:pt x="551" y="6"/>
                      </a:lnTo>
                      <a:lnTo>
                        <a:pt x="560" y="0"/>
                      </a:lnTo>
                      <a:lnTo>
                        <a:pt x="549" y="33"/>
                      </a:lnTo>
                      <a:lnTo>
                        <a:pt x="562" y="17"/>
                      </a:lnTo>
                      <a:lnTo>
                        <a:pt x="578" y="11"/>
                      </a:lnTo>
                      <a:lnTo>
                        <a:pt x="575" y="25"/>
                      </a:lnTo>
                      <a:lnTo>
                        <a:pt x="619" y="8"/>
                      </a:lnTo>
                      <a:lnTo>
                        <a:pt x="639" y="22"/>
                      </a:lnTo>
                      <a:lnTo>
                        <a:pt x="610" y="36"/>
                      </a:lnTo>
                      <a:lnTo>
                        <a:pt x="621" y="53"/>
                      </a:lnTo>
                      <a:lnTo>
                        <a:pt x="663" y="50"/>
                      </a:lnTo>
                      <a:lnTo>
                        <a:pt x="726" y="75"/>
                      </a:lnTo>
                      <a:lnTo>
                        <a:pt x="722" y="103"/>
                      </a:lnTo>
                      <a:lnTo>
                        <a:pt x="696" y="128"/>
                      </a:lnTo>
                      <a:lnTo>
                        <a:pt x="656" y="142"/>
                      </a:lnTo>
                      <a:lnTo>
                        <a:pt x="650" y="170"/>
                      </a:lnTo>
                      <a:lnTo>
                        <a:pt x="652" y="198"/>
                      </a:lnTo>
                      <a:lnTo>
                        <a:pt x="663" y="204"/>
                      </a:lnTo>
                      <a:lnTo>
                        <a:pt x="665" y="218"/>
                      </a:lnTo>
                      <a:lnTo>
                        <a:pt x="669" y="223"/>
                      </a:lnTo>
                      <a:lnTo>
                        <a:pt x="678" y="229"/>
                      </a:lnTo>
                      <a:lnTo>
                        <a:pt x="680" y="245"/>
                      </a:lnTo>
                      <a:lnTo>
                        <a:pt x="693" y="265"/>
                      </a:lnTo>
                      <a:lnTo>
                        <a:pt x="693" y="273"/>
                      </a:lnTo>
                      <a:lnTo>
                        <a:pt x="707" y="273"/>
                      </a:lnTo>
                      <a:lnTo>
                        <a:pt x="711" y="279"/>
                      </a:lnTo>
                      <a:lnTo>
                        <a:pt x="722" y="285"/>
                      </a:lnTo>
                      <a:lnTo>
                        <a:pt x="728" y="276"/>
                      </a:lnTo>
                      <a:lnTo>
                        <a:pt x="735" y="262"/>
                      </a:lnTo>
                      <a:lnTo>
                        <a:pt x="739" y="254"/>
                      </a:lnTo>
                      <a:lnTo>
                        <a:pt x="750" y="259"/>
                      </a:lnTo>
                      <a:lnTo>
                        <a:pt x="763" y="240"/>
                      </a:lnTo>
                      <a:lnTo>
                        <a:pt x="763" y="226"/>
                      </a:lnTo>
                      <a:lnTo>
                        <a:pt x="768" y="215"/>
                      </a:lnTo>
                      <a:lnTo>
                        <a:pt x="770" y="206"/>
                      </a:lnTo>
                      <a:lnTo>
                        <a:pt x="796" y="198"/>
                      </a:lnTo>
                      <a:lnTo>
                        <a:pt x="818" y="190"/>
                      </a:lnTo>
                      <a:lnTo>
                        <a:pt x="847" y="179"/>
                      </a:lnTo>
                      <a:lnTo>
                        <a:pt x="879" y="187"/>
                      </a:lnTo>
                      <a:lnTo>
                        <a:pt x="912" y="187"/>
                      </a:lnTo>
                      <a:lnTo>
                        <a:pt x="967" y="187"/>
                      </a:lnTo>
                      <a:lnTo>
                        <a:pt x="976" y="120"/>
                      </a:lnTo>
                      <a:lnTo>
                        <a:pt x="1006" y="123"/>
                      </a:lnTo>
                      <a:lnTo>
                        <a:pt x="1028" y="173"/>
                      </a:lnTo>
                      <a:lnTo>
                        <a:pt x="1033" y="131"/>
                      </a:lnTo>
                      <a:lnTo>
                        <a:pt x="1133" y="8"/>
                      </a:lnTo>
                      <a:lnTo>
                        <a:pt x="1173" y="8"/>
                      </a:lnTo>
                      <a:lnTo>
                        <a:pt x="1208" y="33"/>
                      </a:lnTo>
                      <a:lnTo>
                        <a:pt x="1253" y="31"/>
                      </a:lnTo>
                      <a:lnTo>
                        <a:pt x="1315" y="75"/>
                      </a:lnTo>
                      <a:lnTo>
                        <a:pt x="1385" y="100"/>
                      </a:lnTo>
                      <a:lnTo>
                        <a:pt x="1435" y="95"/>
                      </a:lnTo>
                      <a:lnTo>
                        <a:pt x="1501" y="123"/>
                      </a:lnTo>
                      <a:lnTo>
                        <a:pt x="1555" y="123"/>
                      </a:lnTo>
                      <a:lnTo>
                        <a:pt x="1582" y="103"/>
                      </a:lnTo>
                      <a:lnTo>
                        <a:pt x="1643" y="103"/>
                      </a:lnTo>
                      <a:lnTo>
                        <a:pt x="1676" y="126"/>
                      </a:lnTo>
                      <a:lnTo>
                        <a:pt x="1759" y="126"/>
                      </a:lnTo>
                      <a:lnTo>
                        <a:pt x="1829" y="162"/>
                      </a:lnTo>
                      <a:lnTo>
                        <a:pt x="1953" y="156"/>
                      </a:lnTo>
                      <a:lnTo>
                        <a:pt x="2157" y="173"/>
                      </a:lnTo>
                      <a:lnTo>
                        <a:pt x="2255" y="226"/>
                      </a:lnTo>
                      <a:lnTo>
                        <a:pt x="2338" y="259"/>
                      </a:lnTo>
                      <a:lnTo>
                        <a:pt x="2391" y="287"/>
                      </a:lnTo>
                      <a:lnTo>
                        <a:pt x="2376" y="296"/>
                      </a:lnTo>
                      <a:lnTo>
                        <a:pt x="2338" y="273"/>
                      </a:lnTo>
                      <a:lnTo>
                        <a:pt x="2253" y="265"/>
                      </a:lnTo>
                      <a:lnTo>
                        <a:pt x="2277" y="287"/>
                      </a:lnTo>
                      <a:lnTo>
                        <a:pt x="2314" y="298"/>
                      </a:lnTo>
                      <a:lnTo>
                        <a:pt x="2303" y="335"/>
                      </a:lnTo>
                      <a:lnTo>
                        <a:pt x="2264" y="357"/>
                      </a:lnTo>
                      <a:lnTo>
                        <a:pt x="2251" y="393"/>
                      </a:lnTo>
                      <a:lnTo>
                        <a:pt x="2303" y="427"/>
                      </a:lnTo>
                      <a:lnTo>
                        <a:pt x="2341" y="471"/>
                      </a:lnTo>
                      <a:lnTo>
                        <a:pt x="2360" y="536"/>
                      </a:lnTo>
                      <a:lnTo>
                        <a:pt x="2336" y="541"/>
                      </a:lnTo>
                      <a:lnTo>
                        <a:pt x="2284" y="522"/>
                      </a:lnTo>
                      <a:lnTo>
                        <a:pt x="2229" y="474"/>
                      </a:lnTo>
                      <a:lnTo>
                        <a:pt x="2207" y="449"/>
                      </a:lnTo>
                      <a:lnTo>
                        <a:pt x="2194" y="416"/>
                      </a:lnTo>
                      <a:lnTo>
                        <a:pt x="2181" y="365"/>
                      </a:lnTo>
                      <a:lnTo>
                        <a:pt x="2159" y="349"/>
                      </a:lnTo>
                      <a:lnTo>
                        <a:pt x="2139" y="346"/>
                      </a:lnTo>
                      <a:lnTo>
                        <a:pt x="2122" y="351"/>
                      </a:lnTo>
                      <a:lnTo>
                        <a:pt x="2142" y="391"/>
                      </a:lnTo>
                      <a:lnTo>
                        <a:pt x="2089" y="396"/>
                      </a:lnTo>
                      <a:lnTo>
                        <a:pt x="2065" y="377"/>
                      </a:lnTo>
                      <a:lnTo>
                        <a:pt x="2019" y="388"/>
                      </a:lnTo>
                      <a:lnTo>
                        <a:pt x="1984" y="418"/>
                      </a:lnTo>
                      <a:lnTo>
                        <a:pt x="1984" y="435"/>
                      </a:lnTo>
                      <a:lnTo>
                        <a:pt x="1997" y="463"/>
                      </a:lnTo>
                      <a:lnTo>
                        <a:pt x="2052" y="471"/>
                      </a:lnTo>
                      <a:lnTo>
                        <a:pt x="2096" y="505"/>
                      </a:lnTo>
                      <a:lnTo>
                        <a:pt x="2170" y="597"/>
                      </a:lnTo>
                      <a:lnTo>
                        <a:pt x="2201" y="658"/>
                      </a:lnTo>
                      <a:lnTo>
                        <a:pt x="2205" y="722"/>
                      </a:lnTo>
                      <a:lnTo>
                        <a:pt x="2198" y="775"/>
                      </a:lnTo>
                      <a:lnTo>
                        <a:pt x="2181" y="775"/>
                      </a:lnTo>
                      <a:lnTo>
                        <a:pt x="2161" y="756"/>
                      </a:lnTo>
                      <a:lnTo>
                        <a:pt x="2133" y="781"/>
                      </a:lnTo>
                      <a:lnTo>
                        <a:pt x="2104" y="803"/>
                      </a:lnTo>
                      <a:lnTo>
                        <a:pt x="2100" y="840"/>
                      </a:lnTo>
                      <a:lnTo>
                        <a:pt x="2131" y="884"/>
                      </a:lnTo>
                      <a:lnTo>
                        <a:pt x="2111" y="920"/>
                      </a:lnTo>
                      <a:lnTo>
                        <a:pt x="2104" y="982"/>
                      </a:lnTo>
                      <a:lnTo>
                        <a:pt x="2142" y="1021"/>
                      </a:lnTo>
                      <a:lnTo>
                        <a:pt x="2183" y="1032"/>
                      </a:lnTo>
                      <a:lnTo>
                        <a:pt x="2227" y="1074"/>
                      </a:lnTo>
                      <a:lnTo>
                        <a:pt x="2264" y="1130"/>
                      </a:lnTo>
                      <a:lnTo>
                        <a:pt x="2266" y="1213"/>
                      </a:lnTo>
                      <a:lnTo>
                        <a:pt x="2253" y="1252"/>
                      </a:lnTo>
                      <a:lnTo>
                        <a:pt x="2214" y="1286"/>
                      </a:lnTo>
                      <a:lnTo>
                        <a:pt x="2166" y="1303"/>
                      </a:lnTo>
                      <a:lnTo>
                        <a:pt x="2135" y="1328"/>
                      </a:lnTo>
                      <a:lnTo>
                        <a:pt x="2118" y="1314"/>
                      </a:lnTo>
                      <a:lnTo>
                        <a:pt x="2102" y="1328"/>
                      </a:lnTo>
                      <a:lnTo>
                        <a:pt x="2098" y="1389"/>
                      </a:lnTo>
                      <a:lnTo>
                        <a:pt x="2109" y="1425"/>
                      </a:lnTo>
                      <a:lnTo>
                        <a:pt x="2157" y="1467"/>
                      </a:lnTo>
                      <a:lnTo>
                        <a:pt x="2177" y="1509"/>
                      </a:lnTo>
                      <a:lnTo>
                        <a:pt x="2192" y="1531"/>
                      </a:lnTo>
                      <a:lnTo>
                        <a:pt x="2188" y="1576"/>
                      </a:lnTo>
                      <a:lnTo>
                        <a:pt x="2157" y="1612"/>
                      </a:lnTo>
                      <a:lnTo>
                        <a:pt x="2124" y="1612"/>
                      </a:lnTo>
                      <a:lnTo>
                        <a:pt x="2072" y="1559"/>
                      </a:lnTo>
                      <a:lnTo>
                        <a:pt x="2034" y="1540"/>
                      </a:lnTo>
                      <a:lnTo>
                        <a:pt x="2019" y="1529"/>
                      </a:lnTo>
                      <a:lnTo>
                        <a:pt x="2004" y="1556"/>
                      </a:lnTo>
                      <a:lnTo>
                        <a:pt x="2008" y="1596"/>
                      </a:lnTo>
                      <a:lnTo>
                        <a:pt x="2021" y="1626"/>
                      </a:lnTo>
                      <a:lnTo>
                        <a:pt x="2030" y="1674"/>
                      </a:lnTo>
                      <a:lnTo>
                        <a:pt x="2063" y="1690"/>
                      </a:lnTo>
                      <a:lnTo>
                        <a:pt x="2052" y="1715"/>
                      </a:lnTo>
                      <a:lnTo>
                        <a:pt x="2054" y="1752"/>
                      </a:lnTo>
                      <a:lnTo>
                        <a:pt x="2065" y="1788"/>
                      </a:lnTo>
                      <a:lnTo>
                        <a:pt x="2043" y="1785"/>
                      </a:lnTo>
                      <a:lnTo>
                        <a:pt x="2019" y="1743"/>
                      </a:lnTo>
                      <a:lnTo>
                        <a:pt x="2021" y="1699"/>
                      </a:lnTo>
                      <a:lnTo>
                        <a:pt x="2013" y="1685"/>
                      </a:lnTo>
                      <a:lnTo>
                        <a:pt x="2004" y="1635"/>
                      </a:lnTo>
                      <a:lnTo>
                        <a:pt x="1993" y="1621"/>
                      </a:lnTo>
                      <a:lnTo>
                        <a:pt x="1988" y="1551"/>
                      </a:lnTo>
                      <a:lnTo>
                        <a:pt x="1973" y="1509"/>
                      </a:lnTo>
                      <a:lnTo>
                        <a:pt x="1947" y="1470"/>
                      </a:lnTo>
                      <a:lnTo>
                        <a:pt x="1899" y="1448"/>
                      </a:lnTo>
                      <a:lnTo>
                        <a:pt x="1866" y="1411"/>
                      </a:lnTo>
                      <a:lnTo>
                        <a:pt x="1853" y="1384"/>
                      </a:lnTo>
                      <a:lnTo>
                        <a:pt x="1829" y="1353"/>
                      </a:lnTo>
                      <a:lnTo>
                        <a:pt x="1792" y="1283"/>
                      </a:lnTo>
                      <a:lnTo>
                        <a:pt x="1759" y="1289"/>
                      </a:lnTo>
                      <a:lnTo>
                        <a:pt x="1715" y="1322"/>
                      </a:lnTo>
                      <a:lnTo>
                        <a:pt x="1695" y="1350"/>
                      </a:lnTo>
                      <a:lnTo>
                        <a:pt x="1656" y="1403"/>
                      </a:lnTo>
                      <a:lnTo>
                        <a:pt x="1628" y="1459"/>
                      </a:lnTo>
                      <a:lnTo>
                        <a:pt x="1617" y="1478"/>
                      </a:lnTo>
                      <a:lnTo>
                        <a:pt x="1628" y="1543"/>
                      </a:lnTo>
                      <a:lnTo>
                        <a:pt x="1625" y="1607"/>
                      </a:lnTo>
                      <a:lnTo>
                        <a:pt x="1590" y="1651"/>
                      </a:lnTo>
                      <a:lnTo>
                        <a:pt x="1571" y="1654"/>
                      </a:lnTo>
                      <a:lnTo>
                        <a:pt x="1529" y="1562"/>
                      </a:lnTo>
                      <a:lnTo>
                        <a:pt x="1496" y="1498"/>
                      </a:lnTo>
                      <a:lnTo>
                        <a:pt x="1431" y="1375"/>
                      </a:lnTo>
                      <a:lnTo>
                        <a:pt x="1428" y="1328"/>
                      </a:lnTo>
                      <a:lnTo>
                        <a:pt x="1413" y="1305"/>
                      </a:lnTo>
                      <a:lnTo>
                        <a:pt x="1402" y="1336"/>
                      </a:lnTo>
                      <a:lnTo>
                        <a:pt x="1345" y="1266"/>
                      </a:lnTo>
                      <a:lnTo>
                        <a:pt x="1269" y="1213"/>
                      </a:lnTo>
                      <a:lnTo>
                        <a:pt x="1221" y="1225"/>
                      </a:lnTo>
                      <a:lnTo>
                        <a:pt x="1151" y="1219"/>
                      </a:lnTo>
                      <a:lnTo>
                        <a:pt x="1118" y="1180"/>
                      </a:lnTo>
                      <a:lnTo>
                        <a:pt x="1081" y="1185"/>
                      </a:lnTo>
                      <a:lnTo>
                        <a:pt x="1028" y="1169"/>
                      </a:lnTo>
                      <a:lnTo>
                        <a:pt x="919" y="1038"/>
                      </a:lnTo>
                      <a:lnTo>
                        <a:pt x="925" y="1091"/>
                      </a:lnTo>
                      <a:lnTo>
                        <a:pt x="958" y="1166"/>
                      </a:lnTo>
                      <a:lnTo>
                        <a:pt x="995" y="1219"/>
                      </a:lnTo>
                      <a:lnTo>
                        <a:pt x="1035" y="1247"/>
                      </a:lnTo>
                      <a:lnTo>
                        <a:pt x="1078" y="1225"/>
                      </a:lnTo>
                      <a:lnTo>
                        <a:pt x="1113" y="1225"/>
                      </a:lnTo>
                      <a:lnTo>
                        <a:pt x="1159" y="1272"/>
                      </a:lnTo>
                      <a:lnTo>
                        <a:pt x="1186" y="1308"/>
                      </a:lnTo>
                      <a:lnTo>
                        <a:pt x="1181" y="1331"/>
                      </a:lnTo>
                      <a:lnTo>
                        <a:pt x="1103" y="1434"/>
                      </a:lnTo>
                      <a:lnTo>
                        <a:pt x="1050" y="1473"/>
                      </a:lnTo>
                      <a:lnTo>
                        <a:pt x="941" y="1523"/>
                      </a:lnTo>
                      <a:lnTo>
                        <a:pt x="908" y="1540"/>
                      </a:lnTo>
                      <a:lnTo>
                        <a:pt x="888" y="1523"/>
                      </a:lnTo>
                      <a:lnTo>
                        <a:pt x="882" y="1503"/>
                      </a:lnTo>
                      <a:lnTo>
                        <a:pt x="879" y="1473"/>
                      </a:lnTo>
                      <a:lnTo>
                        <a:pt x="871" y="1442"/>
                      </a:lnTo>
                      <a:lnTo>
                        <a:pt x="855" y="1417"/>
                      </a:lnTo>
                      <a:lnTo>
                        <a:pt x="842" y="1395"/>
                      </a:lnTo>
                      <a:lnTo>
                        <a:pt x="823" y="1364"/>
                      </a:lnTo>
                      <a:lnTo>
                        <a:pt x="812" y="1344"/>
                      </a:lnTo>
                      <a:lnTo>
                        <a:pt x="803" y="1319"/>
                      </a:lnTo>
                      <a:lnTo>
                        <a:pt x="788" y="1297"/>
                      </a:lnTo>
                      <a:lnTo>
                        <a:pt x="763" y="1241"/>
                      </a:lnTo>
                      <a:lnTo>
                        <a:pt x="750" y="1219"/>
                      </a:lnTo>
                      <a:lnTo>
                        <a:pt x="733" y="1188"/>
                      </a:lnTo>
                      <a:lnTo>
                        <a:pt x="704" y="1146"/>
                      </a:lnTo>
                      <a:lnTo>
                        <a:pt x="689" y="1121"/>
                      </a:lnTo>
                      <a:lnTo>
                        <a:pt x="676" y="1105"/>
                      </a:lnTo>
                      <a:lnTo>
                        <a:pt x="661" y="1068"/>
                      </a:lnTo>
                      <a:lnTo>
                        <a:pt x="707" y="1035"/>
                      </a:lnTo>
                      <a:lnTo>
                        <a:pt x="726" y="962"/>
                      </a:lnTo>
                      <a:lnTo>
                        <a:pt x="683" y="943"/>
                      </a:lnTo>
                      <a:lnTo>
                        <a:pt x="623" y="954"/>
                      </a:lnTo>
                      <a:lnTo>
                        <a:pt x="610" y="946"/>
                      </a:lnTo>
                      <a:lnTo>
                        <a:pt x="604" y="946"/>
                      </a:lnTo>
                      <a:lnTo>
                        <a:pt x="595" y="946"/>
                      </a:lnTo>
                      <a:lnTo>
                        <a:pt x="588" y="946"/>
                      </a:lnTo>
                      <a:lnTo>
                        <a:pt x="586" y="932"/>
                      </a:lnTo>
                      <a:lnTo>
                        <a:pt x="582" y="920"/>
                      </a:lnTo>
                      <a:lnTo>
                        <a:pt x="582" y="898"/>
                      </a:lnTo>
                      <a:lnTo>
                        <a:pt x="571" y="887"/>
                      </a:lnTo>
                      <a:lnTo>
                        <a:pt x="569" y="873"/>
                      </a:lnTo>
                      <a:lnTo>
                        <a:pt x="562" y="870"/>
                      </a:lnTo>
                      <a:lnTo>
                        <a:pt x="556" y="859"/>
                      </a:lnTo>
                      <a:lnTo>
                        <a:pt x="553" y="848"/>
                      </a:lnTo>
                      <a:lnTo>
                        <a:pt x="549" y="837"/>
                      </a:lnTo>
                      <a:lnTo>
                        <a:pt x="545" y="831"/>
                      </a:lnTo>
                      <a:lnTo>
                        <a:pt x="532" y="831"/>
                      </a:lnTo>
                      <a:lnTo>
                        <a:pt x="523" y="831"/>
                      </a:lnTo>
                      <a:lnTo>
                        <a:pt x="518" y="831"/>
                      </a:lnTo>
                      <a:lnTo>
                        <a:pt x="516" y="845"/>
                      </a:lnTo>
                      <a:lnTo>
                        <a:pt x="516" y="859"/>
                      </a:lnTo>
                      <a:lnTo>
                        <a:pt x="516" y="876"/>
                      </a:lnTo>
                      <a:lnTo>
                        <a:pt x="516" y="893"/>
                      </a:lnTo>
                      <a:lnTo>
                        <a:pt x="516" y="904"/>
                      </a:lnTo>
                      <a:lnTo>
                        <a:pt x="505" y="909"/>
                      </a:lnTo>
                      <a:lnTo>
                        <a:pt x="497" y="920"/>
                      </a:lnTo>
                      <a:lnTo>
                        <a:pt x="483" y="904"/>
                      </a:lnTo>
                      <a:lnTo>
                        <a:pt x="475" y="881"/>
                      </a:lnTo>
                      <a:lnTo>
                        <a:pt x="477" y="856"/>
                      </a:lnTo>
                      <a:lnTo>
                        <a:pt x="464" y="823"/>
                      </a:lnTo>
                      <a:lnTo>
                        <a:pt x="457" y="801"/>
                      </a:lnTo>
                      <a:lnTo>
                        <a:pt x="442" y="787"/>
                      </a:lnTo>
                      <a:lnTo>
                        <a:pt x="424" y="773"/>
                      </a:lnTo>
                      <a:lnTo>
                        <a:pt x="416" y="753"/>
                      </a:lnTo>
                      <a:lnTo>
                        <a:pt x="409" y="739"/>
                      </a:lnTo>
                      <a:lnTo>
                        <a:pt x="394" y="736"/>
                      </a:lnTo>
                      <a:lnTo>
                        <a:pt x="389" y="728"/>
                      </a:lnTo>
                      <a:lnTo>
                        <a:pt x="378" y="728"/>
                      </a:lnTo>
                      <a:lnTo>
                        <a:pt x="370" y="742"/>
                      </a:lnTo>
                      <a:lnTo>
                        <a:pt x="361" y="753"/>
                      </a:lnTo>
                      <a:lnTo>
                        <a:pt x="381" y="767"/>
                      </a:lnTo>
                      <a:lnTo>
                        <a:pt x="392" y="787"/>
                      </a:lnTo>
                      <a:lnTo>
                        <a:pt x="411" y="812"/>
                      </a:lnTo>
                      <a:lnTo>
                        <a:pt x="420" y="823"/>
                      </a:lnTo>
                      <a:lnTo>
                        <a:pt x="435" y="831"/>
                      </a:lnTo>
                      <a:lnTo>
                        <a:pt x="446" y="848"/>
                      </a:lnTo>
                      <a:lnTo>
                        <a:pt x="433" y="868"/>
                      </a:lnTo>
                      <a:lnTo>
                        <a:pt x="431" y="859"/>
                      </a:lnTo>
                      <a:lnTo>
                        <a:pt x="431" y="848"/>
                      </a:lnTo>
                      <a:lnTo>
                        <a:pt x="424" y="873"/>
                      </a:lnTo>
                      <a:lnTo>
                        <a:pt x="422" y="895"/>
                      </a:lnTo>
                      <a:lnTo>
                        <a:pt x="409" y="901"/>
                      </a:lnTo>
                      <a:lnTo>
                        <a:pt x="413" y="873"/>
                      </a:lnTo>
                      <a:lnTo>
                        <a:pt x="411" y="859"/>
                      </a:lnTo>
                      <a:lnTo>
                        <a:pt x="396" y="851"/>
                      </a:lnTo>
                      <a:lnTo>
                        <a:pt x="389" y="845"/>
                      </a:lnTo>
                      <a:lnTo>
                        <a:pt x="383" y="834"/>
                      </a:lnTo>
                      <a:lnTo>
                        <a:pt x="370" y="828"/>
                      </a:lnTo>
                      <a:lnTo>
                        <a:pt x="361" y="820"/>
                      </a:lnTo>
                      <a:lnTo>
                        <a:pt x="352" y="803"/>
                      </a:lnTo>
                      <a:lnTo>
                        <a:pt x="341" y="795"/>
                      </a:lnTo>
                      <a:lnTo>
                        <a:pt x="335" y="778"/>
                      </a:lnTo>
                      <a:lnTo>
                        <a:pt x="333" y="764"/>
                      </a:lnTo>
                      <a:lnTo>
                        <a:pt x="324" y="759"/>
                      </a:lnTo>
                      <a:lnTo>
                        <a:pt x="315" y="750"/>
                      </a:lnTo>
                      <a:lnTo>
                        <a:pt x="298" y="750"/>
                      </a:lnTo>
                      <a:lnTo>
                        <a:pt x="282" y="753"/>
                      </a:lnTo>
                      <a:lnTo>
                        <a:pt x="265" y="750"/>
                      </a:lnTo>
                      <a:lnTo>
                        <a:pt x="234" y="753"/>
                      </a:lnTo>
                      <a:lnTo>
                        <a:pt x="212" y="756"/>
                      </a:lnTo>
                      <a:lnTo>
                        <a:pt x="206" y="762"/>
                      </a:lnTo>
                      <a:lnTo>
                        <a:pt x="203" y="778"/>
                      </a:lnTo>
                      <a:lnTo>
                        <a:pt x="203" y="798"/>
                      </a:lnTo>
                      <a:lnTo>
                        <a:pt x="190" y="817"/>
                      </a:lnTo>
                      <a:lnTo>
                        <a:pt x="182" y="826"/>
                      </a:lnTo>
                      <a:lnTo>
                        <a:pt x="177" y="831"/>
                      </a:lnTo>
                      <a:lnTo>
                        <a:pt x="171" y="845"/>
                      </a:lnTo>
                      <a:lnTo>
                        <a:pt x="166" y="856"/>
                      </a:lnTo>
                      <a:lnTo>
                        <a:pt x="173" y="865"/>
                      </a:lnTo>
                      <a:lnTo>
                        <a:pt x="173" y="881"/>
                      </a:lnTo>
                      <a:lnTo>
                        <a:pt x="171" y="890"/>
                      </a:lnTo>
                      <a:lnTo>
                        <a:pt x="166" y="901"/>
                      </a:lnTo>
                      <a:lnTo>
                        <a:pt x="155" y="920"/>
                      </a:lnTo>
                      <a:lnTo>
                        <a:pt x="149" y="912"/>
                      </a:lnTo>
                      <a:lnTo>
                        <a:pt x="142" y="918"/>
                      </a:lnTo>
                      <a:lnTo>
                        <a:pt x="133" y="926"/>
                      </a:lnTo>
                      <a:lnTo>
                        <a:pt x="120" y="929"/>
                      </a:lnTo>
                      <a:lnTo>
                        <a:pt x="107" y="943"/>
                      </a:lnTo>
                      <a:lnTo>
                        <a:pt x="94" y="946"/>
                      </a:lnTo>
                      <a:lnTo>
                        <a:pt x="81" y="946"/>
                      </a:lnTo>
                      <a:lnTo>
                        <a:pt x="68" y="946"/>
                      </a:lnTo>
                      <a:lnTo>
                        <a:pt x="39" y="954"/>
                      </a:lnTo>
                      <a:lnTo>
                        <a:pt x="26" y="954"/>
                      </a:lnTo>
                      <a:lnTo>
                        <a:pt x="20" y="934"/>
                      </a:lnTo>
                      <a:lnTo>
                        <a:pt x="13" y="909"/>
                      </a:lnTo>
                      <a:lnTo>
                        <a:pt x="9" y="887"/>
                      </a:lnTo>
                      <a:lnTo>
                        <a:pt x="7" y="865"/>
                      </a:lnTo>
                      <a:lnTo>
                        <a:pt x="7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6" name=""/>
            <p:cNvGrpSpPr/>
            <p:nvPr/>
          </p:nvGrpSpPr>
          <p:grpSpPr>
            <a:xfrm>
              <a:off x="61920" y="260280"/>
              <a:ext cx="3042720" cy="5256360"/>
              <a:chOff x="61920" y="260280"/>
              <a:chExt cx="3042720" cy="5256360"/>
            </a:xfrm>
          </p:grpSpPr>
          <p:sp>
            <p:nvSpPr>
              <p:cNvPr id="197" name=""/>
              <p:cNvSpPr/>
              <p:nvPr/>
            </p:nvSpPr>
            <p:spPr>
              <a:xfrm>
                <a:off x="61920" y="492120"/>
                <a:ext cx="2058120" cy="2460600"/>
              </a:xfrm>
              <a:custGeom>
                <a:avLst/>
                <a:gdLst/>
                <a:ahLst/>
                <a:rect l="l" t="t" r="r" b="b"/>
                <a:pathLst>
                  <a:path w="1419" h="1550">
                    <a:moveTo>
                      <a:pt x="0" y="398"/>
                    </a:moveTo>
                    <a:lnTo>
                      <a:pt x="68" y="345"/>
                    </a:lnTo>
                    <a:lnTo>
                      <a:pt x="107" y="323"/>
                    </a:lnTo>
                    <a:lnTo>
                      <a:pt x="114" y="290"/>
                    </a:lnTo>
                    <a:lnTo>
                      <a:pt x="83" y="270"/>
                    </a:lnTo>
                    <a:lnTo>
                      <a:pt x="81" y="231"/>
                    </a:lnTo>
                    <a:lnTo>
                      <a:pt x="94" y="220"/>
                    </a:lnTo>
                    <a:lnTo>
                      <a:pt x="92" y="203"/>
                    </a:lnTo>
                    <a:lnTo>
                      <a:pt x="144" y="198"/>
                    </a:lnTo>
                    <a:lnTo>
                      <a:pt x="157" y="167"/>
                    </a:lnTo>
                    <a:lnTo>
                      <a:pt x="159" y="139"/>
                    </a:lnTo>
                    <a:lnTo>
                      <a:pt x="203" y="131"/>
                    </a:lnTo>
                    <a:lnTo>
                      <a:pt x="208" y="103"/>
                    </a:lnTo>
                    <a:lnTo>
                      <a:pt x="166" y="95"/>
                    </a:lnTo>
                    <a:lnTo>
                      <a:pt x="186" y="75"/>
                    </a:lnTo>
                    <a:lnTo>
                      <a:pt x="253" y="75"/>
                    </a:lnTo>
                    <a:lnTo>
                      <a:pt x="273" y="53"/>
                    </a:lnTo>
                    <a:lnTo>
                      <a:pt x="302" y="50"/>
                    </a:lnTo>
                    <a:lnTo>
                      <a:pt x="319" y="33"/>
                    </a:lnTo>
                    <a:lnTo>
                      <a:pt x="341" y="64"/>
                    </a:lnTo>
                    <a:lnTo>
                      <a:pt x="426" y="59"/>
                    </a:lnTo>
                    <a:lnTo>
                      <a:pt x="465" y="92"/>
                    </a:lnTo>
                    <a:lnTo>
                      <a:pt x="592" y="84"/>
                    </a:lnTo>
                    <a:lnTo>
                      <a:pt x="612" y="67"/>
                    </a:lnTo>
                    <a:lnTo>
                      <a:pt x="660" y="95"/>
                    </a:lnTo>
                    <a:lnTo>
                      <a:pt x="710" y="120"/>
                    </a:lnTo>
                    <a:lnTo>
                      <a:pt x="734" y="109"/>
                    </a:lnTo>
                    <a:lnTo>
                      <a:pt x="749" y="95"/>
                    </a:lnTo>
                    <a:lnTo>
                      <a:pt x="791" y="103"/>
                    </a:lnTo>
                    <a:lnTo>
                      <a:pt x="763" y="84"/>
                    </a:lnTo>
                    <a:lnTo>
                      <a:pt x="736" y="86"/>
                    </a:lnTo>
                    <a:lnTo>
                      <a:pt x="697" y="92"/>
                    </a:lnTo>
                    <a:lnTo>
                      <a:pt x="677" y="64"/>
                    </a:lnTo>
                    <a:lnTo>
                      <a:pt x="655" y="50"/>
                    </a:lnTo>
                    <a:lnTo>
                      <a:pt x="655" y="28"/>
                    </a:lnTo>
                    <a:lnTo>
                      <a:pt x="662" y="3"/>
                    </a:lnTo>
                    <a:lnTo>
                      <a:pt x="680" y="0"/>
                    </a:lnTo>
                    <a:lnTo>
                      <a:pt x="704" y="22"/>
                    </a:lnTo>
                    <a:lnTo>
                      <a:pt x="710" y="11"/>
                    </a:lnTo>
                    <a:lnTo>
                      <a:pt x="730" y="0"/>
                    </a:lnTo>
                    <a:lnTo>
                      <a:pt x="754" y="17"/>
                    </a:lnTo>
                    <a:lnTo>
                      <a:pt x="767" y="3"/>
                    </a:lnTo>
                    <a:lnTo>
                      <a:pt x="780" y="25"/>
                    </a:lnTo>
                    <a:lnTo>
                      <a:pt x="782" y="39"/>
                    </a:lnTo>
                    <a:lnTo>
                      <a:pt x="817" y="59"/>
                    </a:lnTo>
                    <a:lnTo>
                      <a:pt x="804" y="75"/>
                    </a:lnTo>
                    <a:lnTo>
                      <a:pt x="804" y="98"/>
                    </a:lnTo>
                    <a:lnTo>
                      <a:pt x="863" y="103"/>
                    </a:lnTo>
                    <a:lnTo>
                      <a:pt x="878" y="75"/>
                    </a:lnTo>
                    <a:lnTo>
                      <a:pt x="867" y="61"/>
                    </a:lnTo>
                    <a:lnTo>
                      <a:pt x="841" y="64"/>
                    </a:lnTo>
                    <a:lnTo>
                      <a:pt x="848" y="33"/>
                    </a:lnTo>
                    <a:lnTo>
                      <a:pt x="900" y="50"/>
                    </a:lnTo>
                    <a:lnTo>
                      <a:pt x="911" y="72"/>
                    </a:lnTo>
                    <a:lnTo>
                      <a:pt x="955" y="72"/>
                    </a:lnTo>
                    <a:lnTo>
                      <a:pt x="994" y="100"/>
                    </a:lnTo>
                    <a:lnTo>
                      <a:pt x="1016" y="95"/>
                    </a:lnTo>
                    <a:lnTo>
                      <a:pt x="1040" y="120"/>
                    </a:lnTo>
                    <a:lnTo>
                      <a:pt x="1016" y="153"/>
                    </a:lnTo>
                    <a:lnTo>
                      <a:pt x="996" y="128"/>
                    </a:lnTo>
                    <a:lnTo>
                      <a:pt x="983" y="137"/>
                    </a:lnTo>
                    <a:lnTo>
                      <a:pt x="966" y="156"/>
                    </a:lnTo>
                    <a:lnTo>
                      <a:pt x="937" y="173"/>
                    </a:lnTo>
                    <a:lnTo>
                      <a:pt x="953" y="198"/>
                    </a:lnTo>
                    <a:lnTo>
                      <a:pt x="926" y="201"/>
                    </a:lnTo>
                    <a:lnTo>
                      <a:pt x="905" y="234"/>
                    </a:lnTo>
                    <a:lnTo>
                      <a:pt x="883" y="276"/>
                    </a:lnTo>
                    <a:lnTo>
                      <a:pt x="915" y="312"/>
                    </a:lnTo>
                    <a:lnTo>
                      <a:pt x="942" y="354"/>
                    </a:lnTo>
                    <a:lnTo>
                      <a:pt x="988" y="359"/>
                    </a:lnTo>
                    <a:lnTo>
                      <a:pt x="1031" y="354"/>
                    </a:lnTo>
                    <a:lnTo>
                      <a:pt x="1051" y="376"/>
                    </a:lnTo>
                    <a:lnTo>
                      <a:pt x="1042" y="387"/>
                    </a:lnTo>
                    <a:lnTo>
                      <a:pt x="1029" y="410"/>
                    </a:lnTo>
                    <a:lnTo>
                      <a:pt x="1049" y="449"/>
                    </a:lnTo>
                    <a:lnTo>
                      <a:pt x="1055" y="476"/>
                    </a:lnTo>
                    <a:lnTo>
                      <a:pt x="1079" y="490"/>
                    </a:lnTo>
                    <a:lnTo>
                      <a:pt x="1112" y="465"/>
                    </a:lnTo>
                    <a:lnTo>
                      <a:pt x="1103" y="429"/>
                    </a:lnTo>
                    <a:lnTo>
                      <a:pt x="1075" y="398"/>
                    </a:lnTo>
                    <a:lnTo>
                      <a:pt x="1108" y="362"/>
                    </a:lnTo>
                    <a:lnTo>
                      <a:pt x="1079" y="301"/>
                    </a:lnTo>
                    <a:lnTo>
                      <a:pt x="1053" y="276"/>
                    </a:lnTo>
                    <a:lnTo>
                      <a:pt x="1075" y="254"/>
                    </a:lnTo>
                    <a:lnTo>
                      <a:pt x="1071" y="220"/>
                    </a:lnTo>
                    <a:lnTo>
                      <a:pt x="1086" y="201"/>
                    </a:lnTo>
                    <a:lnTo>
                      <a:pt x="1112" y="220"/>
                    </a:lnTo>
                    <a:lnTo>
                      <a:pt x="1173" y="293"/>
                    </a:lnTo>
                    <a:lnTo>
                      <a:pt x="1210" y="304"/>
                    </a:lnTo>
                    <a:lnTo>
                      <a:pt x="1221" y="284"/>
                    </a:lnTo>
                    <a:lnTo>
                      <a:pt x="1213" y="245"/>
                    </a:lnTo>
                    <a:lnTo>
                      <a:pt x="1234" y="251"/>
                    </a:lnTo>
                    <a:lnTo>
                      <a:pt x="1272" y="295"/>
                    </a:lnTo>
                    <a:lnTo>
                      <a:pt x="1278" y="320"/>
                    </a:lnTo>
                    <a:lnTo>
                      <a:pt x="1300" y="337"/>
                    </a:lnTo>
                    <a:lnTo>
                      <a:pt x="1344" y="357"/>
                    </a:lnTo>
                    <a:lnTo>
                      <a:pt x="1366" y="393"/>
                    </a:lnTo>
                    <a:lnTo>
                      <a:pt x="1398" y="418"/>
                    </a:lnTo>
                    <a:lnTo>
                      <a:pt x="1416" y="426"/>
                    </a:lnTo>
                    <a:lnTo>
                      <a:pt x="1418" y="449"/>
                    </a:lnTo>
                    <a:lnTo>
                      <a:pt x="1392" y="462"/>
                    </a:lnTo>
                    <a:lnTo>
                      <a:pt x="1376" y="446"/>
                    </a:lnTo>
                    <a:lnTo>
                      <a:pt x="1363" y="449"/>
                    </a:lnTo>
                    <a:lnTo>
                      <a:pt x="1359" y="485"/>
                    </a:lnTo>
                    <a:lnTo>
                      <a:pt x="1337" y="493"/>
                    </a:lnTo>
                    <a:lnTo>
                      <a:pt x="1313" y="474"/>
                    </a:lnTo>
                    <a:lnTo>
                      <a:pt x="1263" y="474"/>
                    </a:lnTo>
                    <a:lnTo>
                      <a:pt x="1256" y="515"/>
                    </a:lnTo>
                    <a:lnTo>
                      <a:pt x="1269" y="540"/>
                    </a:lnTo>
                    <a:lnTo>
                      <a:pt x="1289" y="527"/>
                    </a:lnTo>
                    <a:lnTo>
                      <a:pt x="1309" y="521"/>
                    </a:lnTo>
                    <a:lnTo>
                      <a:pt x="1328" y="535"/>
                    </a:lnTo>
                    <a:lnTo>
                      <a:pt x="1302" y="566"/>
                    </a:lnTo>
                    <a:lnTo>
                      <a:pt x="1328" y="593"/>
                    </a:lnTo>
                    <a:lnTo>
                      <a:pt x="1363" y="602"/>
                    </a:lnTo>
                    <a:lnTo>
                      <a:pt x="1359" y="618"/>
                    </a:lnTo>
                    <a:lnTo>
                      <a:pt x="1346" y="621"/>
                    </a:lnTo>
                    <a:lnTo>
                      <a:pt x="1313" y="716"/>
                    </a:lnTo>
                    <a:lnTo>
                      <a:pt x="1315" y="655"/>
                    </a:lnTo>
                    <a:lnTo>
                      <a:pt x="1331" y="624"/>
                    </a:lnTo>
                    <a:lnTo>
                      <a:pt x="1313" y="610"/>
                    </a:lnTo>
                    <a:lnTo>
                      <a:pt x="1293" y="630"/>
                    </a:lnTo>
                    <a:lnTo>
                      <a:pt x="1304" y="646"/>
                    </a:lnTo>
                    <a:lnTo>
                      <a:pt x="1289" y="657"/>
                    </a:lnTo>
                    <a:lnTo>
                      <a:pt x="1274" y="671"/>
                    </a:lnTo>
                    <a:lnTo>
                      <a:pt x="1276" y="713"/>
                    </a:lnTo>
                    <a:lnTo>
                      <a:pt x="1254" y="727"/>
                    </a:lnTo>
                    <a:lnTo>
                      <a:pt x="1224" y="730"/>
                    </a:lnTo>
                    <a:lnTo>
                      <a:pt x="1234" y="752"/>
                    </a:lnTo>
                    <a:lnTo>
                      <a:pt x="1224" y="777"/>
                    </a:lnTo>
                    <a:lnTo>
                      <a:pt x="1234" y="797"/>
                    </a:lnTo>
                    <a:lnTo>
                      <a:pt x="1217" y="839"/>
                    </a:lnTo>
                    <a:lnTo>
                      <a:pt x="1210" y="878"/>
                    </a:lnTo>
                    <a:lnTo>
                      <a:pt x="1184" y="900"/>
                    </a:lnTo>
                    <a:lnTo>
                      <a:pt x="1151" y="961"/>
                    </a:lnTo>
                    <a:lnTo>
                      <a:pt x="1147" y="1003"/>
                    </a:lnTo>
                    <a:lnTo>
                      <a:pt x="1158" y="1036"/>
                    </a:lnTo>
                    <a:lnTo>
                      <a:pt x="1173" y="1078"/>
                    </a:lnTo>
                    <a:lnTo>
                      <a:pt x="1182" y="1123"/>
                    </a:lnTo>
                    <a:lnTo>
                      <a:pt x="1167" y="1142"/>
                    </a:lnTo>
                    <a:lnTo>
                      <a:pt x="1147" y="1128"/>
                    </a:lnTo>
                    <a:lnTo>
                      <a:pt x="1151" y="1106"/>
                    </a:lnTo>
                    <a:lnTo>
                      <a:pt x="1141" y="1056"/>
                    </a:lnTo>
                    <a:lnTo>
                      <a:pt x="1127" y="1048"/>
                    </a:lnTo>
                    <a:lnTo>
                      <a:pt x="1119" y="1017"/>
                    </a:lnTo>
                    <a:lnTo>
                      <a:pt x="1101" y="1017"/>
                    </a:lnTo>
                    <a:lnTo>
                      <a:pt x="1082" y="1000"/>
                    </a:lnTo>
                    <a:lnTo>
                      <a:pt x="1060" y="1006"/>
                    </a:lnTo>
                    <a:lnTo>
                      <a:pt x="1040" y="995"/>
                    </a:lnTo>
                    <a:lnTo>
                      <a:pt x="1016" y="1009"/>
                    </a:lnTo>
                    <a:lnTo>
                      <a:pt x="972" y="997"/>
                    </a:lnTo>
                    <a:lnTo>
                      <a:pt x="1001" y="1034"/>
                    </a:lnTo>
                    <a:lnTo>
                      <a:pt x="966" y="1031"/>
                    </a:lnTo>
                    <a:lnTo>
                      <a:pt x="942" y="1003"/>
                    </a:lnTo>
                    <a:lnTo>
                      <a:pt x="898" y="1003"/>
                    </a:lnTo>
                    <a:lnTo>
                      <a:pt x="905" y="1048"/>
                    </a:lnTo>
                    <a:lnTo>
                      <a:pt x="872" y="1034"/>
                    </a:lnTo>
                    <a:lnTo>
                      <a:pt x="854" y="1078"/>
                    </a:lnTo>
                    <a:lnTo>
                      <a:pt x="867" y="1098"/>
                    </a:lnTo>
                    <a:lnTo>
                      <a:pt x="854" y="1151"/>
                    </a:lnTo>
                    <a:lnTo>
                      <a:pt x="870" y="1212"/>
                    </a:lnTo>
                    <a:lnTo>
                      <a:pt x="887" y="1254"/>
                    </a:lnTo>
                    <a:lnTo>
                      <a:pt x="907" y="1293"/>
                    </a:lnTo>
                    <a:lnTo>
                      <a:pt x="966" y="1290"/>
                    </a:lnTo>
                    <a:lnTo>
                      <a:pt x="990" y="1282"/>
                    </a:lnTo>
                    <a:lnTo>
                      <a:pt x="994" y="1254"/>
                    </a:lnTo>
                    <a:lnTo>
                      <a:pt x="981" y="1231"/>
                    </a:lnTo>
                    <a:lnTo>
                      <a:pt x="983" y="1212"/>
                    </a:lnTo>
                    <a:lnTo>
                      <a:pt x="1020" y="1217"/>
                    </a:lnTo>
                    <a:lnTo>
                      <a:pt x="1057" y="1206"/>
                    </a:lnTo>
                    <a:lnTo>
                      <a:pt x="1057" y="1231"/>
                    </a:lnTo>
                    <a:lnTo>
                      <a:pt x="1047" y="1268"/>
                    </a:lnTo>
                    <a:lnTo>
                      <a:pt x="1029" y="1295"/>
                    </a:lnTo>
                    <a:lnTo>
                      <a:pt x="1025" y="1334"/>
                    </a:lnTo>
                    <a:lnTo>
                      <a:pt x="1049" y="1351"/>
                    </a:lnTo>
                    <a:lnTo>
                      <a:pt x="1082" y="1346"/>
                    </a:lnTo>
                    <a:lnTo>
                      <a:pt x="1101" y="1360"/>
                    </a:lnTo>
                    <a:lnTo>
                      <a:pt x="1119" y="1354"/>
                    </a:lnTo>
                    <a:lnTo>
                      <a:pt x="1125" y="1379"/>
                    </a:lnTo>
                    <a:lnTo>
                      <a:pt x="1110" y="1415"/>
                    </a:lnTo>
                    <a:lnTo>
                      <a:pt x="1123" y="1438"/>
                    </a:lnTo>
                    <a:lnTo>
                      <a:pt x="1125" y="1482"/>
                    </a:lnTo>
                    <a:lnTo>
                      <a:pt x="1147" y="1513"/>
                    </a:lnTo>
                    <a:lnTo>
                      <a:pt x="1175" y="1521"/>
                    </a:lnTo>
                    <a:lnTo>
                      <a:pt x="1195" y="1513"/>
                    </a:lnTo>
                    <a:lnTo>
                      <a:pt x="1204" y="1516"/>
                    </a:lnTo>
                    <a:lnTo>
                      <a:pt x="1241" y="1516"/>
                    </a:lnTo>
                    <a:lnTo>
                      <a:pt x="1274" y="1518"/>
                    </a:lnTo>
                    <a:lnTo>
                      <a:pt x="1283" y="1499"/>
                    </a:lnTo>
                    <a:lnTo>
                      <a:pt x="1254" y="1532"/>
                    </a:lnTo>
                    <a:lnTo>
                      <a:pt x="1234" y="1529"/>
                    </a:lnTo>
                    <a:lnTo>
                      <a:pt x="1215" y="1532"/>
                    </a:lnTo>
                    <a:lnTo>
                      <a:pt x="1175" y="1549"/>
                    </a:lnTo>
                    <a:lnTo>
                      <a:pt x="1143" y="1527"/>
                    </a:lnTo>
                    <a:lnTo>
                      <a:pt x="1112" y="1513"/>
                    </a:lnTo>
                    <a:lnTo>
                      <a:pt x="1099" y="1516"/>
                    </a:lnTo>
                    <a:lnTo>
                      <a:pt x="1101" y="1496"/>
                    </a:lnTo>
                    <a:lnTo>
                      <a:pt x="1099" y="1465"/>
                    </a:lnTo>
                    <a:lnTo>
                      <a:pt x="1073" y="1438"/>
                    </a:lnTo>
                    <a:lnTo>
                      <a:pt x="1018" y="1421"/>
                    </a:lnTo>
                    <a:lnTo>
                      <a:pt x="1009" y="1410"/>
                    </a:lnTo>
                    <a:lnTo>
                      <a:pt x="994" y="1412"/>
                    </a:lnTo>
                    <a:lnTo>
                      <a:pt x="979" y="1399"/>
                    </a:lnTo>
                    <a:lnTo>
                      <a:pt x="959" y="1385"/>
                    </a:lnTo>
                    <a:lnTo>
                      <a:pt x="933" y="1346"/>
                    </a:lnTo>
                    <a:lnTo>
                      <a:pt x="902" y="1334"/>
                    </a:lnTo>
                    <a:lnTo>
                      <a:pt x="885" y="1360"/>
                    </a:lnTo>
                    <a:lnTo>
                      <a:pt x="865" y="1340"/>
                    </a:lnTo>
                    <a:lnTo>
                      <a:pt x="841" y="1340"/>
                    </a:lnTo>
                    <a:lnTo>
                      <a:pt x="793" y="1326"/>
                    </a:lnTo>
                    <a:lnTo>
                      <a:pt x="706" y="1259"/>
                    </a:lnTo>
                    <a:lnTo>
                      <a:pt x="699" y="1190"/>
                    </a:lnTo>
                    <a:lnTo>
                      <a:pt x="690" y="1162"/>
                    </a:lnTo>
                    <a:lnTo>
                      <a:pt x="675" y="1142"/>
                    </a:lnTo>
                    <a:lnTo>
                      <a:pt x="655" y="1103"/>
                    </a:lnTo>
                    <a:lnTo>
                      <a:pt x="564" y="970"/>
                    </a:lnTo>
                    <a:lnTo>
                      <a:pt x="564" y="1020"/>
                    </a:lnTo>
                    <a:lnTo>
                      <a:pt x="621" y="1109"/>
                    </a:lnTo>
                    <a:lnTo>
                      <a:pt x="645" y="1184"/>
                    </a:lnTo>
                    <a:lnTo>
                      <a:pt x="610" y="1167"/>
                    </a:lnTo>
                    <a:lnTo>
                      <a:pt x="603" y="1123"/>
                    </a:lnTo>
                    <a:lnTo>
                      <a:pt x="557" y="1095"/>
                    </a:lnTo>
                    <a:lnTo>
                      <a:pt x="583" y="1078"/>
                    </a:lnTo>
                    <a:lnTo>
                      <a:pt x="522" y="1031"/>
                    </a:lnTo>
                    <a:lnTo>
                      <a:pt x="546" y="1003"/>
                    </a:lnTo>
                    <a:lnTo>
                      <a:pt x="524" y="947"/>
                    </a:lnTo>
                    <a:lnTo>
                      <a:pt x="450" y="830"/>
                    </a:lnTo>
                    <a:lnTo>
                      <a:pt x="441" y="763"/>
                    </a:lnTo>
                    <a:lnTo>
                      <a:pt x="446" y="713"/>
                    </a:lnTo>
                    <a:lnTo>
                      <a:pt x="465" y="657"/>
                    </a:lnTo>
                    <a:lnTo>
                      <a:pt x="465" y="602"/>
                    </a:lnTo>
                    <a:lnTo>
                      <a:pt x="450" y="568"/>
                    </a:lnTo>
                    <a:lnTo>
                      <a:pt x="492" y="557"/>
                    </a:lnTo>
                    <a:lnTo>
                      <a:pt x="441" y="490"/>
                    </a:lnTo>
                    <a:lnTo>
                      <a:pt x="444" y="460"/>
                    </a:lnTo>
                    <a:lnTo>
                      <a:pt x="422" y="418"/>
                    </a:lnTo>
                    <a:lnTo>
                      <a:pt x="430" y="393"/>
                    </a:lnTo>
                    <a:lnTo>
                      <a:pt x="415" y="379"/>
                    </a:lnTo>
                    <a:lnTo>
                      <a:pt x="413" y="351"/>
                    </a:lnTo>
                    <a:lnTo>
                      <a:pt x="398" y="329"/>
                    </a:lnTo>
                    <a:lnTo>
                      <a:pt x="415" y="309"/>
                    </a:lnTo>
                    <a:lnTo>
                      <a:pt x="391" y="295"/>
                    </a:lnTo>
                    <a:lnTo>
                      <a:pt x="371" y="315"/>
                    </a:lnTo>
                    <a:lnTo>
                      <a:pt x="343" y="276"/>
                    </a:lnTo>
                    <a:lnTo>
                      <a:pt x="312" y="265"/>
                    </a:lnTo>
                    <a:lnTo>
                      <a:pt x="269" y="265"/>
                    </a:lnTo>
                    <a:lnTo>
                      <a:pt x="240" y="301"/>
                    </a:lnTo>
                    <a:lnTo>
                      <a:pt x="227" y="290"/>
                    </a:lnTo>
                    <a:lnTo>
                      <a:pt x="251" y="242"/>
                    </a:lnTo>
                    <a:lnTo>
                      <a:pt x="229" y="251"/>
                    </a:lnTo>
                    <a:lnTo>
                      <a:pt x="186" y="301"/>
                    </a:lnTo>
                    <a:lnTo>
                      <a:pt x="140" y="345"/>
                    </a:lnTo>
                    <a:lnTo>
                      <a:pt x="98" y="357"/>
                    </a:lnTo>
                    <a:lnTo>
                      <a:pt x="28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532520" y="260280"/>
                <a:ext cx="700560" cy="647640"/>
              </a:xfrm>
              <a:custGeom>
                <a:avLst/>
                <a:gdLst/>
                <a:ahLst/>
                <a:rect l="l" t="t" r="r" b="b"/>
                <a:pathLst>
                  <a:path w="483" h="408">
                    <a:moveTo>
                      <a:pt x="0" y="84"/>
                    </a:moveTo>
                    <a:lnTo>
                      <a:pt x="11" y="53"/>
                    </a:lnTo>
                    <a:lnTo>
                      <a:pt x="11" y="31"/>
                    </a:lnTo>
                    <a:lnTo>
                      <a:pt x="28" y="0"/>
                    </a:lnTo>
                    <a:lnTo>
                      <a:pt x="116" y="20"/>
                    </a:lnTo>
                    <a:lnTo>
                      <a:pt x="266" y="56"/>
                    </a:lnTo>
                    <a:lnTo>
                      <a:pt x="325" y="86"/>
                    </a:lnTo>
                    <a:lnTo>
                      <a:pt x="403" y="114"/>
                    </a:lnTo>
                    <a:lnTo>
                      <a:pt x="443" y="167"/>
                    </a:lnTo>
                    <a:lnTo>
                      <a:pt x="482" y="192"/>
                    </a:lnTo>
                    <a:lnTo>
                      <a:pt x="467" y="212"/>
                    </a:lnTo>
                    <a:lnTo>
                      <a:pt x="467" y="237"/>
                    </a:lnTo>
                    <a:lnTo>
                      <a:pt x="451" y="243"/>
                    </a:lnTo>
                    <a:lnTo>
                      <a:pt x="438" y="265"/>
                    </a:lnTo>
                    <a:lnTo>
                      <a:pt x="451" y="287"/>
                    </a:lnTo>
                    <a:lnTo>
                      <a:pt x="449" y="304"/>
                    </a:lnTo>
                    <a:lnTo>
                      <a:pt x="434" y="326"/>
                    </a:lnTo>
                    <a:lnTo>
                      <a:pt x="436" y="348"/>
                    </a:lnTo>
                    <a:lnTo>
                      <a:pt x="462" y="371"/>
                    </a:lnTo>
                    <a:lnTo>
                      <a:pt x="465" y="393"/>
                    </a:lnTo>
                    <a:lnTo>
                      <a:pt x="458" y="404"/>
                    </a:lnTo>
                    <a:lnTo>
                      <a:pt x="432" y="407"/>
                    </a:lnTo>
                    <a:lnTo>
                      <a:pt x="412" y="396"/>
                    </a:lnTo>
                    <a:lnTo>
                      <a:pt x="390" y="368"/>
                    </a:lnTo>
                    <a:lnTo>
                      <a:pt x="382" y="368"/>
                    </a:lnTo>
                    <a:lnTo>
                      <a:pt x="371" y="357"/>
                    </a:lnTo>
                    <a:lnTo>
                      <a:pt x="360" y="323"/>
                    </a:lnTo>
                    <a:lnTo>
                      <a:pt x="347" y="312"/>
                    </a:lnTo>
                    <a:lnTo>
                      <a:pt x="318" y="295"/>
                    </a:lnTo>
                    <a:lnTo>
                      <a:pt x="294" y="284"/>
                    </a:lnTo>
                    <a:lnTo>
                      <a:pt x="260" y="254"/>
                    </a:lnTo>
                    <a:lnTo>
                      <a:pt x="244" y="231"/>
                    </a:lnTo>
                    <a:lnTo>
                      <a:pt x="246" y="215"/>
                    </a:lnTo>
                    <a:lnTo>
                      <a:pt x="262" y="201"/>
                    </a:lnTo>
                    <a:lnTo>
                      <a:pt x="249" y="184"/>
                    </a:lnTo>
                    <a:lnTo>
                      <a:pt x="236" y="192"/>
                    </a:lnTo>
                    <a:lnTo>
                      <a:pt x="214" y="167"/>
                    </a:lnTo>
                    <a:lnTo>
                      <a:pt x="209" y="181"/>
                    </a:lnTo>
                    <a:lnTo>
                      <a:pt x="190" y="181"/>
                    </a:lnTo>
                    <a:lnTo>
                      <a:pt x="185" y="170"/>
                    </a:lnTo>
                    <a:lnTo>
                      <a:pt x="185" y="151"/>
                    </a:lnTo>
                    <a:lnTo>
                      <a:pt x="177" y="139"/>
                    </a:lnTo>
                    <a:lnTo>
                      <a:pt x="164" y="142"/>
                    </a:lnTo>
                    <a:lnTo>
                      <a:pt x="146" y="112"/>
                    </a:lnTo>
                    <a:lnTo>
                      <a:pt x="133" y="109"/>
                    </a:lnTo>
                    <a:lnTo>
                      <a:pt x="113" y="95"/>
                    </a:lnTo>
                    <a:lnTo>
                      <a:pt x="72" y="98"/>
                    </a:lnTo>
                    <a:lnTo>
                      <a:pt x="31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393200" y="487440"/>
                <a:ext cx="446400" cy="333360"/>
              </a:xfrm>
              <a:custGeom>
                <a:avLst/>
                <a:gdLst/>
                <a:ahLst/>
                <a:rect l="l" t="t" r="r" b="b"/>
                <a:pathLst>
                  <a:path w="308" h="210">
                    <a:moveTo>
                      <a:pt x="11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22" y="56"/>
                    </a:lnTo>
                    <a:lnTo>
                      <a:pt x="35" y="50"/>
                    </a:lnTo>
                    <a:lnTo>
                      <a:pt x="39" y="59"/>
                    </a:lnTo>
                    <a:lnTo>
                      <a:pt x="52" y="61"/>
                    </a:lnTo>
                    <a:lnTo>
                      <a:pt x="61" y="47"/>
                    </a:lnTo>
                    <a:lnTo>
                      <a:pt x="91" y="50"/>
                    </a:lnTo>
                    <a:lnTo>
                      <a:pt x="95" y="64"/>
                    </a:lnTo>
                    <a:lnTo>
                      <a:pt x="106" y="70"/>
                    </a:lnTo>
                    <a:lnTo>
                      <a:pt x="132" y="67"/>
                    </a:lnTo>
                    <a:lnTo>
                      <a:pt x="141" y="75"/>
                    </a:lnTo>
                    <a:lnTo>
                      <a:pt x="154" y="84"/>
                    </a:lnTo>
                    <a:lnTo>
                      <a:pt x="164" y="100"/>
                    </a:lnTo>
                    <a:lnTo>
                      <a:pt x="164" y="123"/>
                    </a:lnTo>
                    <a:lnTo>
                      <a:pt x="156" y="128"/>
                    </a:lnTo>
                    <a:lnTo>
                      <a:pt x="160" y="137"/>
                    </a:lnTo>
                    <a:lnTo>
                      <a:pt x="147" y="150"/>
                    </a:lnTo>
                    <a:lnTo>
                      <a:pt x="147" y="170"/>
                    </a:lnTo>
                    <a:lnTo>
                      <a:pt x="166" y="173"/>
                    </a:lnTo>
                    <a:lnTo>
                      <a:pt x="177" y="167"/>
                    </a:lnTo>
                    <a:lnTo>
                      <a:pt x="182" y="159"/>
                    </a:lnTo>
                    <a:lnTo>
                      <a:pt x="188" y="167"/>
                    </a:lnTo>
                    <a:lnTo>
                      <a:pt x="199" y="162"/>
                    </a:lnTo>
                    <a:lnTo>
                      <a:pt x="223" y="173"/>
                    </a:lnTo>
                    <a:lnTo>
                      <a:pt x="238" y="192"/>
                    </a:lnTo>
                    <a:lnTo>
                      <a:pt x="242" y="192"/>
                    </a:lnTo>
                    <a:lnTo>
                      <a:pt x="244" y="203"/>
                    </a:lnTo>
                    <a:lnTo>
                      <a:pt x="259" y="209"/>
                    </a:lnTo>
                    <a:lnTo>
                      <a:pt x="277" y="209"/>
                    </a:lnTo>
                    <a:lnTo>
                      <a:pt x="266" y="198"/>
                    </a:lnTo>
                    <a:lnTo>
                      <a:pt x="270" y="187"/>
                    </a:lnTo>
                    <a:lnTo>
                      <a:pt x="283" y="198"/>
                    </a:lnTo>
                    <a:lnTo>
                      <a:pt x="298" y="201"/>
                    </a:lnTo>
                    <a:lnTo>
                      <a:pt x="301" y="184"/>
                    </a:lnTo>
                    <a:lnTo>
                      <a:pt x="285" y="170"/>
                    </a:lnTo>
                    <a:lnTo>
                      <a:pt x="275" y="170"/>
                    </a:lnTo>
                    <a:lnTo>
                      <a:pt x="259" y="156"/>
                    </a:lnTo>
                    <a:lnTo>
                      <a:pt x="275" y="156"/>
                    </a:lnTo>
                    <a:lnTo>
                      <a:pt x="285" y="164"/>
                    </a:lnTo>
                    <a:lnTo>
                      <a:pt x="307" y="164"/>
                    </a:lnTo>
                    <a:lnTo>
                      <a:pt x="303" y="148"/>
                    </a:lnTo>
                    <a:lnTo>
                      <a:pt x="283" y="131"/>
                    </a:lnTo>
                    <a:lnTo>
                      <a:pt x="270" y="128"/>
                    </a:lnTo>
                    <a:lnTo>
                      <a:pt x="251" y="109"/>
                    </a:lnTo>
                    <a:lnTo>
                      <a:pt x="227" y="103"/>
                    </a:lnTo>
                    <a:lnTo>
                      <a:pt x="208" y="95"/>
                    </a:lnTo>
                    <a:lnTo>
                      <a:pt x="192" y="70"/>
                    </a:lnTo>
                    <a:lnTo>
                      <a:pt x="182" y="39"/>
                    </a:lnTo>
                    <a:lnTo>
                      <a:pt x="166" y="39"/>
                    </a:lnTo>
                    <a:lnTo>
                      <a:pt x="162" y="31"/>
                    </a:lnTo>
                    <a:lnTo>
                      <a:pt x="154" y="33"/>
                    </a:lnTo>
                    <a:lnTo>
                      <a:pt x="138" y="20"/>
                    </a:lnTo>
                    <a:lnTo>
                      <a:pt x="112" y="14"/>
                    </a:lnTo>
                    <a:lnTo>
                      <a:pt x="102" y="22"/>
                    </a:lnTo>
                    <a:lnTo>
                      <a:pt x="78" y="14"/>
                    </a:lnTo>
                    <a:lnTo>
                      <a:pt x="63" y="14"/>
                    </a:lnTo>
                    <a:lnTo>
                      <a:pt x="56" y="3"/>
                    </a:lnTo>
                    <a:lnTo>
                      <a:pt x="50" y="0"/>
                    </a:lnTo>
                    <a:lnTo>
                      <a:pt x="39" y="3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647000" y="2340000"/>
                <a:ext cx="317520" cy="155520"/>
              </a:xfrm>
              <a:custGeom>
                <a:avLst/>
                <a:gdLst/>
                <a:ahLst/>
                <a:rect l="l" t="t" r="r" b="b"/>
                <a:pathLst>
                  <a:path w="219" h="98">
                    <a:moveTo>
                      <a:pt x="0" y="49"/>
                    </a:moveTo>
                    <a:lnTo>
                      <a:pt x="19" y="20"/>
                    </a:lnTo>
                    <a:lnTo>
                      <a:pt x="28" y="20"/>
                    </a:lnTo>
                    <a:lnTo>
                      <a:pt x="43" y="6"/>
                    </a:lnTo>
                    <a:lnTo>
                      <a:pt x="60" y="6"/>
                    </a:lnTo>
                    <a:lnTo>
                      <a:pt x="65" y="3"/>
                    </a:lnTo>
                    <a:lnTo>
                      <a:pt x="71" y="0"/>
                    </a:lnTo>
                    <a:lnTo>
                      <a:pt x="93" y="17"/>
                    </a:lnTo>
                    <a:lnTo>
                      <a:pt x="99" y="29"/>
                    </a:lnTo>
                    <a:lnTo>
                      <a:pt x="104" y="23"/>
                    </a:lnTo>
                    <a:lnTo>
                      <a:pt x="121" y="34"/>
                    </a:lnTo>
                    <a:lnTo>
                      <a:pt x="132" y="34"/>
                    </a:lnTo>
                    <a:lnTo>
                      <a:pt x="140" y="43"/>
                    </a:lnTo>
                    <a:lnTo>
                      <a:pt x="155" y="49"/>
                    </a:lnTo>
                    <a:lnTo>
                      <a:pt x="155" y="63"/>
                    </a:lnTo>
                    <a:lnTo>
                      <a:pt x="183" y="63"/>
                    </a:lnTo>
                    <a:lnTo>
                      <a:pt x="190" y="77"/>
                    </a:lnTo>
                    <a:lnTo>
                      <a:pt x="207" y="77"/>
                    </a:lnTo>
                    <a:lnTo>
                      <a:pt x="218" y="94"/>
                    </a:lnTo>
                    <a:lnTo>
                      <a:pt x="212" y="97"/>
                    </a:lnTo>
                    <a:lnTo>
                      <a:pt x="207" y="91"/>
                    </a:lnTo>
                    <a:lnTo>
                      <a:pt x="205" y="88"/>
                    </a:lnTo>
                    <a:lnTo>
                      <a:pt x="190" y="91"/>
                    </a:lnTo>
                    <a:lnTo>
                      <a:pt x="186" y="94"/>
                    </a:lnTo>
                    <a:lnTo>
                      <a:pt x="173" y="97"/>
                    </a:lnTo>
                    <a:lnTo>
                      <a:pt x="153" y="97"/>
                    </a:lnTo>
                    <a:lnTo>
                      <a:pt x="140" y="97"/>
                    </a:lnTo>
                    <a:lnTo>
                      <a:pt x="140" y="88"/>
                    </a:lnTo>
                    <a:lnTo>
                      <a:pt x="121" y="66"/>
                    </a:lnTo>
                    <a:lnTo>
                      <a:pt x="121" y="51"/>
                    </a:lnTo>
                    <a:lnTo>
                      <a:pt x="99" y="51"/>
                    </a:lnTo>
                    <a:lnTo>
                      <a:pt x="91" y="43"/>
                    </a:lnTo>
                    <a:lnTo>
                      <a:pt x="84" y="51"/>
                    </a:lnTo>
                    <a:lnTo>
                      <a:pt x="78" y="40"/>
                    </a:lnTo>
                    <a:lnTo>
                      <a:pt x="71" y="40"/>
                    </a:lnTo>
                    <a:lnTo>
                      <a:pt x="71" y="26"/>
                    </a:lnTo>
                    <a:lnTo>
                      <a:pt x="65" y="20"/>
                    </a:lnTo>
                    <a:lnTo>
                      <a:pt x="45" y="23"/>
                    </a:lnTo>
                    <a:lnTo>
                      <a:pt x="32" y="40"/>
                    </a:lnTo>
                    <a:lnTo>
                      <a:pt x="17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924200" y="2450880"/>
                <a:ext cx="209880" cy="131760"/>
              </a:xfrm>
              <a:custGeom>
                <a:avLst/>
                <a:gdLst/>
                <a:ahLst/>
                <a:rect l="l" t="t" r="r" b="b"/>
                <a:pathLst>
                  <a:path w="145" h="83">
                    <a:moveTo>
                      <a:pt x="0" y="62"/>
                    </a:moveTo>
                    <a:lnTo>
                      <a:pt x="14" y="65"/>
                    </a:lnTo>
                    <a:lnTo>
                      <a:pt x="45" y="62"/>
                    </a:lnTo>
                    <a:lnTo>
                      <a:pt x="59" y="79"/>
                    </a:lnTo>
                    <a:lnTo>
                      <a:pt x="77" y="82"/>
                    </a:lnTo>
                    <a:lnTo>
                      <a:pt x="86" y="62"/>
                    </a:lnTo>
                    <a:lnTo>
                      <a:pt x="81" y="57"/>
                    </a:lnTo>
                    <a:lnTo>
                      <a:pt x="90" y="48"/>
                    </a:lnTo>
                    <a:lnTo>
                      <a:pt x="108" y="62"/>
                    </a:lnTo>
                    <a:lnTo>
                      <a:pt x="122" y="62"/>
                    </a:lnTo>
                    <a:lnTo>
                      <a:pt x="122" y="54"/>
                    </a:lnTo>
                    <a:lnTo>
                      <a:pt x="131" y="54"/>
                    </a:lnTo>
                    <a:lnTo>
                      <a:pt x="144" y="40"/>
                    </a:lnTo>
                    <a:lnTo>
                      <a:pt x="135" y="37"/>
                    </a:lnTo>
                    <a:lnTo>
                      <a:pt x="135" y="23"/>
                    </a:lnTo>
                    <a:lnTo>
                      <a:pt x="135" y="11"/>
                    </a:lnTo>
                    <a:lnTo>
                      <a:pt x="115" y="8"/>
                    </a:lnTo>
                    <a:lnTo>
                      <a:pt x="99" y="11"/>
                    </a:lnTo>
                    <a:lnTo>
                      <a:pt x="86" y="11"/>
                    </a:lnTo>
                    <a:lnTo>
                      <a:pt x="65" y="8"/>
                    </a:lnTo>
                    <a:lnTo>
                      <a:pt x="50" y="0"/>
                    </a:lnTo>
                    <a:lnTo>
                      <a:pt x="45" y="8"/>
                    </a:lnTo>
                    <a:lnTo>
                      <a:pt x="43" y="25"/>
                    </a:lnTo>
                    <a:lnTo>
                      <a:pt x="27" y="25"/>
                    </a:lnTo>
                    <a:lnTo>
                      <a:pt x="23" y="40"/>
                    </a:lnTo>
                    <a:lnTo>
                      <a:pt x="14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794960" y="2820960"/>
                <a:ext cx="1309680" cy="2695680"/>
              </a:xfrm>
              <a:custGeom>
                <a:avLst/>
                <a:gdLst/>
                <a:ahLst/>
                <a:rect l="l" t="t" r="r" b="b"/>
                <a:pathLst>
                  <a:path w="903" h="1698">
                    <a:moveTo>
                      <a:pt x="70" y="75"/>
                    </a:moveTo>
                    <a:lnTo>
                      <a:pt x="81" y="56"/>
                    </a:lnTo>
                    <a:lnTo>
                      <a:pt x="103" y="28"/>
                    </a:lnTo>
                    <a:lnTo>
                      <a:pt x="136" y="11"/>
                    </a:lnTo>
                    <a:lnTo>
                      <a:pt x="154" y="0"/>
                    </a:lnTo>
                    <a:lnTo>
                      <a:pt x="171" y="3"/>
                    </a:lnTo>
                    <a:lnTo>
                      <a:pt x="167" y="17"/>
                    </a:lnTo>
                    <a:lnTo>
                      <a:pt x="147" y="31"/>
                    </a:lnTo>
                    <a:lnTo>
                      <a:pt x="143" y="59"/>
                    </a:lnTo>
                    <a:lnTo>
                      <a:pt x="147" y="81"/>
                    </a:lnTo>
                    <a:lnTo>
                      <a:pt x="165" y="81"/>
                    </a:lnTo>
                    <a:lnTo>
                      <a:pt x="171" y="56"/>
                    </a:lnTo>
                    <a:lnTo>
                      <a:pt x="176" y="31"/>
                    </a:lnTo>
                    <a:lnTo>
                      <a:pt x="187" y="39"/>
                    </a:lnTo>
                    <a:lnTo>
                      <a:pt x="200" y="53"/>
                    </a:lnTo>
                    <a:lnTo>
                      <a:pt x="222" y="47"/>
                    </a:lnTo>
                    <a:lnTo>
                      <a:pt x="235" y="59"/>
                    </a:lnTo>
                    <a:lnTo>
                      <a:pt x="239" y="73"/>
                    </a:lnTo>
                    <a:lnTo>
                      <a:pt x="272" y="67"/>
                    </a:lnTo>
                    <a:lnTo>
                      <a:pt x="338" y="59"/>
                    </a:lnTo>
                    <a:lnTo>
                      <a:pt x="362" y="103"/>
                    </a:lnTo>
                    <a:lnTo>
                      <a:pt x="404" y="126"/>
                    </a:lnTo>
                    <a:lnTo>
                      <a:pt x="402" y="145"/>
                    </a:lnTo>
                    <a:lnTo>
                      <a:pt x="419" y="134"/>
                    </a:lnTo>
                    <a:lnTo>
                      <a:pt x="439" y="134"/>
                    </a:lnTo>
                    <a:lnTo>
                      <a:pt x="463" y="154"/>
                    </a:lnTo>
                    <a:lnTo>
                      <a:pt x="492" y="151"/>
                    </a:lnTo>
                    <a:lnTo>
                      <a:pt x="516" y="154"/>
                    </a:lnTo>
                    <a:lnTo>
                      <a:pt x="555" y="190"/>
                    </a:lnTo>
                    <a:lnTo>
                      <a:pt x="597" y="234"/>
                    </a:lnTo>
                    <a:lnTo>
                      <a:pt x="615" y="285"/>
                    </a:lnTo>
                    <a:lnTo>
                      <a:pt x="604" y="324"/>
                    </a:lnTo>
                    <a:lnTo>
                      <a:pt x="654" y="338"/>
                    </a:lnTo>
                    <a:lnTo>
                      <a:pt x="737" y="357"/>
                    </a:lnTo>
                    <a:lnTo>
                      <a:pt x="823" y="380"/>
                    </a:lnTo>
                    <a:lnTo>
                      <a:pt x="878" y="424"/>
                    </a:lnTo>
                    <a:lnTo>
                      <a:pt x="902" y="466"/>
                    </a:lnTo>
                    <a:lnTo>
                      <a:pt x="902" y="519"/>
                    </a:lnTo>
                    <a:lnTo>
                      <a:pt x="880" y="567"/>
                    </a:lnTo>
                    <a:lnTo>
                      <a:pt x="856" y="592"/>
                    </a:lnTo>
                    <a:lnTo>
                      <a:pt x="841" y="608"/>
                    </a:lnTo>
                    <a:lnTo>
                      <a:pt x="823" y="642"/>
                    </a:lnTo>
                    <a:lnTo>
                      <a:pt x="821" y="673"/>
                    </a:lnTo>
                    <a:lnTo>
                      <a:pt x="823" y="712"/>
                    </a:lnTo>
                    <a:lnTo>
                      <a:pt x="814" y="751"/>
                    </a:lnTo>
                    <a:lnTo>
                      <a:pt x="801" y="759"/>
                    </a:lnTo>
                    <a:lnTo>
                      <a:pt x="797" y="782"/>
                    </a:lnTo>
                    <a:lnTo>
                      <a:pt x="781" y="798"/>
                    </a:lnTo>
                    <a:lnTo>
                      <a:pt x="779" y="818"/>
                    </a:lnTo>
                    <a:lnTo>
                      <a:pt x="759" y="840"/>
                    </a:lnTo>
                    <a:lnTo>
                      <a:pt x="729" y="879"/>
                    </a:lnTo>
                    <a:lnTo>
                      <a:pt x="702" y="890"/>
                    </a:lnTo>
                    <a:lnTo>
                      <a:pt x="685" y="888"/>
                    </a:lnTo>
                    <a:lnTo>
                      <a:pt x="652" y="907"/>
                    </a:lnTo>
                    <a:lnTo>
                      <a:pt x="619" y="952"/>
                    </a:lnTo>
                    <a:lnTo>
                      <a:pt x="612" y="969"/>
                    </a:lnTo>
                    <a:lnTo>
                      <a:pt x="612" y="991"/>
                    </a:lnTo>
                    <a:lnTo>
                      <a:pt x="619" y="1016"/>
                    </a:lnTo>
                    <a:lnTo>
                      <a:pt x="604" y="1041"/>
                    </a:lnTo>
                    <a:lnTo>
                      <a:pt x="604" y="1061"/>
                    </a:lnTo>
                    <a:lnTo>
                      <a:pt x="577" y="1083"/>
                    </a:lnTo>
                    <a:lnTo>
                      <a:pt x="557" y="1100"/>
                    </a:lnTo>
                    <a:lnTo>
                      <a:pt x="542" y="1125"/>
                    </a:lnTo>
                    <a:lnTo>
                      <a:pt x="535" y="1150"/>
                    </a:lnTo>
                    <a:lnTo>
                      <a:pt x="514" y="1181"/>
                    </a:lnTo>
                    <a:lnTo>
                      <a:pt x="505" y="1175"/>
                    </a:lnTo>
                    <a:lnTo>
                      <a:pt x="487" y="1175"/>
                    </a:lnTo>
                    <a:lnTo>
                      <a:pt x="465" y="1186"/>
                    </a:lnTo>
                    <a:lnTo>
                      <a:pt x="481" y="1200"/>
                    </a:lnTo>
                    <a:lnTo>
                      <a:pt x="481" y="1228"/>
                    </a:lnTo>
                    <a:lnTo>
                      <a:pt x="478" y="1250"/>
                    </a:lnTo>
                    <a:lnTo>
                      <a:pt x="467" y="1267"/>
                    </a:lnTo>
                    <a:lnTo>
                      <a:pt x="439" y="1270"/>
                    </a:lnTo>
                    <a:lnTo>
                      <a:pt x="417" y="1278"/>
                    </a:lnTo>
                    <a:lnTo>
                      <a:pt x="406" y="1295"/>
                    </a:lnTo>
                    <a:lnTo>
                      <a:pt x="406" y="1323"/>
                    </a:lnTo>
                    <a:lnTo>
                      <a:pt x="380" y="1326"/>
                    </a:lnTo>
                    <a:lnTo>
                      <a:pt x="358" y="1323"/>
                    </a:lnTo>
                    <a:lnTo>
                      <a:pt x="351" y="1334"/>
                    </a:lnTo>
                    <a:lnTo>
                      <a:pt x="362" y="1345"/>
                    </a:lnTo>
                    <a:lnTo>
                      <a:pt x="356" y="1387"/>
                    </a:lnTo>
                    <a:lnTo>
                      <a:pt x="347" y="1423"/>
                    </a:lnTo>
                    <a:lnTo>
                      <a:pt x="318" y="1423"/>
                    </a:lnTo>
                    <a:lnTo>
                      <a:pt x="309" y="1437"/>
                    </a:lnTo>
                    <a:lnTo>
                      <a:pt x="312" y="1465"/>
                    </a:lnTo>
                    <a:lnTo>
                      <a:pt x="327" y="1465"/>
                    </a:lnTo>
                    <a:lnTo>
                      <a:pt x="338" y="1482"/>
                    </a:lnTo>
                    <a:lnTo>
                      <a:pt x="331" y="1510"/>
                    </a:lnTo>
                    <a:lnTo>
                      <a:pt x="316" y="1513"/>
                    </a:lnTo>
                    <a:lnTo>
                      <a:pt x="292" y="1524"/>
                    </a:lnTo>
                    <a:lnTo>
                      <a:pt x="285" y="1546"/>
                    </a:lnTo>
                    <a:lnTo>
                      <a:pt x="283" y="1580"/>
                    </a:lnTo>
                    <a:lnTo>
                      <a:pt x="268" y="1597"/>
                    </a:lnTo>
                    <a:lnTo>
                      <a:pt x="323" y="1652"/>
                    </a:lnTo>
                    <a:lnTo>
                      <a:pt x="338" y="1680"/>
                    </a:lnTo>
                    <a:lnTo>
                      <a:pt x="329" y="1697"/>
                    </a:lnTo>
                    <a:lnTo>
                      <a:pt x="305" y="1686"/>
                    </a:lnTo>
                    <a:lnTo>
                      <a:pt x="285" y="1664"/>
                    </a:lnTo>
                    <a:lnTo>
                      <a:pt x="257" y="1647"/>
                    </a:lnTo>
                    <a:lnTo>
                      <a:pt x="230" y="1619"/>
                    </a:lnTo>
                    <a:lnTo>
                      <a:pt x="213" y="1585"/>
                    </a:lnTo>
                    <a:lnTo>
                      <a:pt x="211" y="1557"/>
                    </a:lnTo>
                    <a:lnTo>
                      <a:pt x="215" y="1535"/>
                    </a:lnTo>
                    <a:lnTo>
                      <a:pt x="213" y="1354"/>
                    </a:lnTo>
                    <a:lnTo>
                      <a:pt x="206" y="1323"/>
                    </a:lnTo>
                    <a:lnTo>
                      <a:pt x="187" y="1289"/>
                    </a:lnTo>
                    <a:lnTo>
                      <a:pt x="187" y="1259"/>
                    </a:lnTo>
                    <a:lnTo>
                      <a:pt x="200" y="1223"/>
                    </a:lnTo>
                    <a:lnTo>
                      <a:pt x="211" y="1178"/>
                    </a:lnTo>
                    <a:lnTo>
                      <a:pt x="206" y="1133"/>
                    </a:lnTo>
                    <a:lnTo>
                      <a:pt x="204" y="1114"/>
                    </a:lnTo>
                    <a:lnTo>
                      <a:pt x="202" y="1089"/>
                    </a:lnTo>
                    <a:lnTo>
                      <a:pt x="208" y="1077"/>
                    </a:lnTo>
                    <a:lnTo>
                      <a:pt x="213" y="1027"/>
                    </a:lnTo>
                    <a:lnTo>
                      <a:pt x="208" y="1002"/>
                    </a:lnTo>
                    <a:lnTo>
                      <a:pt x="217" y="941"/>
                    </a:lnTo>
                    <a:lnTo>
                      <a:pt x="208" y="888"/>
                    </a:lnTo>
                    <a:lnTo>
                      <a:pt x="215" y="860"/>
                    </a:lnTo>
                    <a:lnTo>
                      <a:pt x="226" y="807"/>
                    </a:lnTo>
                    <a:lnTo>
                      <a:pt x="215" y="773"/>
                    </a:lnTo>
                    <a:lnTo>
                      <a:pt x="193" y="748"/>
                    </a:lnTo>
                    <a:lnTo>
                      <a:pt x="187" y="720"/>
                    </a:lnTo>
                    <a:lnTo>
                      <a:pt x="162" y="695"/>
                    </a:lnTo>
                    <a:lnTo>
                      <a:pt x="136" y="678"/>
                    </a:lnTo>
                    <a:lnTo>
                      <a:pt x="99" y="670"/>
                    </a:lnTo>
                    <a:lnTo>
                      <a:pt x="81" y="634"/>
                    </a:lnTo>
                    <a:lnTo>
                      <a:pt x="57" y="597"/>
                    </a:lnTo>
                    <a:lnTo>
                      <a:pt x="55" y="567"/>
                    </a:lnTo>
                    <a:lnTo>
                      <a:pt x="53" y="539"/>
                    </a:lnTo>
                    <a:lnTo>
                      <a:pt x="46" y="519"/>
                    </a:lnTo>
                    <a:lnTo>
                      <a:pt x="33" y="497"/>
                    </a:lnTo>
                    <a:lnTo>
                      <a:pt x="15" y="486"/>
                    </a:lnTo>
                    <a:lnTo>
                      <a:pt x="2" y="463"/>
                    </a:lnTo>
                    <a:lnTo>
                      <a:pt x="18" y="444"/>
                    </a:lnTo>
                    <a:lnTo>
                      <a:pt x="18" y="396"/>
                    </a:lnTo>
                    <a:lnTo>
                      <a:pt x="9" y="371"/>
                    </a:lnTo>
                    <a:lnTo>
                      <a:pt x="0" y="346"/>
                    </a:lnTo>
                    <a:lnTo>
                      <a:pt x="9" y="310"/>
                    </a:lnTo>
                    <a:lnTo>
                      <a:pt x="44" y="220"/>
                    </a:lnTo>
                    <a:lnTo>
                      <a:pt x="46" y="181"/>
                    </a:lnTo>
                    <a:lnTo>
                      <a:pt x="66" y="140"/>
                    </a:lnTo>
                    <a:lnTo>
                      <a:pt x="66" y="117"/>
                    </a:lnTo>
                    <a:lnTo>
                      <a:pt x="70" y="75"/>
                    </a:lnTo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8335800" y="4460760"/>
            <a:ext cx="782280" cy="542520"/>
            <a:chOff x="8335800" y="4460760"/>
            <a:chExt cx="782280" cy="542520"/>
          </a:xfrm>
        </p:grpSpPr>
        <p:sp>
          <p:nvSpPr>
            <p:cNvPr id="204" name=""/>
            <p:cNvSpPr/>
            <p:nvPr/>
          </p:nvSpPr>
          <p:spPr>
            <a:xfrm>
              <a:off x="8992080" y="4460760"/>
              <a:ext cx="126000" cy="328680"/>
            </a:xfrm>
            <a:custGeom>
              <a:avLst/>
              <a:gdLst/>
              <a:ahLst/>
              <a:rect l="l" t="t" r="r" b="b"/>
              <a:pathLst>
                <a:path w="89" h="200">
                  <a:moveTo>
                    <a:pt x="29" y="3"/>
                  </a:moveTo>
                  <a:lnTo>
                    <a:pt x="37" y="0"/>
                  </a:lnTo>
                  <a:lnTo>
                    <a:pt x="53" y="22"/>
                  </a:lnTo>
                  <a:lnTo>
                    <a:pt x="51" y="86"/>
                  </a:lnTo>
                  <a:lnTo>
                    <a:pt x="62" y="86"/>
                  </a:lnTo>
                  <a:lnTo>
                    <a:pt x="64" y="94"/>
                  </a:lnTo>
                  <a:lnTo>
                    <a:pt x="68" y="108"/>
                  </a:lnTo>
                  <a:lnTo>
                    <a:pt x="70" y="116"/>
                  </a:lnTo>
                  <a:lnTo>
                    <a:pt x="79" y="113"/>
                  </a:lnTo>
                  <a:lnTo>
                    <a:pt x="86" y="100"/>
                  </a:lnTo>
                  <a:lnTo>
                    <a:pt x="88" y="108"/>
                  </a:lnTo>
                  <a:lnTo>
                    <a:pt x="84" y="119"/>
                  </a:lnTo>
                  <a:lnTo>
                    <a:pt x="79" y="127"/>
                  </a:lnTo>
                  <a:lnTo>
                    <a:pt x="77" y="144"/>
                  </a:lnTo>
                  <a:lnTo>
                    <a:pt x="66" y="152"/>
                  </a:lnTo>
                  <a:lnTo>
                    <a:pt x="59" y="155"/>
                  </a:lnTo>
                  <a:lnTo>
                    <a:pt x="51" y="163"/>
                  </a:lnTo>
                  <a:lnTo>
                    <a:pt x="48" y="171"/>
                  </a:lnTo>
                  <a:lnTo>
                    <a:pt x="51" y="180"/>
                  </a:lnTo>
                  <a:lnTo>
                    <a:pt x="53" y="188"/>
                  </a:lnTo>
                  <a:lnTo>
                    <a:pt x="42" y="193"/>
                  </a:lnTo>
                  <a:lnTo>
                    <a:pt x="35" y="196"/>
                  </a:lnTo>
                  <a:lnTo>
                    <a:pt x="29" y="199"/>
                  </a:lnTo>
                  <a:lnTo>
                    <a:pt x="24" y="196"/>
                  </a:lnTo>
                  <a:lnTo>
                    <a:pt x="13" y="193"/>
                  </a:lnTo>
                  <a:lnTo>
                    <a:pt x="9" y="188"/>
                  </a:lnTo>
                  <a:lnTo>
                    <a:pt x="13" y="182"/>
                  </a:lnTo>
                  <a:lnTo>
                    <a:pt x="22" y="180"/>
                  </a:lnTo>
                  <a:lnTo>
                    <a:pt x="29" y="166"/>
                  </a:lnTo>
                  <a:lnTo>
                    <a:pt x="29" y="160"/>
                  </a:lnTo>
                  <a:lnTo>
                    <a:pt x="22" y="155"/>
                  </a:lnTo>
                  <a:lnTo>
                    <a:pt x="13" y="146"/>
                  </a:lnTo>
                  <a:lnTo>
                    <a:pt x="7" y="146"/>
                  </a:lnTo>
                  <a:lnTo>
                    <a:pt x="2" y="144"/>
                  </a:lnTo>
                  <a:lnTo>
                    <a:pt x="0" y="135"/>
                  </a:lnTo>
                  <a:lnTo>
                    <a:pt x="2" y="130"/>
                  </a:lnTo>
                  <a:lnTo>
                    <a:pt x="7" y="130"/>
                  </a:lnTo>
                  <a:lnTo>
                    <a:pt x="13" y="127"/>
                  </a:lnTo>
                  <a:lnTo>
                    <a:pt x="22" y="119"/>
                  </a:lnTo>
                  <a:lnTo>
                    <a:pt x="26" y="116"/>
                  </a:lnTo>
                  <a:lnTo>
                    <a:pt x="31" y="86"/>
                  </a:lnTo>
                  <a:lnTo>
                    <a:pt x="26" y="77"/>
                  </a:lnTo>
                  <a:lnTo>
                    <a:pt x="20" y="72"/>
                  </a:lnTo>
                  <a:lnTo>
                    <a:pt x="18" y="55"/>
                  </a:lnTo>
                  <a:lnTo>
                    <a:pt x="20" y="39"/>
                  </a:lnTo>
                  <a:lnTo>
                    <a:pt x="22" y="28"/>
                  </a:lnTo>
                  <a:lnTo>
                    <a:pt x="29" y="3"/>
                  </a:lnTo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753040" y="4723560"/>
              <a:ext cx="231840" cy="279720"/>
            </a:xfrm>
            <a:custGeom>
              <a:avLst/>
              <a:gdLst/>
              <a:ahLst/>
              <a:rect l="l" t="t" r="r" b="b"/>
              <a:pathLst>
                <a:path w="164" h="170">
                  <a:moveTo>
                    <a:pt x="115" y="0"/>
                  </a:moveTo>
                  <a:lnTo>
                    <a:pt x="134" y="0"/>
                  </a:lnTo>
                  <a:lnTo>
                    <a:pt x="163" y="44"/>
                  </a:lnTo>
                  <a:lnTo>
                    <a:pt x="132" y="83"/>
                  </a:lnTo>
                  <a:lnTo>
                    <a:pt x="132" y="100"/>
                  </a:lnTo>
                  <a:lnTo>
                    <a:pt x="126" y="105"/>
                  </a:lnTo>
                  <a:lnTo>
                    <a:pt x="108" y="105"/>
                  </a:lnTo>
                  <a:lnTo>
                    <a:pt x="86" y="127"/>
                  </a:lnTo>
                  <a:lnTo>
                    <a:pt x="66" y="150"/>
                  </a:lnTo>
                  <a:lnTo>
                    <a:pt x="53" y="169"/>
                  </a:lnTo>
                  <a:lnTo>
                    <a:pt x="53" y="152"/>
                  </a:lnTo>
                  <a:lnTo>
                    <a:pt x="29" y="155"/>
                  </a:lnTo>
                  <a:lnTo>
                    <a:pt x="18" y="155"/>
                  </a:lnTo>
                  <a:lnTo>
                    <a:pt x="0" y="155"/>
                  </a:lnTo>
                  <a:lnTo>
                    <a:pt x="24" y="127"/>
                  </a:lnTo>
                  <a:lnTo>
                    <a:pt x="33" y="114"/>
                  </a:lnTo>
                  <a:lnTo>
                    <a:pt x="42" y="114"/>
                  </a:lnTo>
                  <a:lnTo>
                    <a:pt x="59" y="91"/>
                  </a:lnTo>
                  <a:lnTo>
                    <a:pt x="66" y="91"/>
                  </a:lnTo>
                  <a:lnTo>
                    <a:pt x="66" y="89"/>
                  </a:lnTo>
                  <a:lnTo>
                    <a:pt x="75" y="80"/>
                  </a:lnTo>
                  <a:lnTo>
                    <a:pt x="86" y="80"/>
                  </a:lnTo>
                  <a:lnTo>
                    <a:pt x="82" y="55"/>
                  </a:lnTo>
                  <a:lnTo>
                    <a:pt x="84" y="55"/>
                  </a:lnTo>
                  <a:lnTo>
                    <a:pt x="95" y="42"/>
                  </a:lnTo>
                  <a:lnTo>
                    <a:pt x="99" y="53"/>
                  </a:lnTo>
                  <a:lnTo>
                    <a:pt x="117" y="33"/>
                  </a:lnTo>
                  <a:lnTo>
                    <a:pt x="115" y="0"/>
                  </a:lnTo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335800" y="4740120"/>
              <a:ext cx="88920" cy="14796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0" y="0"/>
                  </a:moveTo>
                  <a:lnTo>
                    <a:pt x="13" y="0"/>
                  </a:lnTo>
                  <a:lnTo>
                    <a:pt x="29" y="11"/>
                  </a:lnTo>
                  <a:lnTo>
                    <a:pt x="62" y="11"/>
                  </a:lnTo>
                  <a:lnTo>
                    <a:pt x="58" y="25"/>
                  </a:lnTo>
                  <a:lnTo>
                    <a:pt x="62" y="42"/>
                  </a:lnTo>
                  <a:lnTo>
                    <a:pt x="51" y="42"/>
                  </a:lnTo>
                  <a:lnTo>
                    <a:pt x="49" y="45"/>
                  </a:lnTo>
                  <a:lnTo>
                    <a:pt x="42" y="47"/>
                  </a:lnTo>
                  <a:lnTo>
                    <a:pt x="49" y="89"/>
                  </a:lnTo>
                  <a:lnTo>
                    <a:pt x="29" y="86"/>
                  </a:lnTo>
                  <a:lnTo>
                    <a:pt x="11" y="72"/>
                  </a:lnTo>
                  <a:lnTo>
                    <a:pt x="11" y="45"/>
                  </a:lnTo>
                  <a:lnTo>
                    <a:pt x="11" y="33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8494560" y="3157560"/>
            <a:ext cx="141480" cy="166680"/>
          </a:xfrm>
          <a:custGeom>
            <a:avLst/>
            <a:gdLst/>
            <a:ahLst/>
            <a:rect l="l" t="t" r="r" b="b"/>
            <a:pathLst>
              <a:path w="100" h="101">
                <a:moveTo>
                  <a:pt x="18" y="37"/>
                </a:moveTo>
                <a:lnTo>
                  <a:pt x="0" y="80"/>
                </a:lnTo>
                <a:lnTo>
                  <a:pt x="7" y="97"/>
                </a:lnTo>
                <a:lnTo>
                  <a:pt x="35" y="100"/>
                </a:lnTo>
                <a:lnTo>
                  <a:pt x="59" y="100"/>
                </a:lnTo>
                <a:lnTo>
                  <a:pt x="68" y="83"/>
                </a:lnTo>
                <a:lnTo>
                  <a:pt x="73" y="66"/>
                </a:lnTo>
                <a:lnTo>
                  <a:pt x="99" y="66"/>
                </a:lnTo>
                <a:lnTo>
                  <a:pt x="95" y="40"/>
                </a:lnTo>
                <a:lnTo>
                  <a:pt x="95" y="14"/>
                </a:lnTo>
                <a:lnTo>
                  <a:pt x="68" y="0"/>
                </a:lnTo>
                <a:lnTo>
                  <a:pt x="66" y="29"/>
                </a:lnTo>
                <a:lnTo>
                  <a:pt x="81" y="46"/>
                </a:lnTo>
                <a:lnTo>
                  <a:pt x="57" y="46"/>
                </a:lnTo>
                <a:lnTo>
                  <a:pt x="48" y="57"/>
                </a:lnTo>
                <a:lnTo>
                  <a:pt x="18" y="37"/>
                </a:lnTo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7169040" y="1189080"/>
            <a:ext cx="367920" cy="1182240"/>
            <a:chOff x="7169040" y="1189080"/>
            <a:chExt cx="367920" cy="1182240"/>
          </a:xfrm>
        </p:grpSpPr>
        <p:sp>
          <p:nvSpPr>
            <p:cNvPr id="209" name=""/>
            <p:cNvSpPr/>
            <p:nvPr/>
          </p:nvSpPr>
          <p:spPr>
            <a:xfrm>
              <a:off x="7169040" y="2250000"/>
              <a:ext cx="87480" cy="121320"/>
            </a:xfrm>
            <a:custGeom>
              <a:avLst/>
              <a:gdLst/>
              <a:ahLst/>
              <a:rect l="l" t="t" r="r" b="b"/>
              <a:pathLst>
                <a:path w="62" h="74">
                  <a:moveTo>
                    <a:pt x="0" y="56"/>
                  </a:moveTo>
                  <a:lnTo>
                    <a:pt x="11" y="70"/>
                  </a:lnTo>
                  <a:lnTo>
                    <a:pt x="24" y="67"/>
                  </a:lnTo>
                  <a:lnTo>
                    <a:pt x="44" y="73"/>
                  </a:lnTo>
                  <a:lnTo>
                    <a:pt x="59" y="73"/>
                  </a:lnTo>
                  <a:lnTo>
                    <a:pt x="61" y="48"/>
                  </a:lnTo>
                  <a:lnTo>
                    <a:pt x="57" y="31"/>
                  </a:lnTo>
                  <a:lnTo>
                    <a:pt x="46" y="11"/>
                  </a:lnTo>
                  <a:lnTo>
                    <a:pt x="35" y="11"/>
                  </a:lnTo>
                  <a:lnTo>
                    <a:pt x="31" y="0"/>
                  </a:lnTo>
                  <a:lnTo>
                    <a:pt x="15" y="0"/>
                  </a:lnTo>
                  <a:lnTo>
                    <a:pt x="15" y="22"/>
                  </a:lnTo>
                  <a:lnTo>
                    <a:pt x="0" y="56"/>
                  </a:lnTo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02680" y="2039040"/>
              <a:ext cx="86040" cy="154440"/>
            </a:xfrm>
            <a:custGeom>
              <a:avLst/>
              <a:gdLst/>
              <a:ahLst/>
              <a:rect l="l" t="t" r="r" b="b"/>
              <a:pathLst>
                <a:path w="61" h="94">
                  <a:moveTo>
                    <a:pt x="13" y="0"/>
                  </a:moveTo>
                  <a:lnTo>
                    <a:pt x="40" y="3"/>
                  </a:lnTo>
                  <a:lnTo>
                    <a:pt x="49" y="28"/>
                  </a:lnTo>
                  <a:lnTo>
                    <a:pt x="60" y="42"/>
                  </a:lnTo>
                  <a:lnTo>
                    <a:pt x="51" y="54"/>
                  </a:lnTo>
                  <a:lnTo>
                    <a:pt x="60" y="68"/>
                  </a:lnTo>
                  <a:lnTo>
                    <a:pt x="56" y="85"/>
                  </a:lnTo>
                  <a:lnTo>
                    <a:pt x="47" y="93"/>
                  </a:lnTo>
                  <a:lnTo>
                    <a:pt x="29" y="90"/>
                  </a:lnTo>
                  <a:lnTo>
                    <a:pt x="18" y="90"/>
                  </a:lnTo>
                  <a:lnTo>
                    <a:pt x="11" y="79"/>
                  </a:lnTo>
                  <a:lnTo>
                    <a:pt x="4" y="65"/>
                  </a:lnTo>
                  <a:lnTo>
                    <a:pt x="4" y="51"/>
                  </a:lnTo>
                  <a:lnTo>
                    <a:pt x="0" y="31"/>
                  </a:lnTo>
                  <a:lnTo>
                    <a:pt x="13" y="0"/>
                  </a:lnTo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86840" y="1189080"/>
              <a:ext cx="150120" cy="142920"/>
            </a:xfrm>
            <a:custGeom>
              <a:avLst/>
              <a:gdLst/>
              <a:ahLst/>
              <a:rect l="l" t="t" r="r" b="b"/>
              <a:pathLst>
                <a:path w="106" h="87">
                  <a:moveTo>
                    <a:pt x="15" y="0"/>
                  </a:moveTo>
                  <a:lnTo>
                    <a:pt x="28" y="14"/>
                  </a:lnTo>
                  <a:lnTo>
                    <a:pt x="42" y="11"/>
                  </a:lnTo>
                  <a:lnTo>
                    <a:pt x="61" y="14"/>
                  </a:lnTo>
                  <a:lnTo>
                    <a:pt x="79" y="14"/>
                  </a:lnTo>
                  <a:lnTo>
                    <a:pt x="88" y="22"/>
                  </a:lnTo>
                  <a:lnTo>
                    <a:pt x="98" y="42"/>
                  </a:lnTo>
                  <a:lnTo>
                    <a:pt x="105" y="50"/>
                  </a:lnTo>
                  <a:lnTo>
                    <a:pt x="81" y="55"/>
                  </a:lnTo>
                  <a:lnTo>
                    <a:pt x="74" y="61"/>
                  </a:lnTo>
                  <a:lnTo>
                    <a:pt x="81" y="72"/>
                  </a:lnTo>
                  <a:lnTo>
                    <a:pt x="81" y="83"/>
                  </a:lnTo>
                  <a:lnTo>
                    <a:pt x="57" y="72"/>
                  </a:lnTo>
                  <a:lnTo>
                    <a:pt x="37" y="64"/>
                  </a:lnTo>
                  <a:lnTo>
                    <a:pt x="28" y="67"/>
                  </a:lnTo>
                  <a:lnTo>
                    <a:pt x="28" y="83"/>
                  </a:lnTo>
                  <a:lnTo>
                    <a:pt x="15" y="86"/>
                  </a:lnTo>
                  <a:lnTo>
                    <a:pt x="9" y="72"/>
                  </a:lnTo>
                  <a:lnTo>
                    <a:pt x="7" y="55"/>
                  </a:lnTo>
                  <a:lnTo>
                    <a:pt x="0" y="53"/>
                  </a:lnTo>
                  <a:lnTo>
                    <a:pt x="7" y="36"/>
                  </a:lnTo>
                  <a:lnTo>
                    <a:pt x="18" y="31"/>
                  </a:lnTo>
                  <a:lnTo>
                    <a:pt x="15" y="0"/>
                  </a:lnTo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7093080" y="3645000"/>
            <a:ext cx="1604880" cy="1501560"/>
          </a:xfrm>
          <a:custGeom>
            <a:avLst/>
            <a:gdLst/>
            <a:ahLst/>
            <a:rect l="l" t="t" r="r" b="b"/>
            <a:pathLst>
              <a:path w="735" h="694">
                <a:moveTo>
                  <a:pt x="529" y="0"/>
                </a:moveTo>
                <a:lnTo>
                  <a:pt x="568" y="0"/>
                </a:lnTo>
                <a:lnTo>
                  <a:pt x="568" y="56"/>
                </a:lnTo>
                <a:lnTo>
                  <a:pt x="583" y="70"/>
                </a:lnTo>
                <a:lnTo>
                  <a:pt x="588" y="78"/>
                </a:lnTo>
                <a:lnTo>
                  <a:pt x="596" y="78"/>
                </a:lnTo>
                <a:lnTo>
                  <a:pt x="601" y="89"/>
                </a:lnTo>
                <a:lnTo>
                  <a:pt x="605" y="145"/>
                </a:lnTo>
                <a:lnTo>
                  <a:pt x="627" y="181"/>
                </a:lnTo>
                <a:lnTo>
                  <a:pt x="660" y="234"/>
                </a:lnTo>
                <a:lnTo>
                  <a:pt x="660" y="242"/>
                </a:lnTo>
                <a:lnTo>
                  <a:pt x="695" y="287"/>
                </a:lnTo>
                <a:lnTo>
                  <a:pt x="695" y="295"/>
                </a:lnTo>
                <a:lnTo>
                  <a:pt x="730" y="331"/>
                </a:lnTo>
                <a:lnTo>
                  <a:pt x="734" y="395"/>
                </a:lnTo>
                <a:lnTo>
                  <a:pt x="730" y="454"/>
                </a:lnTo>
                <a:lnTo>
                  <a:pt x="719" y="481"/>
                </a:lnTo>
                <a:lnTo>
                  <a:pt x="706" y="495"/>
                </a:lnTo>
                <a:lnTo>
                  <a:pt x="701" y="523"/>
                </a:lnTo>
                <a:lnTo>
                  <a:pt x="688" y="548"/>
                </a:lnTo>
                <a:lnTo>
                  <a:pt x="677" y="559"/>
                </a:lnTo>
                <a:lnTo>
                  <a:pt x="679" y="568"/>
                </a:lnTo>
                <a:lnTo>
                  <a:pt x="666" y="584"/>
                </a:lnTo>
                <a:lnTo>
                  <a:pt x="660" y="621"/>
                </a:lnTo>
                <a:lnTo>
                  <a:pt x="658" y="640"/>
                </a:lnTo>
                <a:lnTo>
                  <a:pt x="644" y="648"/>
                </a:lnTo>
                <a:lnTo>
                  <a:pt x="642" y="657"/>
                </a:lnTo>
                <a:lnTo>
                  <a:pt x="634" y="674"/>
                </a:lnTo>
                <a:lnTo>
                  <a:pt x="618" y="676"/>
                </a:lnTo>
                <a:lnTo>
                  <a:pt x="607" y="682"/>
                </a:lnTo>
                <a:lnTo>
                  <a:pt x="592" y="693"/>
                </a:lnTo>
                <a:lnTo>
                  <a:pt x="572" y="671"/>
                </a:lnTo>
                <a:lnTo>
                  <a:pt x="551" y="674"/>
                </a:lnTo>
                <a:lnTo>
                  <a:pt x="544" y="674"/>
                </a:lnTo>
                <a:lnTo>
                  <a:pt x="513" y="679"/>
                </a:lnTo>
                <a:lnTo>
                  <a:pt x="494" y="657"/>
                </a:lnTo>
                <a:lnTo>
                  <a:pt x="481" y="635"/>
                </a:lnTo>
                <a:lnTo>
                  <a:pt x="472" y="637"/>
                </a:lnTo>
                <a:lnTo>
                  <a:pt x="463" y="618"/>
                </a:lnTo>
                <a:lnTo>
                  <a:pt x="459" y="601"/>
                </a:lnTo>
                <a:lnTo>
                  <a:pt x="454" y="596"/>
                </a:lnTo>
                <a:lnTo>
                  <a:pt x="454" y="568"/>
                </a:lnTo>
                <a:lnTo>
                  <a:pt x="457" y="551"/>
                </a:lnTo>
                <a:lnTo>
                  <a:pt x="452" y="540"/>
                </a:lnTo>
                <a:lnTo>
                  <a:pt x="435" y="545"/>
                </a:lnTo>
                <a:lnTo>
                  <a:pt x="426" y="548"/>
                </a:lnTo>
                <a:lnTo>
                  <a:pt x="411" y="548"/>
                </a:lnTo>
                <a:lnTo>
                  <a:pt x="404" y="548"/>
                </a:lnTo>
                <a:lnTo>
                  <a:pt x="398" y="548"/>
                </a:lnTo>
                <a:lnTo>
                  <a:pt x="387" y="532"/>
                </a:lnTo>
                <a:lnTo>
                  <a:pt x="376" y="509"/>
                </a:lnTo>
                <a:lnTo>
                  <a:pt x="374" y="512"/>
                </a:lnTo>
                <a:lnTo>
                  <a:pt x="354" y="512"/>
                </a:lnTo>
                <a:lnTo>
                  <a:pt x="352" y="504"/>
                </a:lnTo>
                <a:lnTo>
                  <a:pt x="341" y="512"/>
                </a:lnTo>
                <a:lnTo>
                  <a:pt x="330" y="509"/>
                </a:lnTo>
                <a:lnTo>
                  <a:pt x="312" y="509"/>
                </a:lnTo>
                <a:lnTo>
                  <a:pt x="301" y="504"/>
                </a:lnTo>
                <a:lnTo>
                  <a:pt x="297" y="512"/>
                </a:lnTo>
                <a:lnTo>
                  <a:pt x="280" y="515"/>
                </a:lnTo>
                <a:lnTo>
                  <a:pt x="275" y="509"/>
                </a:lnTo>
                <a:lnTo>
                  <a:pt x="264" y="523"/>
                </a:lnTo>
                <a:lnTo>
                  <a:pt x="251" y="537"/>
                </a:lnTo>
                <a:lnTo>
                  <a:pt x="242" y="537"/>
                </a:lnTo>
                <a:lnTo>
                  <a:pt x="229" y="554"/>
                </a:lnTo>
                <a:lnTo>
                  <a:pt x="210" y="554"/>
                </a:lnTo>
                <a:lnTo>
                  <a:pt x="194" y="559"/>
                </a:lnTo>
                <a:lnTo>
                  <a:pt x="177" y="568"/>
                </a:lnTo>
                <a:lnTo>
                  <a:pt x="168" y="579"/>
                </a:lnTo>
                <a:lnTo>
                  <a:pt x="162" y="576"/>
                </a:lnTo>
                <a:lnTo>
                  <a:pt x="155" y="587"/>
                </a:lnTo>
                <a:lnTo>
                  <a:pt x="146" y="590"/>
                </a:lnTo>
                <a:lnTo>
                  <a:pt x="135" y="604"/>
                </a:lnTo>
                <a:lnTo>
                  <a:pt x="100" y="604"/>
                </a:lnTo>
                <a:lnTo>
                  <a:pt x="85" y="584"/>
                </a:lnTo>
                <a:lnTo>
                  <a:pt x="83" y="576"/>
                </a:lnTo>
                <a:lnTo>
                  <a:pt x="79" y="584"/>
                </a:lnTo>
                <a:lnTo>
                  <a:pt x="72" y="571"/>
                </a:lnTo>
                <a:lnTo>
                  <a:pt x="74" y="534"/>
                </a:lnTo>
                <a:lnTo>
                  <a:pt x="79" y="512"/>
                </a:lnTo>
                <a:lnTo>
                  <a:pt x="72" y="495"/>
                </a:lnTo>
                <a:lnTo>
                  <a:pt x="66" y="479"/>
                </a:lnTo>
                <a:lnTo>
                  <a:pt x="63" y="459"/>
                </a:lnTo>
                <a:lnTo>
                  <a:pt x="52" y="451"/>
                </a:lnTo>
                <a:lnTo>
                  <a:pt x="50" y="448"/>
                </a:lnTo>
                <a:lnTo>
                  <a:pt x="48" y="440"/>
                </a:lnTo>
                <a:lnTo>
                  <a:pt x="33" y="415"/>
                </a:lnTo>
                <a:lnTo>
                  <a:pt x="13" y="353"/>
                </a:lnTo>
                <a:lnTo>
                  <a:pt x="7" y="312"/>
                </a:lnTo>
                <a:lnTo>
                  <a:pt x="7" y="287"/>
                </a:lnTo>
                <a:lnTo>
                  <a:pt x="0" y="278"/>
                </a:lnTo>
                <a:lnTo>
                  <a:pt x="2" y="256"/>
                </a:lnTo>
                <a:lnTo>
                  <a:pt x="9" y="245"/>
                </a:lnTo>
                <a:lnTo>
                  <a:pt x="33" y="214"/>
                </a:lnTo>
                <a:lnTo>
                  <a:pt x="57" y="217"/>
                </a:lnTo>
                <a:lnTo>
                  <a:pt x="61" y="223"/>
                </a:lnTo>
                <a:lnTo>
                  <a:pt x="92" y="223"/>
                </a:lnTo>
                <a:lnTo>
                  <a:pt x="94" y="214"/>
                </a:lnTo>
                <a:lnTo>
                  <a:pt x="100" y="217"/>
                </a:lnTo>
                <a:lnTo>
                  <a:pt x="109" y="209"/>
                </a:lnTo>
                <a:lnTo>
                  <a:pt x="116" y="212"/>
                </a:lnTo>
                <a:lnTo>
                  <a:pt x="122" y="206"/>
                </a:lnTo>
                <a:lnTo>
                  <a:pt x="120" y="198"/>
                </a:lnTo>
                <a:lnTo>
                  <a:pt x="127" y="178"/>
                </a:lnTo>
                <a:lnTo>
                  <a:pt x="135" y="170"/>
                </a:lnTo>
                <a:lnTo>
                  <a:pt x="131" y="164"/>
                </a:lnTo>
                <a:lnTo>
                  <a:pt x="135" y="159"/>
                </a:lnTo>
                <a:lnTo>
                  <a:pt x="131" y="150"/>
                </a:lnTo>
                <a:lnTo>
                  <a:pt x="144" y="136"/>
                </a:lnTo>
                <a:lnTo>
                  <a:pt x="164" y="134"/>
                </a:lnTo>
                <a:lnTo>
                  <a:pt x="184" y="100"/>
                </a:lnTo>
                <a:lnTo>
                  <a:pt x="208" y="72"/>
                </a:lnTo>
                <a:lnTo>
                  <a:pt x="218" y="70"/>
                </a:lnTo>
                <a:lnTo>
                  <a:pt x="225" y="64"/>
                </a:lnTo>
                <a:lnTo>
                  <a:pt x="236" y="64"/>
                </a:lnTo>
                <a:lnTo>
                  <a:pt x="256" y="86"/>
                </a:lnTo>
                <a:lnTo>
                  <a:pt x="262" y="89"/>
                </a:lnTo>
                <a:lnTo>
                  <a:pt x="269" y="78"/>
                </a:lnTo>
                <a:lnTo>
                  <a:pt x="282" y="64"/>
                </a:lnTo>
                <a:lnTo>
                  <a:pt x="291" y="61"/>
                </a:lnTo>
                <a:lnTo>
                  <a:pt x="299" y="39"/>
                </a:lnTo>
                <a:lnTo>
                  <a:pt x="308" y="36"/>
                </a:lnTo>
                <a:lnTo>
                  <a:pt x="319" y="28"/>
                </a:lnTo>
                <a:lnTo>
                  <a:pt x="330" y="19"/>
                </a:lnTo>
                <a:lnTo>
                  <a:pt x="341" y="19"/>
                </a:lnTo>
                <a:lnTo>
                  <a:pt x="350" y="8"/>
                </a:lnTo>
                <a:lnTo>
                  <a:pt x="363" y="8"/>
                </a:lnTo>
                <a:lnTo>
                  <a:pt x="378" y="8"/>
                </a:lnTo>
                <a:lnTo>
                  <a:pt x="398" y="14"/>
                </a:lnTo>
                <a:lnTo>
                  <a:pt x="411" y="25"/>
                </a:lnTo>
                <a:lnTo>
                  <a:pt x="413" y="33"/>
                </a:lnTo>
                <a:lnTo>
                  <a:pt x="415" y="39"/>
                </a:lnTo>
                <a:lnTo>
                  <a:pt x="417" y="53"/>
                </a:lnTo>
                <a:lnTo>
                  <a:pt x="415" y="58"/>
                </a:lnTo>
                <a:lnTo>
                  <a:pt x="415" y="70"/>
                </a:lnTo>
                <a:lnTo>
                  <a:pt x="413" y="78"/>
                </a:lnTo>
                <a:lnTo>
                  <a:pt x="446" y="109"/>
                </a:lnTo>
                <a:lnTo>
                  <a:pt x="457" y="125"/>
                </a:lnTo>
                <a:lnTo>
                  <a:pt x="470" y="131"/>
                </a:lnTo>
                <a:lnTo>
                  <a:pt x="483" y="139"/>
                </a:lnTo>
                <a:lnTo>
                  <a:pt x="492" y="142"/>
                </a:lnTo>
                <a:lnTo>
                  <a:pt x="505" y="134"/>
                </a:lnTo>
                <a:lnTo>
                  <a:pt x="516" y="109"/>
                </a:lnTo>
                <a:lnTo>
                  <a:pt x="520" y="89"/>
                </a:lnTo>
                <a:lnTo>
                  <a:pt x="524" y="53"/>
                </a:lnTo>
                <a:lnTo>
                  <a:pt x="529" y="36"/>
                </a:lnTo>
                <a:lnTo>
                  <a:pt x="529" y="0"/>
                </a:lnTo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67680" y="3335400"/>
            <a:ext cx="579240" cy="156960"/>
          </a:xfrm>
          <a:custGeom>
            <a:avLst/>
            <a:gdLst/>
            <a:ahLst/>
            <a:rect l="l" t="t" r="r" b="b"/>
            <a:pathLst>
              <a:path w="409" h="95">
                <a:moveTo>
                  <a:pt x="0" y="0"/>
                </a:moveTo>
                <a:lnTo>
                  <a:pt x="31" y="14"/>
                </a:lnTo>
                <a:lnTo>
                  <a:pt x="57" y="14"/>
                </a:lnTo>
                <a:lnTo>
                  <a:pt x="81" y="14"/>
                </a:lnTo>
                <a:lnTo>
                  <a:pt x="99" y="14"/>
                </a:lnTo>
                <a:lnTo>
                  <a:pt x="112" y="17"/>
                </a:lnTo>
                <a:lnTo>
                  <a:pt x="129" y="25"/>
                </a:lnTo>
                <a:lnTo>
                  <a:pt x="138" y="44"/>
                </a:lnTo>
                <a:lnTo>
                  <a:pt x="147" y="53"/>
                </a:lnTo>
                <a:lnTo>
                  <a:pt x="162" y="50"/>
                </a:lnTo>
                <a:lnTo>
                  <a:pt x="180" y="50"/>
                </a:lnTo>
                <a:lnTo>
                  <a:pt x="200" y="61"/>
                </a:lnTo>
                <a:lnTo>
                  <a:pt x="213" y="66"/>
                </a:lnTo>
                <a:lnTo>
                  <a:pt x="222" y="66"/>
                </a:lnTo>
                <a:lnTo>
                  <a:pt x="224" y="53"/>
                </a:lnTo>
                <a:lnTo>
                  <a:pt x="230" y="44"/>
                </a:lnTo>
                <a:lnTo>
                  <a:pt x="257" y="50"/>
                </a:lnTo>
                <a:lnTo>
                  <a:pt x="279" y="50"/>
                </a:lnTo>
                <a:lnTo>
                  <a:pt x="298" y="50"/>
                </a:lnTo>
                <a:lnTo>
                  <a:pt x="314" y="58"/>
                </a:lnTo>
                <a:lnTo>
                  <a:pt x="322" y="64"/>
                </a:lnTo>
                <a:lnTo>
                  <a:pt x="338" y="61"/>
                </a:lnTo>
                <a:lnTo>
                  <a:pt x="349" y="55"/>
                </a:lnTo>
                <a:lnTo>
                  <a:pt x="355" y="50"/>
                </a:lnTo>
                <a:lnTo>
                  <a:pt x="373" y="50"/>
                </a:lnTo>
                <a:lnTo>
                  <a:pt x="384" y="44"/>
                </a:lnTo>
                <a:lnTo>
                  <a:pt x="399" y="39"/>
                </a:lnTo>
                <a:lnTo>
                  <a:pt x="408" y="39"/>
                </a:lnTo>
                <a:lnTo>
                  <a:pt x="406" y="58"/>
                </a:lnTo>
                <a:lnTo>
                  <a:pt x="401" y="66"/>
                </a:lnTo>
                <a:lnTo>
                  <a:pt x="393" y="75"/>
                </a:lnTo>
                <a:lnTo>
                  <a:pt x="384" y="75"/>
                </a:lnTo>
                <a:lnTo>
                  <a:pt x="382" y="75"/>
                </a:lnTo>
                <a:lnTo>
                  <a:pt x="371" y="77"/>
                </a:lnTo>
                <a:lnTo>
                  <a:pt x="362" y="88"/>
                </a:lnTo>
                <a:lnTo>
                  <a:pt x="353" y="86"/>
                </a:lnTo>
                <a:lnTo>
                  <a:pt x="344" y="80"/>
                </a:lnTo>
                <a:lnTo>
                  <a:pt x="336" y="86"/>
                </a:lnTo>
                <a:lnTo>
                  <a:pt x="327" y="88"/>
                </a:lnTo>
                <a:lnTo>
                  <a:pt x="320" y="88"/>
                </a:lnTo>
                <a:lnTo>
                  <a:pt x="314" y="94"/>
                </a:lnTo>
                <a:lnTo>
                  <a:pt x="296" y="94"/>
                </a:lnTo>
                <a:lnTo>
                  <a:pt x="290" y="86"/>
                </a:lnTo>
                <a:lnTo>
                  <a:pt x="281" y="75"/>
                </a:lnTo>
                <a:lnTo>
                  <a:pt x="270" y="86"/>
                </a:lnTo>
                <a:lnTo>
                  <a:pt x="263" y="94"/>
                </a:lnTo>
                <a:lnTo>
                  <a:pt x="254" y="94"/>
                </a:lnTo>
                <a:lnTo>
                  <a:pt x="239" y="75"/>
                </a:lnTo>
                <a:lnTo>
                  <a:pt x="235" y="77"/>
                </a:lnTo>
                <a:lnTo>
                  <a:pt x="226" y="77"/>
                </a:lnTo>
                <a:lnTo>
                  <a:pt x="219" y="88"/>
                </a:lnTo>
                <a:lnTo>
                  <a:pt x="206" y="86"/>
                </a:lnTo>
                <a:lnTo>
                  <a:pt x="193" y="86"/>
                </a:lnTo>
                <a:lnTo>
                  <a:pt x="186" y="80"/>
                </a:lnTo>
                <a:lnTo>
                  <a:pt x="178" y="75"/>
                </a:lnTo>
                <a:lnTo>
                  <a:pt x="165" y="77"/>
                </a:lnTo>
                <a:lnTo>
                  <a:pt x="151" y="88"/>
                </a:lnTo>
                <a:lnTo>
                  <a:pt x="143" y="86"/>
                </a:lnTo>
                <a:lnTo>
                  <a:pt x="129" y="80"/>
                </a:lnTo>
                <a:lnTo>
                  <a:pt x="114" y="72"/>
                </a:lnTo>
                <a:lnTo>
                  <a:pt x="101" y="72"/>
                </a:lnTo>
                <a:lnTo>
                  <a:pt x="75" y="64"/>
                </a:lnTo>
                <a:lnTo>
                  <a:pt x="57" y="58"/>
                </a:lnTo>
                <a:lnTo>
                  <a:pt x="46" y="55"/>
                </a:lnTo>
                <a:lnTo>
                  <a:pt x="29" y="53"/>
                </a:lnTo>
                <a:lnTo>
                  <a:pt x="18" y="41"/>
                </a:lnTo>
                <a:lnTo>
                  <a:pt x="7" y="39"/>
                </a:lnTo>
                <a:lnTo>
                  <a:pt x="2" y="36"/>
                </a:lnTo>
                <a:lnTo>
                  <a:pt x="0" y="30"/>
                </a:lnTo>
                <a:lnTo>
                  <a:pt x="0" y="0"/>
                </a:lnTo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83400" y="3032280"/>
            <a:ext cx="263520" cy="298440"/>
          </a:xfrm>
          <a:custGeom>
            <a:avLst/>
            <a:gdLst/>
            <a:ahLst/>
            <a:rect l="l" t="t" r="r" b="b"/>
            <a:pathLst>
              <a:path w="186" h="182">
                <a:moveTo>
                  <a:pt x="46" y="0"/>
                </a:moveTo>
                <a:lnTo>
                  <a:pt x="90" y="3"/>
                </a:lnTo>
                <a:lnTo>
                  <a:pt x="132" y="3"/>
                </a:lnTo>
                <a:lnTo>
                  <a:pt x="154" y="0"/>
                </a:lnTo>
                <a:lnTo>
                  <a:pt x="185" y="17"/>
                </a:lnTo>
                <a:lnTo>
                  <a:pt x="165" y="22"/>
                </a:lnTo>
                <a:lnTo>
                  <a:pt x="154" y="31"/>
                </a:lnTo>
                <a:lnTo>
                  <a:pt x="148" y="36"/>
                </a:lnTo>
                <a:lnTo>
                  <a:pt x="143" y="42"/>
                </a:lnTo>
                <a:lnTo>
                  <a:pt x="143" y="47"/>
                </a:lnTo>
                <a:lnTo>
                  <a:pt x="143" y="56"/>
                </a:lnTo>
                <a:lnTo>
                  <a:pt x="130" y="61"/>
                </a:lnTo>
                <a:lnTo>
                  <a:pt x="119" y="61"/>
                </a:lnTo>
                <a:lnTo>
                  <a:pt x="115" y="64"/>
                </a:lnTo>
                <a:lnTo>
                  <a:pt x="104" y="64"/>
                </a:lnTo>
                <a:lnTo>
                  <a:pt x="99" y="56"/>
                </a:lnTo>
                <a:lnTo>
                  <a:pt x="90" y="45"/>
                </a:lnTo>
                <a:lnTo>
                  <a:pt x="81" y="36"/>
                </a:lnTo>
                <a:lnTo>
                  <a:pt x="64" y="36"/>
                </a:lnTo>
                <a:lnTo>
                  <a:pt x="59" y="36"/>
                </a:lnTo>
                <a:lnTo>
                  <a:pt x="55" y="50"/>
                </a:lnTo>
                <a:lnTo>
                  <a:pt x="57" y="64"/>
                </a:lnTo>
                <a:lnTo>
                  <a:pt x="57" y="72"/>
                </a:lnTo>
                <a:lnTo>
                  <a:pt x="59" y="81"/>
                </a:lnTo>
                <a:lnTo>
                  <a:pt x="68" y="78"/>
                </a:lnTo>
                <a:lnTo>
                  <a:pt x="81" y="70"/>
                </a:lnTo>
                <a:lnTo>
                  <a:pt x="90" y="70"/>
                </a:lnTo>
                <a:lnTo>
                  <a:pt x="97" y="75"/>
                </a:lnTo>
                <a:lnTo>
                  <a:pt x="97" y="81"/>
                </a:lnTo>
                <a:lnTo>
                  <a:pt x="93" y="92"/>
                </a:lnTo>
                <a:lnTo>
                  <a:pt x="90" y="97"/>
                </a:lnTo>
                <a:lnTo>
                  <a:pt x="90" y="103"/>
                </a:lnTo>
                <a:lnTo>
                  <a:pt x="88" y="111"/>
                </a:lnTo>
                <a:lnTo>
                  <a:pt x="93" y="120"/>
                </a:lnTo>
                <a:lnTo>
                  <a:pt x="101" y="131"/>
                </a:lnTo>
                <a:lnTo>
                  <a:pt x="104" y="128"/>
                </a:lnTo>
                <a:lnTo>
                  <a:pt x="104" y="139"/>
                </a:lnTo>
                <a:lnTo>
                  <a:pt x="99" y="148"/>
                </a:lnTo>
                <a:lnTo>
                  <a:pt x="95" y="156"/>
                </a:lnTo>
                <a:lnTo>
                  <a:pt x="93" y="170"/>
                </a:lnTo>
                <a:lnTo>
                  <a:pt x="84" y="175"/>
                </a:lnTo>
                <a:lnTo>
                  <a:pt x="77" y="175"/>
                </a:lnTo>
                <a:lnTo>
                  <a:pt x="70" y="175"/>
                </a:lnTo>
                <a:lnTo>
                  <a:pt x="70" y="164"/>
                </a:lnTo>
                <a:lnTo>
                  <a:pt x="68" y="145"/>
                </a:lnTo>
                <a:lnTo>
                  <a:pt x="62" y="139"/>
                </a:lnTo>
                <a:lnTo>
                  <a:pt x="59" y="131"/>
                </a:lnTo>
                <a:lnTo>
                  <a:pt x="62" y="114"/>
                </a:lnTo>
                <a:lnTo>
                  <a:pt x="55" y="109"/>
                </a:lnTo>
                <a:lnTo>
                  <a:pt x="40" y="114"/>
                </a:lnTo>
                <a:lnTo>
                  <a:pt x="33" y="109"/>
                </a:lnTo>
                <a:lnTo>
                  <a:pt x="26" y="117"/>
                </a:lnTo>
                <a:lnTo>
                  <a:pt x="33" y="123"/>
                </a:lnTo>
                <a:lnTo>
                  <a:pt x="44" y="128"/>
                </a:lnTo>
                <a:lnTo>
                  <a:pt x="46" y="134"/>
                </a:lnTo>
                <a:lnTo>
                  <a:pt x="53" y="145"/>
                </a:lnTo>
                <a:lnTo>
                  <a:pt x="53" y="153"/>
                </a:lnTo>
                <a:lnTo>
                  <a:pt x="46" y="167"/>
                </a:lnTo>
                <a:lnTo>
                  <a:pt x="37" y="178"/>
                </a:lnTo>
                <a:lnTo>
                  <a:pt x="33" y="181"/>
                </a:lnTo>
                <a:lnTo>
                  <a:pt x="33" y="173"/>
                </a:lnTo>
                <a:lnTo>
                  <a:pt x="33" y="164"/>
                </a:lnTo>
                <a:lnTo>
                  <a:pt x="35" y="153"/>
                </a:lnTo>
                <a:lnTo>
                  <a:pt x="24" y="145"/>
                </a:lnTo>
                <a:lnTo>
                  <a:pt x="13" y="136"/>
                </a:lnTo>
                <a:lnTo>
                  <a:pt x="11" y="128"/>
                </a:lnTo>
                <a:lnTo>
                  <a:pt x="0" y="123"/>
                </a:lnTo>
                <a:lnTo>
                  <a:pt x="2" y="109"/>
                </a:lnTo>
                <a:lnTo>
                  <a:pt x="11" y="100"/>
                </a:lnTo>
                <a:lnTo>
                  <a:pt x="18" y="86"/>
                </a:lnTo>
                <a:lnTo>
                  <a:pt x="24" y="72"/>
                </a:lnTo>
                <a:lnTo>
                  <a:pt x="26" y="58"/>
                </a:lnTo>
                <a:lnTo>
                  <a:pt x="24" y="45"/>
                </a:lnTo>
                <a:lnTo>
                  <a:pt x="29" y="39"/>
                </a:lnTo>
                <a:lnTo>
                  <a:pt x="33" y="33"/>
                </a:lnTo>
                <a:lnTo>
                  <a:pt x="26" y="22"/>
                </a:lnTo>
                <a:lnTo>
                  <a:pt x="46" y="0"/>
                </a:lnTo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0520" y="2898720"/>
            <a:ext cx="288720" cy="409680"/>
          </a:xfrm>
          <a:custGeom>
            <a:avLst/>
            <a:gdLst/>
            <a:ahLst/>
            <a:rect l="l" t="t" r="r" b="b"/>
            <a:pathLst>
              <a:path w="204" h="249">
                <a:moveTo>
                  <a:pt x="0" y="83"/>
                </a:moveTo>
                <a:lnTo>
                  <a:pt x="41" y="44"/>
                </a:lnTo>
                <a:lnTo>
                  <a:pt x="63" y="28"/>
                </a:lnTo>
                <a:lnTo>
                  <a:pt x="74" y="14"/>
                </a:lnTo>
                <a:lnTo>
                  <a:pt x="107" y="0"/>
                </a:lnTo>
                <a:lnTo>
                  <a:pt x="124" y="30"/>
                </a:lnTo>
                <a:lnTo>
                  <a:pt x="142" y="17"/>
                </a:lnTo>
                <a:lnTo>
                  <a:pt x="148" y="8"/>
                </a:lnTo>
                <a:lnTo>
                  <a:pt x="164" y="0"/>
                </a:lnTo>
                <a:lnTo>
                  <a:pt x="172" y="0"/>
                </a:lnTo>
                <a:lnTo>
                  <a:pt x="175" y="11"/>
                </a:lnTo>
                <a:lnTo>
                  <a:pt x="175" y="19"/>
                </a:lnTo>
                <a:lnTo>
                  <a:pt x="166" y="33"/>
                </a:lnTo>
                <a:lnTo>
                  <a:pt x="166" y="41"/>
                </a:lnTo>
                <a:lnTo>
                  <a:pt x="190" y="77"/>
                </a:lnTo>
                <a:lnTo>
                  <a:pt x="194" y="99"/>
                </a:lnTo>
                <a:lnTo>
                  <a:pt x="201" y="99"/>
                </a:lnTo>
                <a:lnTo>
                  <a:pt x="203" y="110"/>
                </a:lnTo>
                <a:lnTo>
                  <a:pt x="194" y="121"/>
                </a:lnTo>
                <a:lnTo>
                  <a:pt x="188" y="116"/>
                </a:lnTo>
                <a:lnTo>
                  <a:pt x="172" y="124"/>
                </a:lnTo>
                <a:lnTo>
                  <a:pt x="175" y="146"/>
                </a:lnTo>
                <a:lnTo>
                  <a:pt x="157" y="160"/>
                </a:lnTo>
                <a:lnTo>
                  <a:pt x="157" y="196"/>
                </a:lnTo>
                <a:lnTo>
                  <a:pt x="157" y="220"/>
                </a:lnTo>
                <a:lnTo>
                  <a:pt x="148" y="231"/>
                </a:lnTo>
                <a:lnTo>
                  <a:pt x="142" y="248"/>
                </a:lnTo>
                <a:lnTo>
                  <a:pt x="133" y="245"/>
                </a:lnTo>
                <a:lnTo>
                  <a:pt x="120" y="237"/>
                </a:lnTo>
                <a:lnTo>
                  <a:pt x="109" y="229"/>
                </a:lnTo>
                <a:lnTo>
                  <a:pt x="100" y="215"/>
                </a:lnTo>
                <a:lnTo>
                  <a:pt x="70" y="218"/>
                </a:lnTo>
                <a:lnTo>
                  <a:pt x="44" y="209"/>
                </a:lnTo>
                <a:lnTo>
                  <a:pt x="26" y="187"/>
                </a:lnTo>
                <a:lnTo>
                  <a:pt x="15" y="171"/>
                </a:lnTo>
                <a:lnTo>
                  <a:pt x="7" y="157"/>
                </a:lnTo>
                <a:lnTo>
                  <a:pt x="7" y="130"/>
                </a:lnTo>
                <a:lnTo>
                  <a:pt x="0" y="83"/>
                </a:lnTo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923240" y="3132000"/>
            <a:ext cx="554040" cy="385920"/>
          </a:xfrm>
          <a:custGeom>
            <a:avLst/>
            <a:gdLst/>
            <a:ahLst/>
            <a:rect l="l" t="t" r="r" b="b"/>
            <a:pathLst>
              <a:path w="391" h="235">
                <a:moveTo>
                  <a:pt x="0" y="0"/>
                </a:moveTo>
                <a:lnTo>
                  <a:pt x="35" y="3"/>
                </a:lnTo>
                <a:lnTo>
                  <a:pt x="64" y="6"/>
                </a:lnTo>
                <a:lnTo>
                  <a:pt x="77" y="39"/>
                </a:lnTo>
                <a:lnTo>
                  <a:pt x="79" y="50"/>
                </a:lnTo>
                <a:lnTo>
                  <a:pt x="83" y="56"/>
                </a:lnTo>
                <a:lnTo>
                  <a:pt x="92" y="47"/>
                </a:lnTo>
                <a:lnTo>
                  <a:pt x="107" y="47"/>
                </a:lnTo>
                <a:lnTo>
                  <a:pt x="116" y="56"/>
                </a:lnTo>
                <a:lnTo>
                  <a:pt x="121" y="53"/>
                </a:lnTo>
                <a:lnTo>
                  <a:pt x="134" y="39"/>
                </a:lnTo>
                <a:lnTo>
                  <a:pt x="136" y="39"/>
                </a:lnTo>
                <a:lnTo>
                  <a:pt x="147" y="31"/>
                </a:lnTo>
                <a:lnTo>
                  <a:pt x="158" y="31"/>
                </a:lnTo>
                <a:lnTo>
                  <a:pt x="193" y="47"/>
                </a:lnTo>
                <a:lnTo>
                  <a:pt x="208" y="47"/>
                </a:lnTo>
                <a:lnTo>
                  <a:pt x="223" y="61"/>
                </a:lnTo>
                <a:lnTo>
                  <a:pt x="239" y="67"/>
                </a:lnTo>
                <a:lnTo>
                  <a:pt x="252" y="78"/>
                </a:lnTo>
                <a:lnTo>
                  <a:pt x="263" y="81"/>
                </a:lnTo>
                <a:lnTo>
                  <a:pt x="291" y="92"/>
                </a:lnTo>
                <a:lnTo>
                  <a:pt x="305" y="111"/>
                </a:lnTo>
                <a:lnTo>
                  <a:pt x="311" y="123"/>
                </a:lnTo>
                <a:lnTo>
                  <a:pt x="309" y="128"/>
                </a:lnTo>
                <a:lnTo>
                  <a:pt x="320" y="139"/>
                </a:lnTo>
                <a:lnTo>
                  <a:pt x="329" y="142"/>
                </a:lnTo>
                <a:lnTo>
                  <a:pt x="333" y="145"/>
                </a:lnTo>
                <a:lnTo>
                  <a:pt x="344" y="148"/>
                </a:lnTo>
                <a:lnTo>
                  <a:pt x="362" y="164"/>
                </a:lnTo>
                <a:lnTo>
                  <a:pt x="362" y="176"/>
                </a:lnTo>
                <a:lnTo>
                  <a:pt x="372" y="187"/>
                </a:lnTo>
                <a:lnTo>
                  <a:pt x="375" y="192"/>
                </a:lnTo>
                <a:lnTo>
                  <a:pt x="390" y="215"/>
                </a:lnTo>
                <a:lnTo>
                  <a:pt x="377" y="234"/>
                </a:lnTo>
                <a:lnTo>
                  <a:pt x="372" y="234"/>
                </a:lnTo>
                <a:lnTo>
                  <a:pt x="359" y="234"/>
                </a:lnTo>
                <a:lnTo>
                  <a:pt x="355" y="226"/>
                </a:lnTo>
                <a:lnTo>
                  <a:pt x="348" y="226"/>
                </a:lnTo>
                <a:lnTo>
                  <a:pt x="342" y="228"/>
                </a:lnTo>
                <a:lnTo>
                  <a:pt x="309" y="184"/>
                </a:lnTo>
                <a:lnTo>
                  <a:pt x="289" y="187"/>
                </a:lnTo>
                <a:lnTo>
                  <a:pt x="269" y="184"/>
                </a:lnTo>
                <a:lnTo>
                  <a:pt x="263" y="189"/>
                </a:lnTo>
                <a:lnTo>
                  <a:pt x="256" y="198"/>
                </a:lnTo>
                <a:lnTo>
                  <a:pt x="254" y="192"/>
                </a:lnTo>
                <a:lnTo>
                  <a:pt x="245" y="206"/>
                </a:lnTo>
                <a:lnTo>
                  <a:pt x="232" y="226"/>
                </a:lnTo>
                <a:lnTo>
                  <a:pt x="221" y="217"/>
                </a:lnTo>
                <a:lnTo>
                  <a:pt x="208" y="212"/>
                </a:lnTo>
                <a:lnTo>
                  <a:pt x="199" y="212"/>
                </a:lnTo>
                <a:lnTo>
                  <a:pt x="186" y="206"/>
                </a:lnTo>
                <a:lnTo>
                  <a:pt x="180" y="212"/>
                </a:lnTo>
                <a:lnTo>
                  <a:pt x="171" y="184"/>
                </a:lnTo>
                <a:lnTo>
                  <a:pt x="156" y="159"/>
                </a:lnTo>
                <a:lnTo>
                  <a:pt x="140" y="128"/>
                </a:lnTo>
                <a:lnTo>
                  <a:pt x="127" y="111"/>
                </a:lnTo>
                <a:lnTo>
                  <a:pt x="116" y="95"/>
                </a:lnTo>
                <a:lnTo>
                  <a:pt x="92" y="95"/>
                </a:lnTo>
                <a:lnTo>
                  <a:pt x="70" y="103"/>
                </a:lnTo>
                <a:lnTo>
                  <a:pt x="59" y="92"/>
                </a:lnTo>
                <a:lnTo>
                  <a:pt x="37" y="84"/>
                </a:lnTo>
                <a:lnTo>
                  <a:pt x="26" y="75"/>
                </a:lnTo>
                <a:lnTo>
                  <a:pt x="26" y="42"/>
                </a:lnTo>
                <a:lnTo>
                  <a:pt x="28" y="25"/>
                </a:lnTo>
                <a:lnTo>
                  <a:pt x="0" y="0"/>
                </a:lnTo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902280" y="2857680"/>
            <a:ext cx="333720" cy="509400"/>
          </a:xfrm>
          <a:custGeom>
            <a:avLst/>
            <a:gdLst/>
            <a:ahLst/>
            <a:rect l="l" t="t" r="r" b="b"/>
            <a:pathLst>
              <a:path w="235" h="310">
                <a:moveTo>
                  <a:pt x="0" y="8"/>
                </a:moveTo>
                <a:lnTo>
                  <a:pt x="24" y="0"/>
                </a:lnTo>
                <a:lnTo>
                  <a:pt x="52" y="14"/>
                </a:lnTo>
                <a:lnTo>
                  <a:pt x="56" y="28"/>
                </a:lnTo>
                <a:lnTo>
                  <a:pt x="56" y="33"/>
                </a:lnTo>
                <a:lnTo>
                  <a:pt x="63" y="36"/>
                </a:lnTo>
                <a:lnTo>
                  <a:pt x="63" y="42"/>
                </a:lnTo>
                <a:lnTo>
                  <a:pt x="72" y="45"/>
                </a:lnTo>
                <a:lnTo>
                  <a:pt x="72" y="56"/>
                </a:lnTo>
                <a:lnTo>
                  <a:pt x="100" y="89"/>
                </a:lnTo>
                <a:lnTo>
                  <a:pt x="104" y="89"/>
                </a:lnTo>
                <a:lnTo>
                  <a:pt x="108" y="97"/>
                </a:lnTo>
                <a:lnTo>
                  <a:pt x="113" y="106"/>
                </a:lnTo>
                <a:lnTo>
                  <a:pt x="117" y="106"/>
                </a:lnTo>
                <a:lnTo>
                  <a:pt x="137" y="117"/>
                </a:lnTo>
                <a:lnTo>
                  <a:pt x="173" y="122"/>
                </a:lnTo>
                <a:lnTo>
                  <a:pt x="176" y="161"/>
                </a:lnTo>
                <a:lnTo>
                  <a:pt x="184" y="167"/>
                </a:lnTo>
                <a:lnTo>
                  <a:pt x="182" y="181"/>
                </a:lnTo>
                <a:lnTo>
                  <a:pt x="204" y="200"/>
                </a:lnTo>
                <a:lnTo>
                  <a:pt x="223" y="209"/>
                </a:lnTo>
                <a:lnTo>
                  <a:pt x="223" y="273"/>
                </a:lnTo>
                <a:lnTo>
                  <a:pt x="234" y="298"/>
                </a:lnTo>
                <a:lnTo>
                  <a:pt x="228" y="306"/>
                </a:lnTo>
                <a:lnTo>
                  <a:pt x="215" y="309"/>
                </a:lnTo>
                <a:lnTo>
                  <a:pt x="212" y="287"/>
                </a:lnTo>
                <a:lnTo>
                  <a:pt x="191" y="309"/>
                </a:lnTo>
                <a:lnTo>
                  <a:pt x="176" y="276"/>
                </a:lnTo>
                <a:lnTo>
                  <a:pt x="167" y="253"/>
                </a:lnTo>
                <a:lnTo>
                  <a:pt x="141" y="223"/>
                </a:lnTo>
                <a:lnTo>
                  <a:pt x="134" y="223"/>
                </a:lnTo>
                <a:lnTo>
                  <a:pt x="111" y="206"/>
                </a:lnTo>
                <a:lnTo>
                  <a:pt x="106" y="189"/>
                </a:lnTo>
                <a:lnTo>
                  <a:pt x="106" y="178"/>
                </a:lnTo>
                <a:lnTo>
                  <a:pt x="87" y="134"/>
                </a:lnTo>
                <a:lnTo>
                  <a:pt x="78" y="106"/>
                </a:lnTo>
                <a:lnTo>
                  <a:pt x="54" y="81"/>
                </a:lnTo>
                <a:lnTo>
                  <a:pt x="22" y="42"/>
                </a:lnTo>
                <a:lnTo>
                  <a:pt x="0" y="8"/>
                </a:lnTo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93040" y="2309760"/>
            <a:ext cx="326880" cy="560520"/>
          </a:xfrm>
          <a:custGeom>
            <a:avLst/>
            <a:gdLst/>
            <a:ahLst/>
            <a:rect l="l" t="t" r="r" b="b"/>
            <a:pathLst>
              <a:path w="231" h="341">
                <a:moveTo>
                  <a:pt x="15" y="0"/>
                </a:moveTo>
                <a:lnTo>
                  <a:pt x="35" y="0"/>
                </a:lnTo>
                <a:lnTo>
                  <a:pt x="58" y="36"/>
                </a:lnTo>
                <a:lnTo>
                  <a:pt x="53" y="70"/>
                </a:lnTo>
                <a:lnTo>
                  <a:pt x="66" y="81"/>
                </a:lnTo>
                <a:lnTo>
                  <a:pt x="73" y="103"/>
                </a:lnTo>
                <a:lnTo>
                  <a:pt x="88" y="114"/>
                </a:lnTo>
                <a:lnTo>
                  <a:pt x="106" y="117"/>
                </a:lnTo>
                <a:lnTo>
                  <a:pt x="133" y="134"/>
                </a:lnTo>
                <a:lnTo>
                  <a:pt x="150" y="153"/>
                </a:lnTo>
                <a:lnTo>
                  <a:pt x="155" y="153"/>
                </a:lnTo>
                <a:lnTo>
                  <a:pt x="177" y="170"/>
                </a:lnTo>
                <a:lnTo>
                  <a:pt x="177" y="212"/>
                </a:lnTo>
                <a:lnTo>
                  <a:pt x="184" y="231"/>
                </a:lnTo>
                <a:lnTo>
                  <a:pt x="190" y="242"/>
                </a:lnTo>
                <a:lnTo>
                  <a:pt x="199" y="254"/>
                </a:lnTo>
                <a:lnTo>
                  <a:pt x="208" y="268"/>
                </a:lnTo>
                <a:lnTo>
                  <a:pt x="212" y="284"/>
                </a:lnTo>
                <a:lnTo>
                  <a:pt x="230" y="298"/>
                </a:lnTo>
                <a:lnTo>
                  <a:pt x="228" y="315"/>
                </a:lnTo>
                <a:lnTo>
                  <a:pt x="210" y="318"/>
                </a:lnTo>
                <a:lnTo>
                  <a:pt x="203" y="304"/>
                </a:lnTo>
                <a:lnTo>
                  <a:pt x="190" y="304"/>
                </a:lnTo>
                <a:lnTo>
                  <a:pt x="190" y="340"/>
                </a:lnTo>
                <a:lnTo>
                  <a:pt x="179" y="340"/>
                </a:lnTo>
                <a:lnTo>
                  <a:pt x="166" y="323"/>
                </a:lnTo>
                <a:lnTo>
                  <a:pt x="157" y="315"/>
                </a:lnTo>
                <a:lnTo>
                  <a:pt x="157" y="295"/>
                </a:lnTo>
                <a:lnTo>
                  <a:pt x="137" y="295"/>
                </a:lnTo>
                <a:lnTo>
                  <a:pt x="130" y="315"/>
                </a:lnTo>
                <a:lnTo>
                  <a:pt x="124" y="295"/>
                </a:lnTo>
                <a:lnTo>
                  <a:pt x="122" y="276"/>
                </a:lnTo>
                <a:lnTo>
                  <a:pt x="146" y="268"/>
                </a:lnTo>
                <a:lnTo>
                  <a:pt x="159" y="273"/>
                </a:lnTo>
                <a:lnTo>
                  <a:pt x="161" y="240"/>
                </a:lnTo>
                <a:lnTo>
                  <a:pt x="148" y="229"/>
                </a:lnTo>
                <a:lnTo>
                  <a:pt x="139" y="201"/>
                </a:lnTo>
                <a:lnTo>
                  <a:pt x="133" y="167"/>
                </a:lnTo>
                <a:lnTo>
                  <a:pt x="108" y="156"/>
                </a:lnTo>
                <a:lnTo>
                  <a:pt x="97" y="142"/>
                </a:lnTo>
                <a:lnTo>
                  <a:pt x="77" y="134"/>
                </a:lnTo>
                <a:lnTo>
                  <a:pt x="88" y="164"/>
                </a:lnTo>
                <a:lnTo>
                  <a:pt x="66" y="178"/>
                </a:lnTo>
                <a:lnTo>
                  <a:pt x="53" y="145"/>
                </a:lnTo>
                <a:lnTo>
                  <a:pt x="42" y="137"/>
                </a:lnTo>
                <a:lnTo>
                  <a:pt x="42" y="117"/>
                </a:lnTo>
                <a:lnTo>
                  <a:pt x="27" y="95"/>
                </a:lnTo>
                <a:lnTo>
                  <a:pt x="9" y="81"/>
                </a:lnTo>
                <a:lnTo>
                  <a:pt x="0" y="67"/>
                </a:lnTo>
                <a:lnTo>
                  <a:pt x="4" y="56"/>
                </a:lnTo>
                <a:lnTo>
                  <a:pt x="18" y="61"/>
                </a:lnTo>
                <a:lnTo>
                  <a:pt x="22" y="47"/>
                </a:lnTo>
                <a:lnTo>
                  <a:pt x="18" y="28"/>
                </a:lnTo>
                <a:lnTo>
                  <a:pt x="15" y="0"/>
                </a:lnTo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419960" y="1360440"/>
            <a:ext cx="239760" cy="474840"/>
          </a:xfrm>
          <a:custGeom>
            <a:avLst/>
            <a:gdLst/>
            <a:ahLst/>
            <a:rect l="l" t="t" r="r" b="b"/>
            <a:pathLst>
              <a:path w="169" h="289">
                <a:moveTo>
                  <a:pt x="35" y="0"/>
                </a:moveTo>
                <a:lnTo>
                  <a:pt x="68" y="20"/>
                </a:lnTo>
                <a:lnTo>
                  <a:pt x="87" y="36"/>
                </a:lnTo>
                <a:lnTo>
                  <a:pt x="100" y="62"/>
                </a:lnTo>
                <a:lnTo>
                  <a:pt x="111" y="62"/>
                </a:lnTo>
                <a:lnTo>
                  <a:pt x="109" y="78"/>
                </a:lnTo>
                <a:lnTo>
                  <a:pt x="122" y="89"/>
                </a:lnTo>
                <a:lnTo>
                  <a:pt x="131" y="106"/>
                </a:lnTo>
                <a:lnTo>
                  <a:pt x="153" y="140"/>
                </a:lnTo>
                <a:lnTo>
                  <a:pt x="168" y="179"/>
                </a:lnTo>
                <a:lnTo>
                  <a:pt x="140" y="176"/>
                </a:lnTo>
                <a:lnTo>
                  <a:pt x="118" y="171"/>
                </a:lnTo>
                <a:lnTo>
                  <a:pt x="133" y="199"/>
                </a:lnTo>
                <a:lnTo>
                  <a:pt x="133" y="215"/>
                </a:lnTo>
                <a:lnTo>
                  <a:pt x="133" y="232"/>
                </a:lnTo>
                <a:lnTo>
                  <a:pt x="124" y="224"/>
                </a:lnTo>
                <a:lnTo>
                  <a:pt x="113" y="210"/>
                </a:lnTo>
                <a:lnTo>
                  <a:pt x="94" y="193"/>
                </a:lnTo>
                <a:lnTo>
                  <a:pt x="83" y="185"/>
                </a:lnTo>
                <a:lnTo>
                  <a:pt x="65" y="193"/>
                </a:lnTo>
                <a:lnTo>
                  <a:pt x="55" y="199"/>
                </a:lnTo>
                <a:lnTo>
                  <a:pt x="61" y="213"/>
                </a:lnTo>
                <a:lnTo>
                  <a:pt x="79" y="224"/>
                </a:lnTo>
                <a:lnTo>
                  <a:pt x="96" y="235"/>
                </a:lnTo>
                <a:lnTo>
                  <a:pt x="103" y="254"/>
                </a:lnTo>
                <a:lnTo>
                  <a:pt x="100" y="280"/>
                </a:lnTo>
                <a:lnTo>
                  <a:pt x="100" y="288"/>
                </a:lnTo>
                <a:lnTo>
                  <a:pt x="94" y="288"/>
                </a:lnTo>
                <a:lnTo>
                  <a:pt x="83" y="280"/>
                </a:lnTo>
                <a:lnTo>
                  <a:pt x="79" y="277"/>
                </a:lnTo>
                <a:lnTo>
                  <a:pt x="72" y="271"/>
                </a:lnTo>
                <a:lnTo>
                  <a:pt x="65" y="285"/>
                </a:lnTo>
                <a:lnTo>
                  <a:pt x="55" y="288"/>
                </a:lnTo>
                <a:lnTo>
                  <a:pt x="46" y="277"/>
                </a:lnTo>
                <a:lnTo>
                  <a:pt x="46" y="252"/>
                </a:lnTo>
                <a:lnTo>
                  <a:pt x="44" y="238"/>
                </a:lnTo>
                <a:lnTo>
                  <a:pt x="33" y="229"/>
                </a:lnTo>
                <a:lnTo>
                  <a:pt x="22" y="243"/>
                </a:lnTo>
                <a:lnTo>
                  <a:pt x="4" y="243"/>
                </a:lnTo>
                <a:lnTo>
                  <a:pt x="0" y="232"/>
                </a:lnTo>
                <a:lnTo>
                  <a:pt x="4" y="204"/>
                </a:lnTo>
                <a:lnTo>
                  <a:pt x="17" y="187"/>
                </a:lnTo>
                <a:lnTo>
                  <a:pt x="15" y="143"/>
                </a:lnTo>
                <a:lnTo>
                  <a:pt x="15" y="131"/>
                </a:lnTo>
                <a:lnTo>
                  <a:pt x="28" y="129"/>
                </a:lnTo>
                <a:lnTo>
                  <a:pt x="39" y="140"/>
                </a:lnTo>
                <a:lnTo>
                  <a:pt x="59" y="145"/>
                </a:lnTo>
                <a:lnTo>
                  <a:pt x="59" y="126"/>
                </a:lnTo>
                <a:lnTo>
                  <a:pt x="50" y="115"/>
                </a:lnTo>
                <a:lnTo>
                  <a:pt x="46" y="106"/>
                </a:lnTo>
                <a:lnTo>
                  <a:pt x="52" y="106"/>
                </a:lnTo>
                <a:lnTo>
                  <a:pt x="57" y="106"/>
                </a:lnTo>
                <a:lnTo>
                  <a:pt x="61" y="106"/>
                </a:lnTo>
                <a:lnTo>
                  <a:pt x="65" y="106"/>
                </a:lnTo>
                <a:lnTo>
                  <a:pt x="72" y="98"/>
                </a:lnTo>
                <a:lnTo>
                  <a:pt x="70" y="89"/>
                </a:lnTo>
                <a:lnTo>
                  <a:pt x="63" y="70"/>
                </a:lnTo>
                <a:lnTo>
                  <a:pt x="50" y="50"/>
                </a:lnTo>
                <a:lnTo>
                  <a:pt x="33" y="39"/>
                </a:lnTo>
                <a:lnTo>
                  <a:pt x="26" y="28"/>
                </a:lnTo>
                <a:lnTo>
                  <a:pt x="35" y="0"/>
                </a:lnTo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48520" y="787320"/>
            <a:ext cx="263520" cy="390600"/>
          </a:xfrm>
          <a:custGeom>
            <a:avLst/>
            <a:gdLst/>
            <a:ahLst/>
            <a:rect l="l" t="t" r="r" b="b"/>
            <a:pathLst>
              <a:path w="186" h="237">
                <a:moveTo>
                  <a:pt x="0" y="0"/>
                </a:moveTo>
                <a:lnTo>
                  <a:pt x="18" y="0"/>
                </a:lnTo>
                <a:lnTo>
                  <a:pt x="24" y="17"/>
                </a:lnTo>
                <a:lnTo>
                  <a:pt x="48" y="42"/>
                </a:lnTo>
                <a:lnTo>
                  <a:pt x="59" y="69"/>
                </a:lnTo>
                <a:lnTo>
                  <a:pt x="77" y="72"/>
                </a:lnTo>
                <a:lnTo>
                  <a:pt x="90" y="78"/>
                </a:lnTo>
                <a:lnTo>
                  <a:pt x="101" y="89"/>
                </a:lnTo>
                <a:lnTo>
                  <a:pt x="115" y="89"/>
                </a:lnTo>
                <a:lnTo>
                  <a:pt x="130" y="106"/>
                </a:lnTo>
                <a:lnTo>
                  <a:pt x="143" y="119"/>
                </a:lnTo>
                <a:lnTo>
                  <a:pt x="159" y="128"/>
                </a:lnTo>
                <a:lnTo>
                  <a:pt x="156" y="136"/>
                </a:lnTo>
                <a:lnTo>
                  <a:pt x="148" y="142"/>
                </a:lnTo>
                <a:lnTo>
                  <a:pt x="139" y="142"/>
                </a:lnTo>
                <a:lnTo>
                  <a:pt x="134" y="150"/>
                </a:lnTo>
                <a:lnTo>
                  <a:pt x="152" y="167"/>
                </a:lnTo>
                <a:lnTo>
                  <a:pt x="165" y="183"/>
                </a:lnTo>
                <a:lnTo>
                  <a:pt x="185" y="200"/>
                </a:lnTo>
                <a:lnTo>
                  <a:pt x="172" y="219"/>
                </a:lnTo>
                <a:lnTo>
                  <a:pt x="161" y="225"/>
                </a:lnTo>
                <a:lnTo>
                  <a:pt x="163" y="236"/>
                </a:lnTo>
                <a:lnTo>
                  <a:pt x="143" y="236"/>
                </a:lnTo>
                <a:lnTo>
                  <a:pt x="137" y="228"/>
                </a:lnTo>
                <a:lnTo>
                  <a:pt x="121" y="205"/>
                </a:lnTo>
                <a:lnTo>
                  <a:pt x="110" y="186"/>
                </a:lnTo>
                <a:lnTo>
                  <a:pt x="93" y="153"/>
                </a:lnTo>
                <a:lnTo>
                  <a:pt x="73" y="128"/>
                </a:lnTo>
                <a:lnTo>
                  <a:pt x="51" y="92"/>
                </a:lnTo>
                <a:lnTo>
                  <a:pt x="37" y="81"/>
                </a:lnTo>
                <a:lnTo>
                  <a:pt x="26" y="72"/>
                </a:lnTo>
                <a:lnTo>
                  <a:pt x="22" y="53"/>
                </a:lnTo>
                <a:lnTo>
                  <a:pt x="2" y="36"/>
                </a:lnTo>
                <a:lnTo>
                  <a:pt x="2" y="25"/>
                </a:lnTo>
                <a:lnTo>
                  <a:pt x="0" y="0"/>
                </a:lnTo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49680" y="1593720"/>
            <a:ext cx="1890720" cy="2959200"/>
          </a:xfrm>
          <a:custGeom>
            <a:avLst/>
            <a:gdLst/>
            <a:ahLst/>
            <a:rect l="l" t="t" r="r" b="b"/>
            <a:pathLst>
              <a:path w="1336" h="1799">
                <a:moveTo>
                  <a:pt x="998" y="215"/>
                </a:moveTo>
                <a:lnTo>
                  <a:pt x="1020" y="290"/>
                </a:lnTo>
                <a:lnTo>
                  <a:pt x="1061" y="405"/>
                </a:lnTo>
                <a:lnTo>
                  <a:pt x="1145" y="589"/>
                </a:lnTo>
                <a:lnTo>
                  <a:pt x="1175" y="611"/>
                </a:lnTo>
                <a:lnTo>
                  <a:pt x="1195" y="664"/>
                </a:lnTo>
                <a:lnTo>
                  <a:pt x="1261" y="662"/>
                </a:lnTo>
                <a:lnTo>
                  <a:pt x="1304" y="645"/>
                </a:lnTo>
                <a:lnTo>
                  <a:pt x="1335" y="645"/>
                </a:lnTo>
                <a:lnTo>
                  <a:pt x="1333" y="718"/>
                </a:lnTo>
                <a:lnTo>
                  <a:pt x="1322" y="757"/>
                </a:lnTo>
                <a:lnTo>
                  <a:pt x="1202" y="919"/>
                </a:lnTo>
                <a:lnTo>
                  <a:pt x="1092" y="1086"/>
                </a:lnTo>
                <a:lnTo>
                  <a:pt x="1094" y="1150"/>
                </a:lnTo>
                <a:lnTo>
                  <a:pt x="1125" y="1198"/>
                </a:lnTo>
                <a:lnTo>
                  <a:pt x="1110" y="1234"/>
                </a:lnTo>
                <a:lnTo>
                  <a:pt x="1118" y="1281"/>
                </a:lnTo>
                <a:lnTo>
                  <a:pt x="1110" y="1318"/>
                </a:lnTo>
                <a:lnTo>
                  <a:pt x="1083" y="1349"/>
                </a:lnTo>
                <a:lnTo>
                  <a:pt x="1061" y="1349"/>
                </a:lnTo>
                <a:lnTo>
                  <a:pt x="1024" y="1402"/>
                </a:lnTo>
                <a:lnTo>
                  <a:pt x="991" y="1463"/>
                </a:lnTo>
                <a:lnTo>
                  <a:pt x="998" y="1530"/>
                </a:lnTo>
                <a:lnTo>
                  <a:pt x="965" y="1561"/>
                </a:lnTo>
                <a:lnTo>
                  <a:pt x="935" y="1630"/>
                </a:lnTo>
                <a:lnTo>
                  <a:pt x="899" y="1695"/>
                </a:lnTo>
                <a:lnTo>
                  <a:pt x="880" y="1720"/>
                </a:lnTo>
                <a:lnTo>
                  <a:pt x="862" y="1725"/>
                </a:lnTo>
                <a:lnTo>
                  <a:pt x="832" y="1767"/>
                </a:lnTo>
                <a:lnTo>
                  <a:pt x="781" y="1792"/>
                </a:lnTo>
                <a:lnTo>
                  <a:pt x="718" y="1798"/>
                </a:lnTo>
                <a:lnTo>
                  <a:pt x="683" y="1770"/>
                </a:lnTo>
                <a:lnTo>
                  <a:pt x="678" y="1742"/>
                </a:lnTo>
                <a:lnTo>
                  <a:pt x="672" y="1706"/>
                </a:lnTo>
                <a:lnTo>
                  <a:pt x="648" y="1686"/>
                </a:lnTo>
                <a:lnTo>
                  <a:pt x="628" y="1617"/>
                </a:lnTo>
                <a:lnTo>
                  <a:pt x="622" y="1583"/>
                </a:lnTo>
                <a:lnTo>
                  <a:pt x="619" y="1541"/>
                </a:lnTo>
                <a:lnTo>
                  <a:pt x="608" y="1510"/>
                </a:lnTo>
                <a:lnTo>
                  <a:pt x="606" y="1491"/>
                </a:lnTo>
                <a:lnTo>
                  <a:pt x="587" y="1460"/>
                </a:lnTo>
                <a:lnTo>
                  <a:pt x="565" y="1435"/>
                </a:lnTo>
                <a:lnTo>
                  <a:pt x="549" y="1393"/>
                </a:lnTo>
                <a:lnTo>
                  <a:pt x="538" y="1362"/>
                </a:lnTo>
                <a:lnTo>
                  <a:pt x="543" y="1312"/>
                </a:lnTo>
                <a:lnTo>
                  <a:pt x="576" y="1240"/>
                </a:lnTo>
                <a:lnTo>
                  <a:pt x="582" y="1159"/>
                </a:lnTo>
                <a:lnTo>
                  <a:pt x="558" y="1067"/>
                </a:lnTo>
                <a:lnTo>
                  <a:pt x="523" y="1030"/>
                </a:lnTo>
                <a:lnTo>
                  <a:pt x="499" y="980"/>
                </a:lnTo>
                <a:lnTo>
                  <a:pt x="508" y="902"/>
                </a:lnTo>
                <a:lnTo>
                  <a:pt x="490" y="843"/>
                </a:lnTo>
                <a:lnTo>
                  <a:pt x="449" y="838"/>
                </a:lnTo>
                <a:lnTo>
                  <a:pt x="405" y="793"/>
                </a:lnTo>
                <a:lnTo>
                  <a:pt x="350" y="768"/>
                </a:lnTo>
                <a:lnTo>
                  <a:pt x="293" y="807"/>
                </a:lnTo>
                <a:lnTo>
                  <a:pt x="144" y="796"/>
                </a:lnTo>
                <a:lnTo>
                  <a:pt x="63" y="698"/>
                </a:lnTo>
                <a:lnTo>
                  <a:pt x="0" y="567"/>
                </a:lnTo>
                <a:lnTo>
                  <a:pt x="11" y="522"/>
                </a:lnTo>
                <a:lnTo>
                  <a:pt x="39" y="489"/>
                </a:lnTo>
                <a:lnTo>
                  <a:pt x="53" y="396"/>
                </a:lnTo>
                <a:lnTo>
                  <a:pt x="72" y="329"/>
                </a:lnTo>
                <a:lnTo>
                  <a:pt x="129" y="260"/>
                </a:lnTo>
                <a:lnTo>
                  <a:pt x="188" y="229"/>
                </a:lnTo>
                <a:lnTo>
                  <a:pt x="243" y="156"/>
                </a:lnTo>
                <a:lnTo>
                  <a:pt x="256" y="126"/>
                </a:lnTo>
                <a:lnTo>
                  <a:pt x="328" y="47"/>
                </a:lnTo>
                <a:lnTo>
                  <a:pt x="374" y="78"/>
                </a:lnTo>
                <a:lnTo>
                  <a:pt x="407" y="75"/>
                </a:lnTo>
                <a:lnTo>
                  <a:pt x="446" y="34"/>
                </a:lnTo>
                <a:lnTo>
                  <a:pt x="492" y="28"/>
                </a:lnTo>
                <a:lnTo>
                  <a:pt x="523" y="39"/>
                </a:lnTo>
                <a:lnTo>
                  <a:pt x="552" y="6"/>
                </a:lnTo>
                <a:lnTo>
                  <a:pt x="589" y="0"/>
                </a:lnTo>
                <a:lnTo>
                  <a:pt x="597" y="61"/>
                </a:lnTo>
                <a:lnTo>
                  <a:pt x="622" y="106"/>
                </a:lnTo>
                <a:lnTo>
                  <a:pt x="689" y="151"/>
                </a:lnTo>
                <a:lnTo>
                  <a:pt x="746" y="159"/>
                </a:lnTo>
                <a:lnTo>
                  <a:pt x="753" y="109"/>
                </a:lnTo>
                <a:lnTo>
                  <a:pt x="797" y="109"/>
                </a:lnTo>
                <a:lnTo>
                  <a:pt x="849" y="140"/>
                </a:lnTo>
                <a:lnTo>
                  <a:pt x="906" y="156"/>
                </a:lnTo>
                <a:lnTo>
                  <a:pt x="954" y="137"/>
                </a:lnTo>
                <a:lnTo>
                  <a:pt x="998" y="215"/>
                </a:lnTo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778200" y="3240"/>
            <a:ext cx="838080" cy="1018440"/>
            <a:chOff x="3778200" y="3240"/>
            <a:chExt cx="838080" cy="1018440"/>
          </a:xfrm>
        </p:grpSpPr>
        <p:grpSp>
          <p:nvGrpSpPr>
            <p:cNvPr id="223" name=""/>
            <p:cNvGrpSpPr/>
            <p:nvPr/>
          </p:nvGrpSpPr>
          <p:grpSpPr>
            <a:xfrm>
              <a:off x="4109400" y="639000"/>
              <a:ext cx="262800" cy="382680"/>
              <a:chOff x="4109400" y="639000"/>
              <a:chExt cx="262800" cy="382680"/>
            </a:xfrm>
          </p:grpSpPr>
          <p:sp>
            <p:nvSpPr>
              <p:cNvPr id="224" name=""/>
              <p:cNvSpPr/>
              <p:nvPr/>
            </p:nvSpPr>
            <p:spPr>
              <a:xfrm>
                <a:off x="4109400" y="778680"/>
                <a:ext cx="124200" cy="216720"/>
              </a:xfrm>
              <a:custGeom>
                <a:avLst/>
                <a:gdLst/>
                <a:ahLst/>
                <a:rect l="l" t="t" r="r" b="b"/>
                <a:pathLst>
                  <a:path w="88" h="132">
                    <a:moveTo>
                      <a:pt x="20" y="40"/>
                    </a:moveTo>
                    <a:lnTo>
                      <a:pt x="27" y="26"/>
                    </a:lnTo>
                    <a:lnTo>
                      <a:pt x="42" y="26"/>
                    </a:lnTo>
                    <a:lnTo>
                      <a:pt x="65" y="0"/>
                    </a:lnTo>
                    <a:lnTo>
                      <a:pt x="71" y="17"/>
                    </a:lnTo>
                    <a:lnTo>
                      <a:pt x="83" y="17"/>
                    </a:lnTo>
                    <a:lnTo>
                      <a:pt x="87" y="26"/>
                    </a:lnTo>
                    <a:lnTo>
                      <a:pt x="80" y="40"/>
                    </a:lnTo>
                    <a:lnTo>
                      <a:pt x="71" y="46"/>
                    </a:lnTo>
                    <a:lnTo>
                      <a:pt x="71" y="57"/>
                    </a:lnTo>
                    <a:lnTo>
                      <a:pt x="69" y="63"/>
                    </a:lnTo>
                    <a:lnTo>
                      <a:pt x="67" y="71"/>
                    </a:lnTo>
                    <a:lnTo>
                      <a:pt x="71" y="83"/>
                    </a:lnTo>
                    <a:lnTo>
                      <a:pt x="65" y="94"/>
                    </a:lnTo>
                    <a:lnTo>
                      <a:pt x="58" y="100"/>
                    </a:lnTo>
                    <a:lnTo>
                      <a:pt x="51" y="100"/>
                    </a:lnTo>
                    <a:lnTo>
                      <a:pt x="49" y="103"/>
                    </a:lnTo>
                    <a:lnTo>
                      <a:pt x="47" y="111"/>
                    </a:lnTo>
                    <a:lnTo>
                      <a:pt x="36" y="114"/>
                    </a:lnTo>
                    <a:lnTo>
                      <a:pt x="33" y="111"/>
                    </a:lnTo>
                    <a:lnTo>
                      <a:pt x="25" y="120"/>
                    </a:lnTo>
                    <a:lnTo>
                      <a:pt x="22" y="122"/>
                    </a:lnTo>
                    <a:lnTo>
                      <a:pt x="11" y="131"/>
                    </a:lnTo>
                    <a:lnTo>
                      <a:pt x="7" y="131"/>
                    </a:lnTo>
                    <a:lnTo>
                      <a:pt x="4" y="125"/>
                    </a:lnTo>
                    <a:lnTo>
                      <a:pt x="2" y="111"/>
                    </a:lnTo>
                    <a:lnTo>
                      <a:pt x="0" y="108"/>
                    </a:lnTo>
                    <a:lnTo>
                      <a:pt x="0" y="97"/>
                    </a:lnTo>
                    <a:lnTo>
                      <a:pt x="7" y="91"/>
                    </a:lnTo>
                    <a:lnTo>
                      <a:pt x="13" y="85"/>
                    </a:lnTo>
                    <a:lnTo>
                      <a:pt x="18" y="74"/>
                    </a:lnTo>
                    <a:lnTo>
                      <a:pt x="25" y="74"/>
                    </a:lnTo>
                    <a:lnTo>
                      <a:pt x="29" y="77"/>
                    </a:lnTo>
                    <a:lnTo>
                      <a:pt x="36" y="74"/>
                    </a:lnTo>
                    <a:lnTo>
                      <a:pt x="29" y="71"/>
                    </a:lnTo>
                    <a:lnTo>
                      <a:pt x="20" y="40"/>
                    </a:lnTo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222080" y="639000"/>
                <a:ext cx="150120" cy="382680"/>
              </a:xfrm>
              <a:custGeom>
                <a:avLst/>
                <a:gdLst/>
                <a:ahLst/>
                <a:rect l="l" t="t" r="r" b="b"/>
                <a:pathLst>
                  <a:path w="106" h="233">
                    <a:moveTo>
                      <a:pt x="34" y="34"/>
                    </a:moveTo>
                    <a:lnTo>
                      <a:pt x="40" y="25"/>
                    </a:lnTo>
                    <a:lnTo>
                      <a:pt x="60" y="28"/>
                    </a:lnTo>
                    <a:lnTo>
                      <a:pt x="65" y="22"/>
                    </a:lnTo>
                    <a:lnTo>
                      <a:pt x="69" y="14"/>
                    </a:lnTo>
                    <a:lnTo>
                      <a:pt x="74" y="14"/>
                    </a:lnTo>
                    <a:lnTo>
                      <a:pt x="78" y="11"/>
                    </a:lnTo>
                    <a:lnTo>
                      <a:pt x="85" y="6"/>
                    </a:lnTo>
                    <a:lnTo>
                      <a:pt x="94" y="0"/>
                    </a:lnTo>
                    <a:lnTo>
                      <a:pt x="105" y="3"/>
                    </a:lnTo>
                    <a:lnTo>
                      <a:pt x="103" y="14"/>
                    </a:lnTo>
                    <a:lnTo>
                      <a:pt x="98" y="22"/>
                    </a:lnTo>
                    <a:lnTo>
                      <a:pt x="94" y="25"/>
                    </a:lnTo>
                    <a:lnTo>
                      <a:pt x="89" y="28"/>
                    </a:lnTo>
                    <a:lnTo>
                      <a:pt x="76" y="34"/>
                    </a:lnTo>
                    <a:lnTo>
                      <a:pt x="76" y="45"/>
                    </a:lnTo>
                    <a:lnTo>
                      <a:pt x="78" y="50"/>
                    </a:lnTo>
                    <a:lnTo>
                      <a:pt x="92" y="45"/>
                    </a:lnTo>
                    <a:lnTo>
                      <a:pt x="103" y="39"/>
                    </a:lnTo>
                    <a:lnTo>
                      <a:pt x="105" y="45"/>
                    </a:lnTo>
                    <a:lnTo>
                      <a:pt x="105" y="61"/>
                    </a:lnTo>
                    <a:lnTo>
                      <a:pt x="96" y="64"/>
                    </a:lnTo>
                    <a:lnTo>
                      <a:pt x="87" y="64"/>
                    </a:lnTo>
                    <a:lnTo>
                      <a:pt x="80" y="73"/>
                    </a:lnTo>
                    <a:lnTo>
                      <a:pt x="78" y="78"/>
                    </a:lnTo>
                    <a:lnTo>
                      <a:pt x="78" y="87"/>
                    </a:lnTo>
                    <a:lnTo>
                      <a:pt x="85" y="98"/>
                    </a:lnTo>
                    <a:lnTo>
                      <a:pt x="92" y="106"/>
                    </a:lnTo>
                    <a:lnTo>
                      <a:pt x="96" y="115"/>
                    </a:lnTo>
                    <a:lnTo>
                      <a:pt x="98" y="126"/>
                    </a:lnTo>
                    <a:lnTo>
                      <a:pt x="101" y="137"/>
                    </a:lnTo>
                    <a:lnTo>
                      <a:pt x="105" y="151"/>
                    </a:lnTo>
                    <a:lnTo>
                      <a:pt x="105" y="171"/>
                    </a:lnTo>
                    <a:lnTo>
                      <a:pt x="101" y="182"/>
                    </a:lnTo>
                    <a:lnTo>
                      <a:pt x="92" y="190"/>
                    </a:lnTo>
                    <a:lnTo>
                      <a:pt x="89" y="196"/>
                    </a:lnTo>
                    <a:lnTo>
                      <a:pt x="94" y="207"/>
                    </a:lnTo>
                    <a:lnTo>
                      <a:pt x="98" y="218"/>
                    </a:lnTo>
                    <a:lnTo>
                      <a:pt x="85" y="218"/>
                    </a:lnTo>
                    <a:lnTo>
                      <a:pt x="74" y="218"/>
                    </a:lnTo>
                    <a:lnTo>
                      <a:pt x="69" y="215"/>
                    </a:lnTo>
                    <a:lnTo>
                      <a:pt x="60" y="215"/>
                    </a:lnTo>
                    <a:lnTo>
                      <a:pt x="49" y="218"/>
                    </a:lnTo>
                    <a:lnTo>
                      <a:pt x="40" y="224"/>
                    </a:lnTo>
                    <a:lnTo>
                      <a:pt x="34" y="224"/>
                    </a:lnTo>
                    <a:lnTo>
                      <a:pt x="29" y="226"/>
                    </a:lnTo>
                    <a:lnTo>
                      <a:pt x="18" y="232"/>
                    </a:lnTo>
                    <a:lnTo>
                      <a:pt x="16" y="229"/>
                    </a:lnTo>
                    <a:lnTo>
                      <a:pt x="11" y="224"/>
                    </a:lnTo>
                    <a:lnTo>
                      <a:pt x="4" y="221"/>
                    </a:lnTo>
                    <a:lnTo>
                      <a:pt x="0" y="218"/>
                    </a:lnTo>
                    <a:lnTo>
                      <a:pt x="0" y="207"/>
                    </a:lnTo>
                    <a:lnTo>
                      <a:pt x="4" y="193"/>
                    </a:lnTo>
                    <a:lnTo>
                      <a:pt x="11" y="193"/>
                    </a:lnTo>
                    <a:lnTo>
                      <a:pt x="18" y="190"/>
                    </a:lnTo>
                    <a:lnTo>
                      <a:pt x="27" y="190"/>
                    </a:lnTo>
                    <a:lnTo>
                      <a:pt x="27" y="187"/>
                    </a:lnTo>
                    <a:lnTo>
                      <a:pt x="18" y="182"/>
                    </a:lnTo>
                    <a:lnTo>
                      <a:pt x="18" y="173"/>
                    </a:lnTo>
                    <a:lnTo>
                      <a:pt x="18" y="168"/>
                    </a:lnTo>
                    <a:lnTo>
                      <a:pt x="27" y="162"/>
                    </a:lnTo>
                    <a:lnTo>
                      <a:pt x="31" y="159"/>
                    </a:lnTo>
                    <a:lnTo>
                      <a:pt x="36" y="157"/>
                    </a:lnTo>
                    <a:lnTo>
                      <a:pt x="42" y="157"/>
                    </a:lnTo>
                    <a:lnTo>
                      <a:pt x="47" y="154"/>
                    </a:lnTo>
                    <a:lnTo>
                      <a:pt x="49" y="131"/>
                    </a:lnTo>
                    <a:lnTo>
                      <a:pt x="56" y="115"/>
                    </a:lnTo>
                    <a:lnTo>
                      <a:pt x="56" y="106"/>
                    </a:lnTo>
                    <a:lnTo>
                      <a:pt x="40" y="103"/>
                    </a:lnTo>
                    <a:lnTo>
                      <a:pt x="45" y="89"/>
                    </a:lnTo>
                    <a:lnTo>
                      <a:pt x="34" y="81"/>
                    </a:lnTo>
                    <a:lnTo>
                      <a:pt x="22" y="84"/>
                    </a:lnTo>
                    <a:lnTo>
                      <a:pt x="36" y="64"/>
                    </a:lnTo>
                    <a:lnTo>
                      <a:pt x="34" y="34"/>
                    </a:lnTo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3778200" y="3240"/>
              <a:ext cx="838080" cy="641160"/>
            </a:xfrm>
            <a:custGeom>
              <a:avLst/>
              <a:gdLst/>
              <a:ahLst/>
              <a:rect l="l" t="t" r="r" b="b"/>
              <a:pathLst>
                <a:path w="592" h="390">
                  <a:moveTo>
                    <a:pt x="0" y="389"/>
                  </a:moveTo>
                  <a:lnTo>
                    <a:pt x="37" y="381"/>
                  </a:lnTo>
                  <a:lnTo>
                    <a:pt x="50" y="364"/>
                  </a:lnTo>
                  <a:lnTo>
                    <a:pt x="59" y="353"/>
                  </a:lnTo>
                  <a:lnTo>
                    <a:pt x="63" y="344"/>
                  </a:lnTo>
                  <a:lnTo>
                    <a:pt x="72" y="344"/>
                  </a:lnTo>
                  <a:lnTo>
                    <a:pt x="81" y="336"/>
                  </a:lnTo>
                  <a:lnTo>
                    <a:pt x="92" y="336"/>
                  </a:lnTo>
                  <a:lnTo>
                    <a:pt x="99" y="336"/>
                  </a:lnTo>
                  <a:lnTo>
                    <a:pt x="107" y="336"/>
                  </a:lnTo>
                  <a:lnTo>
                    <a:pt x="112" y="336"/>
                  </a:lnTo>
                  <a:lnTo>
                    <a:pt x="120" y="325"/>
                  </a:lnTo>
                  <a:lnTo>
                    <a:pt x="125" y="316"/>
                  </a:lnTo>
                  <a:lnTo>
                    <a:pt x="136" y="308"/>
                  </a:lnTo>
                  <a:lnTo>
                    <a:pt x="144" y="305"/>
                  </a:lnTo>
                  <a:lnTo>
                    <a:pt x="151" y="299"/>
                  </a:lnTo>
                  <a:lnTo>
                    <a:pt x="160" y="297"/>
                  </a:lnTo>
                  <a:lnTo>
                    <a:pt x="166" y="291"/>
                  </a:lnTo>
                  <a:lnTo>
                    <a:pt x="175" y="285"/>
                  </a:lnTo>
                  <a:lnTo>
                    <a:pt x="184" y="280"/>
                  </a:lnTo>
                  <a:lnTo>
                    <a:pt x="195" y="271"/>
                  </a:lnTo>
                  <a:lnTo>
                    <a:pt x="206" y="274"/>
                  </a:lnTo>
                  <a:lnTo>
                    <a:pt x="223" y="280"/>
                  </a:lnTo>
                  <a:lnTo>
                    <a:pt x="241" y="280"/>
                  </a:lnTo>
                  <a:lnTo>
                    <a:pt x="260" y="271"/>
                  </a:lnTo>
                  <a:lnTo>
                    <a:pt x="269" y="269"/>
                  </a:lnTo>
                  <a:lnTo>
                    <a:pt x="276" y="252"/>
                  </a:lnTo>
                  <a:lnTo>
                    <a:pt x="285" y="241"/>
                  </a:lnTo>
                  <a:lnTo>
                    <a:pt x="300" y="227"/>
                  </a:lnTo>
                  <a:lnTo>
                    <a:pt x="304" y="218"/>
                  </a:lnTo>
                  <a:lnTo>
                    <a:pt x="304" y="207"/>
                  </a:lnTo>
                  <a:lnTo>
                    <a:pt x="317" y="199"/>
                  </a:lnTo>
                  <a:lnTo>
                    <a:pt x="324" y="190"/>
                  </a:lnTo>
                  <a:lnTo>
                    <a:pt x="328" y="182"/>
                  </a:lnTo>
                  <a:lnTo>
                    <a:pt x="333" y="182"/>
                  </a:lnTo>
                  <a:lnTo>
                    <a:pt x="355" y="165"/>
                  </a:lnTo>
                  <a:lnTo>
                    <a:pt x="355" y="182"/>
                  </a:lnTo>
                  <a:lnTo>
                    <a:pt x="350" y="188"/>
                  </a:lnTo>
                  <a:lnTo>
                    <a:pt x="355" y="196"/>
                  </a:lnTo>
                  <a:lnTo>
                    <a:pt x="370" y="199"/>
                  </a:lnTo>
                  <a:lnTo>
                    <a:pt x="379" y="199"/>
                  </a:lnTo>
                  <a:lnTo>
                    <a:pt x="387" y="190"/>
                  </a:lnTo>
                  <a:lnTo>
                    <a:pt x="394" y="182"/>
                  </a:lnTo>
                  <a:lnTo>
                    <a:pt x="394" y="174"/>
                  </a:lnTo>
                  <a:lnTo>
                    <a:pt x="401" y="165"/>
                  </a:lnTo>
                  <a:lnTo>
                    <a:pt x="401" y="157"/>
                  </a:lnTo>
                  <a:lnTo>
                    <a:pt x="407" y="146"/>
                  </a:lnTo>
                  <a:lnTo>
                    <a:pt x="412" y="140"/>
                  </a:lnTo>
                  <a:lnTo>
                    <a:pt x="422" y="140"/>
                  </a:lnTo>
                  <a:lnTo>
                    <a:pt x="444" y="140"/>
                  </a:lnTo>
                  <a:lnTo>
                    <a:pt x="462" y="129"/>
                  </a:lnTo>
                  <a:lnTo>
                    <a:pt x="477" y="112"/>
                  </a:lnTo>
                  <a:lnTo>
                    <a:pt x="495" y="106"/>
                  </a:lnTo>
                  <a:lnTo>
                    <a:pt x="510" y="92"/>
                  </a:lnTo>
                  <a:lnTo>
                    <a:pt x="521" y="70"/>
                  </a:lnTo>
                  <a:lnTo>
                    <a:pt x="545" y="45"/>
                  </a:lnTo>
                  <a:lnTo>
                    <a:pt x="560" y="34"/>
                  </a:lnTo>
                  <a:lnTo>
                    <a:pt x="576" y="22"/>
                  </a:lnTo>
                  <a:lnTo>
                    <a:pt x="591" y="8"/>
                  </a:lnTo>
                  <a:lnTo>
                    <a:pt x="565" y="0"/>
                  </a:lnTo>
                  <a:lnTo>
                    <a:pt x="538" y="0"/>
                  </a:lnTo>
                  <a:lnTo>
                    <a:pt x="512" y="14"/>
                  </a:lnTo>
                  <a:lnTo>
                    <a:pt x="499" y="22"/>
                  </a:lnTo>
                  <a:lnTo>
                    <a:pt x="477" y="28"/>
                  </a:lnTo>
                  <a:lnTo>
                    <a:pt x="453" y="31"/>
                  </a:lnTo>
                  <a:lnTo>
                    <a:pt x="440" y="36"/>
                  </a:lnTo>
                  <a:lnTo>
                    <a:pt x="412" y="50"/>
                  </a:lnTo>
                  <a:lnTo>
                    <a:pt x="394" y="59"/>
                  </a:lnTo>
                  <a:lnTo>
                    <a:pt x="376" y="67"/>
                  </a:lnTo>
                  <a:lnTo>
                    <a:pt x="355" y="73"/>
                  </a:lnTo>
                  <a:lnTo>
                    <a:pt x="333" y="81"/>
                  </a:lnTo>
                  <a:lnTo>
                    <a:pt x="313" y="92"/>
                  </a:lnTo>
                  <a:lnTo>
                    <a:pt x="298" y="106"/>
                  </a:lnTo>
                  <a:lnTo>
                    <a:pt x="285" y="120"/>
                  </a:lnTo>
                  <a:lnTo>
                    <a:pt x="271" y="132"/>
                  </a:lnTo>
                  <a:lnTo>
                    <a:pt x="260" y="140"/>
                  </a:lnTo>
                  <a:lnTo>
                    <a:pt x="236" y="157"/>
                  </a:lnTo>
                  <a:lnTo>
                    <a:pt x="212" y="174"/>
                  </a:lnTo>
                  <a:lnTo>
                    <a:pt x="184" y="190"/>
                  </a:lnTo>
                  <a:lnTo>
                    <a:pt x="164" y="215"/>
                  </a:lnTo>
                  <a:lnTo>
                    <a:pt x="142" y="235"/>
                  </a:lnTo>
                  <a:lnTo>
                    <a:pt x="123" y="246"/>
                  </a:lnTo>
                  <a:lnTo>
                    <a:pt x="103" y="271"/>
                  </a:lnTo>
                  <a:lnTo>
                    <a:pt x="90" y="288"/>
                  </a:lnTo>
                  <a:lnTo>
                    <a:pt x="72" y="305"/>
                  </a:lnTo>
                  <a:lnTo>
                    <a:pt x="55" y="316"/>
                  </a:lnTo>
                  <a:lnTo>
                    <a:pt x="37" y="327"/>
                  </a:lnTo>
                  <a:lnTo>
                    <a:pt x="0" y="389"/>
                  </a:lnTo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5259240" y="3618000"/>
            <a:ext cx="250920" cy="622080"/>
          </a:xfrm>
          <a:custGeom>
            <a:avLst/>
            <a:gdLst/>
            <a:ahLst/>
            <a:rect l="l" t="t" r="r" b="b"/>
            <a:pathLst>
              <a:path w="177" h="378">
                <a:moveTo>
                  <a:pt x="33" y="117"/>
                </a:moveTo>
                <a:lnTo>
                  <a:pt x="29" y="193"/>
                </a:lnTo>
                <a:lnTo>
                  <a:pt x="13" y="240"/>
                </a:lnTo>
                <a:lnTo>
                  <a:pt x="0" y="285"/>
                </a:lnTo>
                <a:lnTo>
                  <a:pt x="0" y="318"/>
                </a:lnTo>
                <a:lnTo>
                  <a:pt x="4" y="346"/>
                </a:lnTo>
                <a:lnTo>
                  <a:pt x="20" y="371"/>
                </a:lnTo>
                <a:lnTo>
                  <a:pt x="33" y="374"/>
                </a:lnTo>
                <a:lnTo>
                  <a:pt x="44" y="374"/>
                </a:lnTo>
                <a:lnTo>
                  <a:pt x="57" y="377"/>
                </a:lnTo>
                <a:lnTo>
                  <a:pt x="64" y="357"/>
                </a:lnTo>
                <a:lnTo>
                  <a:pt x="70" y="307"/>
                </a:lnTo>
                <a:lnTo>
                  <a:pt x="90" y="274"/>
                </a:lnTo>
                <a:lnTo>
                  <a:pt x="95" y="223"/>
                </a:lnTo>
                <a:lnTo>
                  <a:pt x="103" y="204"/>
                </a:lnTo>
                <a:lnTo>
                  <a:pt x="112" y="190"/>
                </a:lnTo>
                <a:lnTo>
                  <a:pt x="119" y="154"/>
                </a:lnTo>
                <a:lnTo>
                  <a:pt x="132" y="131"/>
                </a:lnTo>
                <a:lnTo>
                  <a:pt x="141" y="114"/>
                </a:lnTo>
                <a:lnTo>
                  <a:pt x="150" y="101"/>
                </a:lnTo>
                <a:lnTo>
                  <a:pt x="150" y="92"/>
                </a:lnTo>
                <a:lnTo>
                  <a:pt x="169" y="73"/>
                </a:lnTo>
                <a:lnTo>
                  <a:pt x="172" y="42"/>
                </a:lnTo>
                <a:lnTo>
                  <a:pt x="176" y="22"/>
                </a:lnTo>
                <a:lnTo>
                  <a:pt x="158" y="14"/>
                </a:lnTo>
                <a:lnTo>
                  <a:pt x="147" y="0"/>
                </a:lnTo>
                <a:lnTo>
                  <a:pt x="132" y="14"/>
                </a:lnTo>
                <a:lnTo>
                  <a:pt x="119" y="47"/>
                </a:lnTo>
                <a:lnTo>
                  <a:pt x="103" y="70"/>
                </a:lnTo>
                <a:lnTo>
                  <a:pt x="90" y="89"/>
                </a:lnTo>
                <a:lnTo>
                  <a:pt x="84" y="89"/>
                </a:lnTo>
                <a:lnTo>
                  <a:pt x="70" y="101"/>
                </a:lnTo>
                <a:lnTo>
                  <a:pt x="64" y="112"/>
                </a:lnTo>
                <a:lnTo>
                  <a:pt x="33" y="117"/>
                </a:lnTo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65480" y="65160"/>
            <a:ext cx="3386160" cy="2943000"/>
          </a:xfrm>
          <a:custGeom>
            <a:avLst/>
            <a:gdLst/>
            <a:ahLst/>
            <a:rect l="l" t="t" r="r" b="b"/>
            <a:pathLst>
              <a:path w="2392" h="1789">
                <a:moveTo>
                  <a:pt x="0" y="803"/>
                </a:moveTo>
                <a:lnTo>
                  <a:pt x="22" y="778"/>
                </a:lnTo>
                <a:lnTo>
                  <a:pt x="35" y="759"/>
                </a:lnTo>
                <a:lnTo>
                  <a:pt x="63" y="759"/>
                </a:lnTo>
                <a:lnTo>
                  <a:pt x="94" y="764"/>
                </a:lnTo>
                <a:lnTo>
                  <a:pt x="116" y="753"/>
                </a:lnTo>
                <a:lnTo>
                  <a:pt x="140" y="750"/>
                </a:lnTo>
                <a:lnTo>
                  <a:pt x="142" y="717"/>
                </a:lnTo>
                <a:lnTo>
                  <a:pt x="155" y="695"/>
                </a:lnTo>
                <a:lnTo>
                  <a:pt x="123" y="669"/>
                </a:lnTo>
                <a:lnTo>
                  <a:pt x="118" y="650"/>
                </a:lnTo>
                <a:lnTo>
                  <a:pt x="120" y="622"/>
                </a:lnTo>
                <a:lnTo>
                  <a:pt x="144" y="622"/>
                </a:lnTo>
                <a:lnTo>
                  <a:pt x="160" y="619"/>
                </a:lnTo>
                <a:lnTo>
                  <a:pt x="162" y="622"/>
                </a:lnTo>
                <a:lnTo>
                  <a:pt x="179" y="605"/>
                </a:lnTo>
                <a:lnTo>
                  <a:pt x="197" y="597"/>
                </a:lnTo>
                <a:lnTo>
                  <a:pt x="203" y="597"/>
                </a:lnTo>
                <a:lnTo>
                  <a:pt x="214" y="580"/>
                </a:lnTo>
                <a:lnTo>
                  <a:pt x="228" y="575"/>
                </a:lnTo>
                <a:lnTo>
                  <a:pt x="241" y="544"/>
                </a:lnTo>
                <a:lnTo>
                  <a:pt x="249" y="552"/>
                </a:lnTo>
                <a:lnTo>
                  <a:pt x="267" y="533"/>
                </a:lnTo>
                <a:lnTo>
                  <a:pt x="269" y="533"/>
                </a:lnTo>
                <a:lnTo>
                  <a:pt x="291" y="510"/>
                </a:lnTo>
                <a:lnTo>
                  <a:pt x="304" y="508"/>
                </a:lnTo>
                <a:lnTo>
                  <a:pt x="322" y="508"/>
                </a:lnTo>
                <a:lnTo>
                  <a:pt x="333" y="508"/>
                </a:lnTo>
                <a:lnTo>
                  <a:pt x="324" y="480"/>
                </a:lnTo>
                <a:lnTo>
                  <a:pt x="319" y="457"/>
                </a:lnTo>
                <a:lnTo>
                  <a:pt x="315" y="410"/>
                </a:lnTo>
                <a:lnTo>
                  <a:pt x="341" y="407"/>
                </a:lnTo>
                <a:lnTo>
                  <a:pt x="354" y="399"/>
                </a:lnTo>
                <a:lnTo>
                  <a:pt x="348" y="418"/>
                </a:lnTo>
                <a:lnTo>
                  <a:pt x="359" y="432"/>
                </a:lnTo>
                <a:lnTo>
                  <a:pt x="370" y="449"/>
                </a:lnTo>
                <a:lnTo>
                  <a:pt x="376" y="460"/>
                </a:lnTo>
                <a:lnTo>
                  <a:pt x="407" y="457"/>
                </a:lnTo>
                <a:lnTo>
                  <a:pt x="433" y="416"/>
                </a:lnTo>
                <a:lnTo>
                  <a:pt x="453" y="396"/>
                </a:lnTo>
                <a:lnTo>
                  <a:pt x="464" y="382"/>
                </a:lnTo>
                <a:lnTo>
                  <a:pt x="477" y="365"/>
                </a:lnTo>
                <a:lnTo>
                  <a:pt x="490" y="343"/>
                </a:lnTo>
                <a:lnTo>
                  <a:pt x="501" y="351"/>
                </a:lnTo>
                <a:lnTo>
                  <a:pt x="501" y="338"/>
                </a:lnTo>
                <a:lnTo>
                  <a:pt x="508" y="329"/>
                </a:lnTo>
                <a:lnTo>
                  <a:pt x="527" y="335"/>
                </a:lnTo>
                <a:lnTo>
                  <a:pt x="560" y="371"/>
                </a:lnTo>
                <a:lnTo>
                  <a:pt x="553" y="271"/>
                </a:lnTo>
                <a:lnTo>
                  <a:pt x="525" y="315"/>
                </a:lnTo>
                <a:lnTo>
                  <a:pt x="503" y="312"/>
                </a:lnTo>
                <a:lnTo>
                  <a:pt x="497" y="285"/>
                </a:lnTo>
                <a:lnTo>
                  <a:pt x="497" y="271"/>
                </a:lnTo>
                <a:lnTo>
                  <a:pt x="490" y="262"/>
                </a:lnTo>
                <a:lnTo>
                  <a:pt x="508" y="240"/>
                </a:lnTo>
                <a:lnTo>
                  <a:pt x="518" y="223"/>
                </a:lnTo>
                <a:lnTo>
                  <a:pt x="529" y="218"/>
                </a:lnTo>
                <a:lnTo>
                  <a:pt x="538" y="215"/>
                </a:lnTo>
                <a:lnTo>
                  <a:pt x="545" y="201"/>
                </a:lnTo>
                <a:lnTo>
                  <a:pt x="553" y="198"/>
                </a:lnTo>
                <a:lnTo>
                  <a:pt x="564" y="198"/>
                </a:lnTo>
                <a:lnTo>
                  <a:pt x="545" y="173"/>
                </a:lnTo>
                <a:lnTo>
                  <a:pt x="525" y="179"/>
                </a:lnTo>
                <a:lnTo>
                  <a:pt x="512" y="179"/>
                </a:lnTo>
                <a:lnTo>
                  <a:pt x="501" y="170"/>
                </a:lnTo>
                <a:lnTo>
                  <a:pt x="501" y="187"/>
                </a:lnTo>
                <a:lnTo>
                  <a:pt x="490" y="204"/>
                </a:lnTo>
                <a:lnTo>
                  <a:pt x="475" y="232"/>
                </a:lnTo>
                <a:lnTo>
                  <a:pt x="459" y="243"/>
                </a:lnTo>
                <a:lnTo>
                  <a:pt x="448" y="243"/>
                </a:lnTo>
                <a:lnTo>
                  <a:pt x="444" y="262"/>
                </a:lnTo>
                <a:lnTo>
                  <a:pt x="444" y="271"/>
                </a:lnTo>
                <a:lnTo>
                  <a:pt x="435" y="279"/>
                </a:lnTo>
                <a:lnTo>
                  <a:pt x="446" y="312"/>
                </a:lnTo>
                <a:lnTo>
                  <a:pt x="453" y="329"/>
                </a:lnTo>
                <a:lnTo>
                  <a:pt x="440" y="354"/>
                </a:lnTo>
                <a:lnTo>
                  <a:pt x="424" y="371"/>
                </a:lnTo>
                <a:lnTo>
                  <a:pt x="420" y="396"/>
                </a:lnTo>
                <a:lnTo>
                  <a:pt x="411" y="416"/>
                </a:lnTo>
                <a:lnTo>
                  <a:pt x="403" y="416"/>
                </a:lnTo>
                <a:lnTo>
                  <a:pt x="389" y="418"/>
                </a:lnTo>
                <a:lnTo>
                  <a:pt x="376" y="427"/>
                </a:lnTo>
                <a:lnTo>
                  <a:pt x="372" y="424"/>
                </a:lnTo>
                <a:lnTo>
                  <a:pt x="372" y="410"/>
                </a:lnTo>
                <a:lnTo>
                  <a:pt x="370" y="388"/>
                </a:lnTo>
                <a:lnTo>
                  <a:pt x="359" y="388"/>
                </a:lnTo>
                <a:lnTo>
                  <a:pt x="352" y="374"/>
                </a:lnTo>
                <a:lnTo>
                  <a:pt x="354" y="354"/>
                </a:lnTo>
                <a:lnTo>
                  <a:pt x="357" y="343"/>
                </a:lnTo>
                <a:lnTo>
                  <a:pt x="354" y="338"/>
                </a:lnTo>
                <a:lnTo>
                  <a:pt x="346" y="343"/>
                </a:lnTo>
                <a:lnTo>
                  <a:pt x="341" y="343"/>
                </a:lnTo>
                <a:lnTo>
                  <a:pt x="335" y="340"/>
                </a:lnTo>
                <a:lnTo>
                  <a:pt x="330" y="338"/>
                </a:lnTo>
                <a:lnTo>
                  <a:pt x="319" y="349"/>
                </a:lnTo>
                <a:lnTo>
                  <a:pt x="308" y="363"/>
                </a:lnTo>
                <a:lnTo>
                  <a:pt x="298" y="377"/>
                </a:lnTo>
                <a:lnTo>
                  <a:pt x="273" y="374"/>
                </a:lnTo>
                <a:lnTo>
                  <a:pt x="258" y="371"/>
                </a:lnTo>
                <a:lnTo>
                  <a:pt x="247" y="357"/>
                </a:lnTo>
                <a:lnTo>
                  <a:pt x="247" y="349"/>
                </a:lnTo>
                <a:lnTo>
                  <a:pt x="254" y="338"/>
                </a:lnTo>
                <a:lnTo>
                  <a:pt x="263" y="329"/>
                </a:lnTo>
                <a:lnTo>
                  <a:pt x="269" y="318"/>
                </a:lnTo>
                <a:lnTo>
                  <a:pt x="254" y="324"/>
                </a:lnTo>
                <a:lnTo>
                  <a:pt x="247" y="310"/>
                </a:lnTo>
                <a:lnTo>
                  <a:pt x="247" y="301"/>
                </a:lnTo>
                <a:lnTo>
                  <a:pt x="269" y="298"/>
                </a:lnTo>
                <a:lnTo>
                  <a:pt x="289" y="296"/>
                </a:lnTo>
                <a:lnTo>
                  <a:pt x="276" y="287"/>
                </a:lnTo>
                <a:lnTo>
                  <a:pt x="256" y="290"/>
                </a:lnTo>
                <a:lnTo>
                  <a:pt x="256" y="273"/>
                </a:lnTo>
                <a:lnTo>
                  <a:pt x="265" y="262"/>
                </a:lnTo>
                <a:lnTo>
                  <a:pt x="284" y="251"/>
                </a:lnTo>
                <a:lnTo>
                  <a:pt x="291" y="240"/>
                </a:lnTo>
                <a:lnTo>
                  <a:pt x="298" y="234"/>
                </a:lnTo>
                <a:lnTo>
                  <a:pt x="313" y="232"/>
                </a:lnTo>
                <a:lnTo>
                  <a:pt x="326" y="234"/>
                </a:lnTo>
                <a:lnTo>
                  <a:pt x="333" y="240"/>
                </a:lnTo>
                <a:lnTo>
                  <a:pt x="343" y="232"/>
                </a:lnTo>
                <a:lnTo>
                  <a:pt x="333" y="229"/>
                </a:lnTo>
                <a:lnTo>
                  <a:pt x="333" y="206"/>
                </a:lnTo>
                <a:lnTo>
                  <a:pt x="361" y="181"/>
                </a:lnTo>
                <a:lnTo>
                  <a:pt x="376" y="165"/>
                </a:lnTo>
                <a:lnTo>
                  <a:pt x="385" y="162"/>
                </a:lnTo>
                <a:lnTo>
                  <a:pt x="383" y="153"/>
                </a:lnTo>
                <a:lnTo>
                  <a:pt x="396" y="137"/>
                </a:lnTo>
                <a:lnTo>
                  <a:pt x="411" y="112"/>
                </a:lnTo>
                <a:lnTo>
                  <a:pt x="429" y="100"/>
                </a:lnTo>
                <a:lnTo>
                  <a:pt x="416" y="89"/>
                </a:lnTo>
                <a:lnTo>
                  <a:pt x="451" y="64"/>
                </a:lnTo>
                <a:lnTo>
                  <a:pt x="466" y="67"/>
                </a:lnTo>
                <a:lnTo>
                  <a:pt x="464" y="53"/>
                </a:lnTo>
                <a:lnTo>
                  <a:pt x="494" y="50"/>
                </a:lnTo>
                <a:lnTo>
                  <a:pt x="551" y="6"/>
                </a:lnTo>
                <a:lnTo>
                  <a:pt x="560" y="0"/>
                </a:lnTo>
                <a:lnTo>
                  <a:pt x="549" y="33"/>
                </a:lnTo>
                <a:lnTo>
                  <a:pt x="562" y="17"/>
                </a:lnTo>
                <a:lnTo>
                  <a:pt x="578" y="11"/>
                </a:lnTo>
                <a:lnTo>
                  <a:pt x="575" y="25"/>
                </a:lnTo>
                <a:lnTo>
                  <a:pt x="619" y="8"/>
                </a:lnTo>
                <a:lnTo>
                  <a:pt x="639" y="22"/>
                </a:lnTo>
                <a:lnTo>
                  <a:pt x="610" y="36"/>
                </a:lnTo>
                <a:lnTo>
                  <a:pt x="621" y="53"/>
                </a:lnTo>
                <a:lnTo>
                  <a:pt x="663" y="50"/>
                </a:lnTo>
                <a:lnTo>
                  <a:pt x="726" y="75"/>
                </a:lnTo>
                <a:lnTo>
                  <a:pt x="722" y="103"/>
                </a:lnTo>
                <a:lnTo>
                  <a:pt x="696" y="128"/>
                </a:lnTo>
                <a:lnTo>
                  <a:pt x="656" y="142"/>
                </a:lnTo>
                <a:lnTo>
                  <a:pt x="650" y="170"/>
                </a:lnTo>
                <a:lnTo>
                  <a:pt x="652" y="198"/>
                </a:lnTo>
                <a:lnTo>
                  <a:pt x="663" y="204"/>
                </a:lnTo>
                <a:lnTo>
                  <a:pt x="665" y="218"/>
                </a:lnTo>
                <a:lnTo>
                  <a:pt x="669" y="223"/>
                </a:lnTo>
                <a:lnTo>
                  <a:pt x="678" y="229"/>
                </a:lnTo>
                <a:lnTo>
                  <a:pt x="680" y="245"/>
                </a:lnTo>
                <a:lnTo>
                  <a:pt x="693" y="265"/>
                </a:lnTo>
                <a:lnTo>
                  <a:pt x="693" y="273"/>
                </a:lnTo>
                <a:lnTo>
                  <a:pt x="707" y="273"/>
                </a:lnTo>
                <a:lnTo>
                  <a:pt x="711" y="279"/>
                </a:lnTo>
                <a:lnTo>
                  <a:pt x="722" y="285"/>
                </a:lnTo>
                <a:lnTo>
                  <a:pt x="728" y="276"/>
                </a:lnTo>
                <a:lnTo>
                  <a:pt x="735" y="262"/>
                </a:lnTo>
                <a:lnTo>
                  <a:pt x="739" y="254"/>
                </a:lnTo>
                <a:lnTo>
                  <a:pt x="750" y="259"/>
                </a:lnTo>
                <a:lnTo>
                  <a:pt x="763" y="240"/>
                </a:lnTo>
                <a:lnTo>
                  <a:pt x="763" y="226"/>
                </a:lnTo>
                <a:lnTo>
                  <a:pt x="768" y="215"/>
                </a:lnTo>
                <a:lnTo>
                  <a:pt x="770" y="206"/>
                </a:lnTo>
                <a:lnTo>
                  <a:pt x="796" y="198"/>
                </a:lnTo>
                <a:lnTo>
                  <a:pt x="818" y="190"/>
                </a:lnTo>
                <a:lnTo>
                  <a:pt x="847" y="179"/>
                </a:lnTo>
                <a:lnTo>
                  <a:pt x="879" y="187"/>
                </a:lnTo>
                <a:lnTo>
                  <a:pt x="912" y="187"/>
                </a:lnTo>
                <a:lnTo>
                  <a:pt x="967" y="187"/>
                </a:lnTo>
                <a:lnTo>
                  <a:pt x="976" y="120"/>
                </a:lnTo>
                <a:lnTo>
                  <a:pt x="1006" y="123"/>
                </a:lnTo>
                <a:lnTo>
                  <a:pt x="1028" y="173"/>
                </a:lnTo>
                <a:lnTo>
                  <a:pt x="1033" y="131"/>
                </a:lnTo>
                <a:lnTo>
                  <a:pt x="1133" y="8"/>
                </a:lnTo>
                <a:lnTo>
                  <a:pt x="1173" y="8"/>
                </a:lnTo>
                <a:lnTo>
                  <a:pt x="1208" y="33"/>
                </a:lnTo>
                <a:lnTo>
                  <a:pt x="1253" y="31"/>
                </a:lnTo>
                <a:lnTo>
                  <a:pt x="1315" y="75"/>
                </a:lnTo>
                <a:lnTo>
                  <a:pt x="1385" y="100"/>
                </a:lnTo>
                <a:lnTo>
                  <a:pt x="1435" y="95"/>
                </a:lnTo>
                <a:lnTo>
                  <a:pt x="1501" y="123"/>
                </a:lnTo>
                <a:lnTo>
                  <a:pt x="1555" y="123"/>
                </a:lnTo>
                <a:lnTo>
                  <a:pt x="1582" y="103"/>
                </a:lnTo>
                <a:lnTo>
                  <a:pt x="1643" y="103"/>
                </a:lnTo>
                <a:lnTo>
                  <a:pt x="1676" y="126"/>
                </a:lnTo>
                <a:lnTo>
                  <a:pt x="1759" y="126"/>
                </a:lnTo>
                <a:lnTo>
                  <a:pt x="1829" y="162"/>
                </a:lnTo>
                <a:lnTo>
                  <a:pt x="1953" y="156"/>
                </a:lnTo>
                <a:lnTo>
                  <a:pt x="2157" y="173"/>
                </a:lnTo>
                <a:lnTo>
                  <a:pt x="2255" y="226"/>
                </a:lnTo>
                <a:lnTo>
                  <a:pt x="2338" y="259"/>
                </a:lnTo>
                <a:lnTo>
                  <a:pt x="2391" y="287"/>
                </a:lnTo>
                <a:lnTo>
                  <a:pt x="2376" y="296"/>
                </a:lnTo>
                <a:lnTo>
                  <a:pt x="2338" y="273"/>
                </a:lnTo>
                <a:lnTo>
                  <a:pt x="2253" y="265"/>
                </a:lnTo>
                <a:lnTo>
                  <a:pt x="2277" y="287"/>
                </a:lnTo>
                <a:lnTo>
                  <a:pt x="2314" y="298"/>
                </a:lnTo>
                <a:lnTo>
                  <a:pt x="2303" y="335"/>
                </a:lnTo>
                <a:lnTo>
                  <a:pt x="2264" y="357"/>
                </a:lnTo>
                <a:lnTo>
                  <a:pt x="2251" y="393"/>
                </a:lnTo>
                <a:lnTo>
                  <a:pt x="2303" y="427"/>
                </a:lnTo>
                <a:lnTo>
                  <a:pt x="2341" y="471"/>
                </a:lnTo>
                <a:lnTo>
                  <a:pt x="2360" y="536"/>
                </a:lnTo>
                <a:lnTo>
                  <a:pt x="2336" y="541"/>
                </a:lnTo>
                <a:lnTo>
                  <a:pt x="2284" y="522"/>
                </a:lnTo>
                <a:lnTo>
                  <a:pt x="2229" y="474"/>
                </a:lnTo>
                <a:lnTo>
                  <a:pt x="2207" y="449"/>
                </a:lnTo>
                <a:lnTo>
                  <a:pt x="2194" y="416"/>
                </a:lnTo>
                <a:lnTo>
                  <a:pt x="2181" y="365"/>
                </a:lnTo>
                <a:lnTo>
                  <a:pt x="2159" y="349"/>
                </a:lnTo>
                <a:lnTo>
                  <a:pt x="2139" y="346"/>
                </a:lnTo>
                <a:lnTo>
                  <a:pt x="2122" y="351"/>
                </a:lnTo>
                <a:lnTo>
                  <a:pt x="2142" y="391"/>
                </a:lnTo>
                <a:lnTo>
                  <a:pt x="2089" y="396"/>
                </a:lnTo>
                <a:lnTo>
                  <a:pt x="2065" y="377"/>
                </a:lnTo>
                <a:lnTo>
                  <a:pt x="2019" y="388"/>
                </a:lnTo>
                <a:lnTo>
                  <a:pt x="1984" y="418"/>
                </a:lnTo>
                <a:lnTo>
                  <a:pt x="1984" y="435"/>
                </a:lnTo>
                <a:lnTo>
                  <a:pt x="1997" y="463"/>
                </a:lnTo>
                <a:lnTo>
                  <a:pt x="2052" y="471"/>
                </a:lnTo>
                <a:lnTo>
                  <a:pt x="2096" y="505"/>
                </a:lnTo>
                <a:lnTo>
                  <a:pt x="2170" y="597"/>
                </a:lnTo>
                <a:lnTo>
                  <a:pt x="2201" y="658"/>
                </a:lnTo>
                <a:lnTo>
                  <a:pt x="2205" y="722"/>
                </a:lnTo>
                <a:lnTo>
                  <a:pt x="2198" y="775"/>
                </a:lnTo>
                <a:lnTo>
                  <a:pt x="2181" y="775"/>
                </a:lnTo>
                <a:lnTo>
                  <a:pt x="2161" y="756"/>
                </a:lnTo>
                <a:lnTo>
                  <a:pt x="2133" y="781"/>
                </a:lnTo>
                <a:lnTo>
                  <a:pt x="2104" y="803"/>
                </a:lnTo>
                <a:lnTo>
                  <a:pt x="2100" y="840"/>
                </a:lnTo>
                <a:lnTo>
                  <a:pt x="2131" y="884"/>
                </a:lnTo>
                <a:lnTo>
                  <a:pt x="2111" y="920"/>
                </a:lnTo>
                <a:lnTo>
                  <a:pt x="2104" y="982"/>
                </a:lnTo>
                <a:lnTo>
                  <a:pt x="2142" y="1021"/>
                </a:lnTo>
                <a:lnTo>
                  <a:pt x="2183" y="1032"/>
                </a:lnTo>
                <a:lnTo>
                  <a:pt x="2227" y="1074"/>
                </a:lnTo>
                <a:lnTo>
                  <a:pt x="2264" y="1130"/>
                </a:lnTo>
                <a:lnTo>
                  <a:pt x="2266" y="1213"/>
                </a:lnTo>
                <a:lnTo>
                  <a:pt x="2253" y="1252"/>
                </a:lnTo>
                <a:lnTo>
                  <a:pt x="2214" y="1286"/>
                </a:lnTo>
                <a:lnTo>
                  <a:pt x="2166" y="1303"/>
                </a:lnTo>
                <a:lnTo>
                  <a:pt x="2135" y="1328"/>
                </a:lnTo>
                <a:lnTo>
                  <a:pt x="2118" y="1314"/>
                </a:lnTo>
                <a:lnTo>
                  <a:pt x="2102" y="1328"/>
                </a:lnTo>
                <a:lnTo>
                  <a:pt x="2098" y="1389"/>
                </a:lnTo>
                <a:lnTo>
                  <a:pt x="2109" y="1425"/>
                </a:lnTo>
                <a:lnTo>
                  <a:pt x="2157" y="1467"/>
                </a:lnTo>
                <a:lnTo>
                  <a:pt x="2177" y="1509"/>
                </a:lnTo>
                <a:lnTo>
                  <a:pt x="2192" y="1531"/>
                </a:lnTo>
                <a:lnTo>
                  <a:pt x="2188" y="1576"/>
                </a:lnTo>
                <a:lnTo>
                  <a:pt x="2157" y="1612"/>
                </a:lnTo>
                <a:lnTo>
                  <a:pt x="2124" y="1612"/>
                </a:lnTo>
                <a:lnTo>
                  <a:pt x="2072" y="1559"/>
                </a:lnTo>
                <a:lnTo>
                  <a:pt x="2034" y="1540"/>
                </a:lnTo>
                <a:lnTo>
                  <a:pt x="2019" y="1529"/>
                </a:lnTo>
                <a:lnTo>
                  <a:pt x="2004" y="1556"/>
                </a:lnTo>
                <a:lnTo>
                  <a:pt x="2008" y="1596"/>
                </a:lnTo>
                <a:lnTo>
                  <a:pt x="2021" y="1626"/>
                </a:lnTo>
                <a:lnTo>
                  <a:pt x="2030" y="1674"/>
                </a:lnTo>
                <a:lnTo>
                  <a:pt x="2063" y="1690"/>
                </a:lnTo>
                <a:lnTo>
                  <a:pt x="2052" y="1715"/>
                </a:lnTo>
                <a:lnTo>
                  <a:pt x="2054" y="1752"/>
                </a:lnTo>
                <a:lnTo>
                  <a:pt x="2065" y="1788"/>
                </a:lnTo>
                <a:lnTo>
                  <a:pt x="2043" y="1785"/>
                </a:lnTo>
                <a:lnTo>
                  <a:pt x="2019" y="1743"/>
                </a:lnTo>
                <a:lnTo>
                  <a:pt x="2021" y="1699"/>
                </a:lnTo>
                <a:lnTo>
                  <a:pt x="2013" y="1685"/>
                </a:lnTo>
                <a:lnTo>
                  <a:pt x="2004" y="1635"/>
                </a:lnTo>
                <a:lnTo>
                  <a:pt x="1993" y="1621"/>
                </a:lnTo>
                <a:lnTo>
                  <a:pt x="1988" y="1551"/>
                </a:lnTo>
                <a:lnTo>
                  <a:pt x="1973" y="1509"/>
                </a:lnTo>
                <a:lnTo>
                  <a:pt x="1947" y="1470"/>
                </a:lnTo>
                <a:lnTo>
                  <a:pt x="1899" y="1448"/>
                </a:lnTo>
                <a:lnTo>
                  <a:pt x="1866" y="1411"/>
                </a:lnTo>
                <a:lnTo>
                  <a:pt x="1853" y="1384"/>
                </a:lnTo>
                <a:lnTo>
                  <a:pt x="1829" y="1353"/>
                </a:lnTo>
                <a:lnTo>
                  <a:pt x="1792" y="1283"/>
                </a:lnTo>
                <a:lnTo>
                  <a:pt x="1759" y="1289"/>
                </a:lnTo>
                <a:lnTo>
                  <a:pt x="1715" y="1322"/>
                </a:lnTo>
                <a:lnTo>
                  <a:pt x="1695" y="1350"/>
                </a:lnTo>
                <a:lnTo>
                  <a:pt x="1656" y="1403"/>
                </a:lnTo>
                <a:lnTo>
                  <a:pt x="1628" y="1459"/>
                </a:lnTo>
                <a:lnTo>
                  <a:pt x="1617" y="1478"/>
                </a:lnTo>
                <a:lnTo>
                  <a:pt x="1628" y="1543"/>
                </a:lnTo>
                <a:lnTo>
                  <a:pt x="1625" y="1607"/>
                </a:lnTo>
                <a:lnTo>
                  <a:pt x="1590" y="1651"/>
                </a:lnTo>
                <a:lnTo>
                  <a:pt x="1571" y="1654"/>
                </a:lnTo>
                <a:lnTo>
                  <a:pt x="1529" y="1562"/>
                </a:lnTo>
                <a:lnTo>
                  <a:pt x="1496" y="1498"/>
                </a:lnTo>
                <a:lnTo>
                  <a:pt x="1431" y="1375"/>
                </a:lnTo>
                <a:lnTo>
                  <a:pt x="1428" y="1328"/>
                </a:lnTo>
                <a:lnTo>
                  <a:pt x="1413" y="1305"/>
                </a:lnTo>
                <a:lnTo>
                  <a:pt x="1402" y="1336"/>
                </a:lnTo>
                <a:lnTo>
                  <a:pt x="1345" y="1266"/>
                </a:lnTo>
                <a:lnTo>
                  <a:pt x="1269" y="1213"/>
                </a:lnTo>
                <a:lnTo>
                  <a:pt x="1221" y="1225"/>
                </a:lnTo>
                <a:lnTo>
                  <a:pt x="1151" y="1219"/>
                </a:lnTo>
                <a:lnTo>
                  <a:pt x="1118" y="1180"/>
                </a:lnTo>
                <a:lnTo>
                  <a:pt x="1081" y="1185"/>
                </a:lnTo>
                <a:lnTo>
                  <a:pt x="1028" y="1169"/>
                </a:lnTo>
                <a:lnTo>
                  <a:pt x="919" y="1038"/>
                </a:lnTo>
                <a:lnTo>
                  <a:pt x="925" y="1091"/>
                </a:lnTo>
                <a:lnTo>
                  <a:pt x="958" y="1166"/>
                </a:lnTo>
                <a:lnTo>
                  <a:pt x="995" y="1219"/>
                </a:lnTo>
                <a:lnTo>
                  <a:pt x="1035" y="1247"/>
                </a:lnTo>
                <a:lnTo>
                  <a:pt x="1078" y="1225"/>
                </a:lnTo>
                <a:lnTo>
                  <a:pt x="1113" y="1225"/>
                </a:lnTo>
                <a:lnTo>
                  <a:pt x="1159" y="1272"/>
                </a:lnTo>
                <a:lnTo>
                  <a:pt x="1186" y="1308"/>
                </a:lnTo>
                <a:lnTo>
                  <a:pt x="1181" y="1331"/>
                </a:lnTo>
                <a:lnTo>
                  <a:pt x="1103" y="1434"/>
                </a:lnTo>
                <a:lnTo>
                  <a:pt x="1050" y="1473"/>
                </a:lnTo>
                <a:lnTo>
                  <a:pt x="941" y="1523"/>
                </a:lnTo>
                <a:lnTo>
                  <a:pt x="908" y="1540"/>
                </a:lnTo>
                <a:lnTo>
                  <a:pt x="888" y="1523"/>
                </a:lnTo>
                <a:lnTo>
                  <a:pt x="882" y="1503"/>
                </a:lnTo>
                <a:lnTo>
                  <a:pt x="879" y="1473"/>
                </a:lnTo>
                <a:lnTo>
                  <a:pt x="871" y="1442"/>
                </a:lnTo>
                <a:lnTo>
                  <a:pt x="855" y="1417"/>
                </a:lnTo>
                <a:lnTo>
                  <a:pt x="842" y="1395"/>
                </a:lnTo>
                <a:lnTo>
                  <a:pt x="823" y="1364"/>
                </a:lnTo>
                <a:lnTo>
                  <a:pt x="812" y="1344"/>
                </a:lnTo>
                <a:lnTo>
                  <a:pt x="803" y="1319"/>
                </a:lnTo>
                <a:lnTo>
                  <a:pt x="788" y="1297"/>
                </a:lnTo>
                <a:lnTo>
                  <a:pt x="763" y="1241"/>
                </a:lnTo>
                <a:lnTo>
                  <a:pt x="750" y="1219"/>
                </a:lnTo>
                <a:lnTo>
                  <a:pt x="733" y="1188"/>
                </a:lnTo>
                <a:lnTo>
                  <a:pt x="704" y="1146"/>
                </a:lnTo>
                <a:lnTo>
                  <a:pt x="689" y="1121"/>
                </a:lnTo>
                <a:lnTo>
                  <a:pt x="676" y="1105"/>
                </a:lnTo>
                <a:lnTo>
                  <a:pt x="661" y="1068"/>
                </a:lnTo>
                <a:lnTo>
                  <a:pt x="707" y="1035"/>
                </a:lnTo>
                <a:lnTo>
                  <a:pt x="726" y="962"/>
                </a:lnTo>
                <a:lnTo>
                  <a:pt x="683" y="943"/>
                </a:lnTo>
                <a:lnTo>
                  <a:pt x="623" y="954"/>
                </a:lnTo>
                <a:lnTo>
                  <a:pt x="610" y="946"/>
                </a:lnTo>
                <a:lnTo>
                  <a:pt x="604" y="946"/>
                </a:lnTo>
                <a:lnTo>
                  <a:pt x="595" y="946"/>
                </a:lnTo>
                <a:lnTo>
                  <a:pt x="588" y="946"/>
                </a:lnTo>
                <a:lnTo>
                  <a:pt x="586" y="932"/>
                </a:lnTo>
                <a:lnTo>
                  <a:pt x="582" y="920"/>
                </a:lnTo>
                <a:lnTo>
                  <a:pt x="582" y="898"/>
                </a:lnTo>
                <a:lnTo>
                  <a:pt x="571" y="887"/>
                </a:lnTo>
                <a:lnTo>
                  <a:pt x="569" y="873"/>
                </a:lnTo>
                <a:lnTo>
                  <a:pt x="562" y="870"/>
                </a:lnTo>
                <a:lnTo>
                  <a:pt x="556" y="859"/>
                </a:lnTo>
                <a:lnTo>
                  <a:pt x="553" y="848"/>
                </a:lnTo>
                <a:lnTo>
                  <a:pt x="549" y="837"/>
                </a:lnTo>
                <a:lnTo>
                  <a:pt x="545" y="831"/>
                </a:lnTo>
                <a:lnTo>
                  <a:pt x="532" y="831"/>
                </a:lnTo>
                <a:lnTo>
                  <a:pt x="523" y="831"/>
                </a:lnTo>
                <a:lnTo>
                  <a:pt x="518" y="831"/>
                </a:lnTo>
                <a:lnTo>
                  <a:pt x="516" y="845"/>
                </a:lnTo>
                <a:lnTo>
                  <a:pt x="516" y="859"/>
                </a:lnTo>
                <a:lnTo>
                  <a:pt x="516" y="876"/>
                </a:lnTo>
                <a:lnTo>
                  <a:pt x="516" y="893"/>
                </a:lnTo>
                <a:lnTo>
                  <a:pt x="516" y="904"/>
                </a:lnTo>
                <a:lnTo>
                  <a:pt x="505" y="909"/>
                </a:lnTo>
                <a:lnTo>
                  <a:pt x="497" y="920"/>
                </a:lnTo>
                <a:lnTo>
                  <a:pt x="483" y="904"/>
                </a:lnTo>
                <a:lnTo>
                  <a:pt x="475" y="881"/>
                </a:lnTo>
                <a:lnTo>
                  <a:pt x="477" y="856"/>
                </a:lnTo>
                <a:lnTo>
                  <a:pt x="464" y="823"/>
                </a:lnTo>
                <a:lnTo>
                  <a:pt x="457" y="801"/>
                </a:lnTo>
                <a:lnTo>
                  <a:pt x="442" y="787"/>
                </a:lnTo>
                <a:lnTo>
                  <a:pt x="424" y="773"/>
                </a:lnTo>
                <a:lnTo>
                  <a:pt x="416" y="753"/>
                </a:lnTo>
                <a:lnTo>
                  <a:pt x="409" y="739"/>
                </a:lnTo>
                <a:lnTo>
                  <a:pt x="394" y="736"/>
                </a:lnTo>
                <a:lnTo>
                  <a:pt x="389" y="728"/>
                </a:lnTo>
                <a:lnTo>
                  <a:pt x="378" y="728"/>
                </a:lnTo>
                <a:lnTo>
                  <a:pt x="370" y="742"/>
                </a:lnTo>
                <a:lnTo>
                  <a:pt x="361" y="753"/>
                </a:lnTo>
                <a:lnTo>
                  <a:pt x="381" y="767"/>
                </a:lnTo>
                <a:lnTo>
                  <a:pt x="392" y="787"/>
                </a:lnTo>
                <a:lnTo>
                  <a:pt x="411" y="812"/>
                </a:lnTo>
                <a:lnTo>
                  <a:pt x="420" y="823"/>
                </a:lnTo>
                <a:lnTo>
                  <a:pt x="435" y="831"/>
                </a:lnTo>
                <a:lnTo>
                  <a:pt x="446" y="848"/>
                </a:lnTo>
                <a:lnTo>
                  <a:pt x="433" y="868"/>
                </a:lnTo>
                <a:lnTo>
                  <a:pt x="431" y="859"/>
                </a:lnTo>
                <a:lnTo>
                  <a:pt x="431" y="848"/>
                </a:lnTo>
                <a:lnTo>
                  <a:pt x="424" y="873"/>
                </a:lnTo>
                <a:lnTo>
                  <a:pt x="422" y="895"/>
                </a:lnTo>
                <a:lnTo>
                  <a:pt x="409" y="901"/>
                </a:lnTo>
                <a:lnTo>
                  <a:pt x="413" y="873"/>
                </a:lnTo>
                <a:lnTo>
                  <a:pt x="411" y="859"/>
                </a:lnTo>
                <a:lnTo>
                  <a:pt x="396" y="851"/>
                </a:lnTo>
                <a:lnTo>
                  <a:pt x="389" y="845"/>
                </a:lnTo>
                <a:lnTo>
                  <a:pt x="383" y="834"/>
                </a:lnTo>
                <a:lnTo>
                  <a:pt x="370" y="828"/>
                </a:lnTo>
                <a:lnTo>
                  <a:pt x="361" y="820"/>
                </a:lnTo>
                <a:lnTo>
                  <a:pt x="352" y="803"/>
                </a:lnTo>
                <a:lnTo>
                  <a:pt x="341" y="795"/>
                </a:lnTo>
                <a:lnTo>
                  <a:pt x="335" y="778"/>
                </a:lnTo>
                <a:lnTo>
                  <a:pt x="333" y="764"/>
                </a:lnTo>
                <a:lnTo>
                  <a:pt x="324" y="759"/>
                </a:lnTo>
                <a:lnTo>
                  <a:pt x="315" y="750"/>
                </a:lnTo>
                <a:lnTo>
                  <a:pt x="298" y="750"/>
                </a:lnTo>
                <a:lnTo>
                  <a:pt x="282" y="753"/>
                </a:lnTo>
                <a:lnTo>
                  <a:pt x="265" y="750"/>
                </a:lnTo>
                <a:lnTo>
                  <a:pt x="234" y="753"/>
                </a:lnTo>
                <a:lnTo>
                  <a:pt x="212" y="756"/>
                </a:lnTo>
                <a:lnTo>
                  <a:pt x="206" y="762"/>
                </a:lnTo>
                <a:lnTo>
                  <a:pt x="203" y="778"/>
                </a:lnTo>
                <a:lnTo>
                  <a:pt x="203" y="798"/>
                </a:lnTo>
                <a:lnTo>
                  <a:pt x="190" y="817"/>
                </a:lnTo>
                <a:lnTo>
                  <a:pt x="182" y="826"/>
                </a:lnTo>
                <a:lnTo>
                  <a:pt x="177" y="831"/>
                </a:lnTo>
                <a:lnTo>
                  <a:pt x="171" y="845"/>
                </a:lnTo>
                <a:lnTo>
                  <a:pt x="166" y="856"/>
                </a:lnTo>
                <a:lnTo>
                  <a:pt x="173" y="865"/>
                </a:lnTo>
                <a:lnTo>
                  <a:pt x="173" y="881"/>
                </a:lnTo>
                <a:lnTo>
                  <a:pt x="171" y="890"/>
                </a:lnTo>
                <a:lnTo>
                  <a:pt x="166" y="901"/>
                </a:lnTo>
                <a:lnTo>
                  <a:pt x="155" y="920"/>
                </a:lnTo>
                <a:lnTo>
                  <a:pt x="149" y="912"/>
                </a:lnTo>
                <a:lnTo>
                  <a:pt x="142" y="918"/>
                </a:lnTo>
                <a:lnTo>
                  <a:pt x="133" y="926"/>
                </a:lnTo>
                <a:lnTo>
                  <a:pt x="120" y="929"/>
                </a:lnTo>
                <a:lnTo>
                  <a:pt x="107" y="943"/>
                </a:lnTo>
                <a:lnTo>
                  <a:pt x="94" y="946"/>
                </a:lnTo>
                <a:lnTo>
                  <a:pt x="81" y="946"/>
                </a:lnTo>
                <a:lnTo>
                  <a:pt x="68" y="946"/>
                </a:lnTo>
                <a:lnTo>
                  <a:pt x="39" y="954"/>
                </a:lnTo>
                <a:lnTo>
                  <a:pt x="26" y="954"/>
                </a:lnTo>
                <a:lnTo>
                  <a:pt x="20" y="934"/>
                </a:lnTo>
                <a:lnTo>
                  <a:pt x="13" y="909"/>
                </a:lnTo>
                <a:lnTo>
                  <a:pt x="9" y="887"/>
                </a:lnTo>
                <a:lnTo>
                  <a:pt x="7" y="865"/>
                </a:lnTo>
                <a:lnTo>
                  <a:pt x="7" y="837"/>
                </a:lnTo>
                <a:lnTo>
                  <a:pt x="0" y="803"/>
                </a:lnTo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0" y="0"/>
            <a:ext cx="3063600" cy="5333760"/>
            <a:chOff x="0" y="0"/>
            <a:chExt cx="3063600" cy="5333760"/>
          </a:xfrm>
        </p:grpSpPr>
        <p:sp>
          <p:nvSpPr>
            <p:cNvPr id="230" name=""/>
            <p:cNvSpPr/>
            <p:nvPr/>
          </p:nvSpPr>
          <p:spPr>
            <a:xfrm>
              <a:off x="0" y="235080"/>
              <a:ext cx="2072160" cy="2496960"/>
            </a:xfrm>
            <a:custGeom>
              <a:avLst/>
              <a:gdLst/>
              <a:ahLst/>
              <a:rect l="l" t="t" r="r" b="b"/>
              <a:pathLst>
                <a:path w="1419" h="1550">
                  <a:moveTo>
                    <a:pt x="0" y="398"/>
                  </a:moveTo>
                  <a:lnTo>
                    <a:pt x="68" y="345"/>
                  </a:lnTo>
                  <a:lnTo>
                    <a:pt x="107" y="323"/>
                  </a:lnTo>
                  <a:lnTo>
                    <a:pt x="114" y="290"/>
                  </a:lnTo>
                  <a:lnTo>
                    <a:pt x="83" y="270"/>
                  </a:lnTo>
                  <a:lnTo>
                    <a:pt x="81" y="231"/>
                  </a:lnTo>
                  <a:lnTo>
                    <a:pt x="94" y="220"/>
                  </a:lnTo>
                  <a:lnTo>
                    <a:pt x="92" y="203"/>
                  </a:lnTo>
                  <a:lnTo>
                    <a:pt x="144" y="198"/>
                  </a:lnTo>
                  <a:lnTo>
                    <a:pt x="157" y="167"/>
                  </a:lnTo>
                  <a:lnTo>
                    <a:pt x="159" y="139"/>
                  </a:lnTo>
                  <a:lnTo>
                    <a:pt x="203" y="131"/>
                  </a:lnTo>
                  <a:lnTo>
                    <a:pt x="208" y="103"/>
                  </a:lnTo>
                  <a:lnTo>
                    <a:pt x="166" y="95"/>
                  </a:lnTo>
                  <a:lnTo>
                    <a:pt x="186" y="75"/>
                  </a:lnTo>
                  <a:lnTo>
                    <a:pt x="253" y="75"/>
                  </a:lnTo>
                  <a:lnTo>
                    <a:pt x="273" y="53"/>
                  </a:lnTo>
                  <a:lnTo>
                    <a:pt x="302" y="50"/>
                  </a:lnTo>
                  <a:lnTo>
                    <a:pt x="319" y="33"/>
                  </a:lnTo>
                  <a:lnTo>
                    <a:pt x="341" y="64"/>
                  </a:lnTo>
                  <a:lnTo>
                    <a:pt x="426" y="59"/>
                  </a:lnTo>
                  <a:lnTo>
                    <a:pt x="465" y="92"/>
                  </a:lnTo>
                  <a:lnTo>
                    <a:pt x="592" y="84"/>
                  </a:lnTo>
                  <a:lnTo>
                    <a:pt x="612" y="67"/>
                  </a:lnTo>
                  <a:lnTo>
                    <a:pt x="660" y="95"/>
                  </a:lnTo>
                  <a:lnTo>
                    <a:pt x="710" y="120"/>
                  </a:lnTo>
                  <a:lnTo>
                    <a:pt x="734" y="109"/>
                  </a:lnTo>
                  <a:lnTo>
                    <a:pt x="749" y="95"/>
                  </a:lnTo>
                  <a:lnTo>
                    <a:pt x="791" y="103"/>
                  </a:lnTo>
                  <a:lnTo>
                    <a:pt x="763" y="84"/>
                  </a:lnTo>
                  <a:lnTo>
                    <a:pt x="736" y="86"/>
                  </a:lnTo>
                  <a:lnTo>
                    <a:pt x="697" y="92"/>
                  </a:lnTo>
                  <a:lnTo>
                    <a:pt x="677" y="64"/>
                  </a:lnTo>
                  <a:lnTo>
                    <a:pt x="655" y="50"/>
                  </a:lnTo>
                  <a:lnTo>
                    <a:pt x="655" y="28"/>
                  </a:lnTo>
                  <a:lnTo>
                    <a:pt x="662" y="3"/>
                  </a:lnTo>
                  <a:lnTo>
                    <a:pt x="680" y="0"/>
                  </a:lnTo>
                  <a:lnTo>
                    <a:pt x="704" y="22"/>
                  </a:lnTo>
                  <a:lnTo>
                    <a:pt x="710" y="11"/>
                  </a:lnTo>
                  <a:lnTo>
                    <a:pt x="730" y="0"/>
                  </a:lnTo>
                  <a:lnTo>
                    <a:pt x="754" y="17"/>
                  </a:lnTo>
                  <a:lnTo>
                    <a:pt x="767" y="3"/>
                  </a:lnTo>
                  <a:lnTo>
                    <a:pt x="780" y="25"/>
                  </a:lnTo>
                  <a:lnTo>
                    <a:pt x="782" y="39"/>
                  </a:lnTo>
                  <a:lnTo>
                    <a:pt x="817" y="59"/>
                  </a:lnTo>
                  <a:lnTo>
                    <a:pt x="804" y="75"/>
                  </a:lnTo>
                  <a:lnTo>
                    <a:pt x="804" y="98"/>
                  </a:lnTo>
                  <a:lnTo>
                    <a:pt x="863" y="103"/>
                  </a:lnTo>
                  <a:lnTo>
                    <a:pt x="878" y="75"/>
                  </a:lnTo>
                  <a:lnTo>
                    <a:pt x="867" y="61"/>
                  </a:lnTo>
                  <a:lnTo>
                    <a:pt x="841" y="64"/>
                  </a:lnTo>
                  <a:lnTo>
                    <a:pt x="848" y="33"/>
                  </a:lnTo>
                  <a:lnTo>
                    <a:pt x="900" y="50"/>
                  </a:lnTo>
                  <a:lnTo>
                    <a:pt x="911" y="72"/>
                  </a:lnTo>
                  <a:lnTo>
                    <a:pt x="955" y="72"/>
                  </a:lnTo>
                  <a:lnTo>
                    <a:pt x="994" y="100"/>
                  </a:lnTo>
                  <a:lnTo>
                    <a:pt x="1016" y="95"/>
                  </a:lnTo>
                  <a:lnTo>
                    <a:pt x="1040" y="120"/>
                  </a:lnTo>
                  <a:lnTo>
                    <a:pt x="1016" y="153"/>
                  </a:lnTo>
                  <a:lnTo>
                    <a:pt x="996" y="128"/>
                  </a:lnTo>
                  <a:lnTo>
                    <a:pt x="983" y="137"/>
                  </a:lnTo>
                  <a:lnTo>
                    <a:pt x="966" y="156"/>
                  </a:lnTo>
                  <a:lnTo>
                    <a:pt x="937" y="173"/>
                  </a:lnTo>
                  <a:lnTo>
                    <a:pt x="953" y="198"/>
                  </a:lnTo>
                  <a:lnTo>
                    <a:pt x="926" y="201"/>
                  </a:lnTo>
                  <a:lnTo>
                    <a:pt x="905" y="234"/>
                  </a:lnTo>
                  <a:lnTo>
                    <a:pt x="883" y="276"/>
                  </a:lnTo>
                  <a:lnTo>
                    <a:pt x="915" y="312"/>
                  </a:lnTo>
                  <a:lnTo>
                    <a:pt x="942" y="354"/>
                  </a:lnTo>
                  <a:lnTo>
                    <a:pt x="988" y="359"/>
                  </a:lnTo>
                  <a:lnTo>
                    <a:pt x="1031" y="354"/>
                  </a:lnTo>
                  <a:lnTo>
                    <a:pt x="1051" y="376"/>
                  </a:lnTo>
                  <a:lnTo>
                    <a:pt x="1042" y="387"/>
                  </a:lnTo>
                  <a:lnTo>
                    <a:pt x="1029" y="410"/>
                  </a:lnTo>
                  <a:lnTo>
                    <a:pt x="1049" y="449"/>
                  </a:lnTo>
                  <a:lnTo>
                    <a:pt x="1055" y="476"/>
                  </a:lnTo>
                  <a:lnTo>
                    <a:pt x="1079" y="490"/>
                  </a:lnTo>
                  <a:lnTo>
                    <a:pt x="1112" y="465"/>
                  </a:lnTo>
                  <a:lnTo>
                    <a:pt x="1103" y="429"/>
                  </a:lnTo>
                  <a:lnTo>
                    <a:pt x="1075" y="398"/>
                  </a:lnTo>
                  <a:lnTo>
                    <a:pt x="1108" y="362"/>
                  </a:lnTo>
                  <a:lnTo>
                    <a:pt x="1079" y="301"/>
                  </a:lnTo>
                  <a:lnTo>
                    <a:pt x="1053" y="276"/>
                  </a:lnTo>
                  <a:lnTo>
                    <a:pt x="1075" y="254"/>
                  </a:lnTo>
                  <a:lnTo>
                    <a:pt x="1071" y="220"/>
                  </a:lnTo>
                  <a:lnTo>
                    <a:pt x="1086" y="201"/>
                  </a:lnTo>
                  <a:lnTo>
                    <a:pt x="1112" y="220"/>
                  </a:lnTo>
                  <a:lnTo>
                    <a:pt x="1173" y="293"/>
                  </a:lnTo>
                  <a:lnTo>
                    <a:pt x="1210" y="304"/>
                  </a:lnTo>
                  <a:lnTo>
                    <a:pt x="1221" y="284"/>
                  </a:lnTo>
                  <a:lnTo>
                    <a:pt x="1213" y="245"/>
                  </a:lnTo>
                  <a:lnTo>
                    <a:pt x="1234" y="251"/>
                  </a:lnTo>
                  <a:lnTo>
                    <a:pt x="1272" y="295"/>
                  </a:lnTo>
                  <a:lnTo>
                    <a:pt x="1278" y="320"/>
                  </a:lnTo>
                  <a:lnTo>
                    <a:pt x="1300" y="337"/>
                  </a:lnTo>
                  <a:lnTo>
                    <a:pt x="1344" y="357"/>
                  </a:lnTo>
                  <a:lnTo>
                    <a:pt x="1366" y="393"/>
                  </a:lnTo>
                  <a:lnTo>
                    <a:pt x="1398" y="418"/>
                  </a:lnTo>
                  <a:lnTo>
                    <a:pt x="1416" y="426"/>
                  </a:lnTo>
                  <a:lnTo>
                    <a:pt x="1418" y="449"/>
                  </a:lnTo>
                  <a:lnTo>
                    <a:pt x="1392" y="462"/>
                  </a:lnTo>
                  <a:lnTo>
                    <a:pt x="1376" y="446"/>
                  </a:lnTo>
                  <a:lnTo>
                    <a:pt x="1363" y="449"/>
                  </a:lnTo>
                  <a:lnTo>
                    <a:pt x="1359" y="485"/>
                  </a:lnTo>
                  <a:lnTo>
                    <a:pt x="1337" y="493"/>
                  </a:lnTo>
                  <a:lnTo>
                    <a:pt x="1313" y="474"/>
                  </a:lnTo>
                  <a:lnTo>
                    <a:pt x="1263" y="474"/>
                  </a:lnTo>
                  <a:lnTo>
                    <a:pt x="1256" y="515"/>
                  </a:lnTo>
                  <a:lnTo>
                    <a:pt x="1269" y="540"/>
                  </a:lnTo>
                  <a:lnTo>
                    <a:pt x="1289" y="527"/>
                  </a:lnTo>
                  <a:lnTo>
                    <a:pt x="1309" y="521"/>
                  </a:lnTo>
                  <a:lnTo>
                    <a:pt x="1328" y="535"/>
                  </a:lnTo>
                  <a:lnTo>
                    <a:pt x="1302" y="566"/>
                  </a:lnTo>
                  <a:lnTo>
                    <a:pt x="1328" y="593"/>
                  </a:lnTo>
                  <a:lnTo>
                    <a:pt x="1363" y="602"/>
                  </a:lnTo>
                  <a:lnTo>
                    <a:pt x="1359" y="618"/>
                  </a:lnTo>
                  <a:lnTo>
                    <a:pt x="1346" y="621"/>
                  </a:lnTo>
                  <a:lnTo>
                    <a:pt x="1313" y="716"/>
                  </a:lnTo>
                  <a:lnTo>
                    <a:pt x="1315" y="655"/>
                  </a:lnTo>
                  <a:lnTo>
                    <a:pt x="1331" y="624"/>
                  </a:lnTo>
                  <a:lnTo>
                    <a:pt x="1313" y="610"/>
                  </a:lnTo>
                  <a:lnTo>
                    <a:pt x="1293" y="630"/>
                  </a:lnTo>
                  <a:lnTo>
                    <a:pt x="1304" y="646"/>
                  </a:lnTo>
                  <a:lnTo>
                    <a:pt x="1289" y="657"/>
                  </a:lnTo>
                  <a:lnTo>
                    <a:pt x="1274" y="671"/>
                  </a:lnTo>
                  <a:lnTo>
                    <a:pt x="1276" y="713"/>
                  </a:lnTo>
                  <a:lnTo>
                    <a:pt x="1254" y="727"/>
                  </a:lnTo>
                  <a:lnTo>
                    <a:pt x="1224" y="730"/>
                  </a:lnTo>
                  <a:lnTo>
                    <a:pt x="1234" y="752"/>
                  </a:lnTo>
                  <a:lnTo>
                    <a:pt x="1224" y="777"/>
                  </a:lnTo>
                  <a:lnTo>
                    <a:pt x="1234" y="797"/>
                  </a:lnTo>
                  <a:lnTo>
                    <a:pt x="1217" y="839"/>
                  </a:lnTo>
                  <a:lnTo>
                    <a:pt x="1210" y="878"/>
                  </a:lnTo>
                  <a:lnTo>
                    <a:pt x="1184" y="900"/>
                  </a:lnTo>
                  <a:lnTo>
                    <a:pt x="1151" y="961"/>
                  </a:lnTo>
                  <a:lnTo>
                    <a:pt x="1147" y="1003"/>
                  </a:lnTo>
                  <a:lnTo>
                    <a:pt x="1158" y="1036"/>
                  </a:lnTo>
                  <a:lnTo>
                    <a:pt x="1173" y="1078"/>
                  </a:lnTo>
                  <a:lnTo>
                    <a:pt x="1182" y="1123"/>
                  </a:lnTo>
                  <a:lnTo>
                    <a:pt x="1167" y="1142"/>
                  </a:lnTo>
                  <a:lnTo>
                    <a:pt x="1147" y="1128"/>
                  </a:lnTo>
                  <a:lnTo>
                    <a:pt x="1151" y="1106"/>
                  </a:lnTo>
                  <a:lnTo>
                    <a:pt x="1141" y="1056"/>
                  </a:lnTo>
                  <a:lnTo>
                    <a:pt x="1127" y="1048"/>
                  </a:lnTo>
                  <a:lnTo>
                    <a:pt x="1119" y="1017"/>
                  </a:lnTo>
                  <a:lnTo>
                    <a:pt x="1101" y="1017"/>
                  </a:lnTo>
                  <a:lnTo>
                    <a:pt x="1082" y="1000"/>
                  </a:lnTo>
                  <a:lnTo>
                    <a:pt x="1060" y="1006"/>
                  </a:lnTo>
                  <a:lnTo>
                    <a:pt x="1040" y="995"/>
                  </a:lnTo>
                  <a:lnTo>
                    <a:pt x="1016" y="1009"/>
                  </a:lnTo>
                  <a:lnTo>
                    <a:pt x="972" y="997"/>
                  </a:lnTo>
                  <a:lnTo>
                    <a:pt x="1001" y="1034"/>
                  </a:lnTo>
                  <a:lnTo>
                    <a:pt x="966" y="1031"/>
                  </a:lnTo>
                  <a:lnTo>
                    <a:pt x="942" y="1003"/>
                  </a:lnTo>
                  <a:lnTo>
                    <a:pt x="898" y="1003"/>
                  </a:lnTo>
                  <a:lnTo>
                    <a:pt x="905" y="1048"/>
                  </a:lnTo>
                  <a:lnTo>
                    <a:pt x="872" y="1034"/>
                  </a:lnTo>
                  <a:lnTo>
                    <a:pt x="854" y="1078"/>
                  </a:lnTo>
                  <a:lnTo>
                    <a:pt x="867" y="1098"/>
                  </a:lnTo>
                  <a:lnTo>
                    <a:pt x="854" y="1151"/>
                  </a:lnTo>
                  <a:lnTo>
                    <a:pt x="870" y="1212"/>
                  </a:lnTo>
                  <a:lnTo>
                    <a:pt x="887" y="1254"/>
                  </a:lnTo>
                  <a:lnTo>
                    <a:pt x="907" y="1293"/>
                  </a:lnTo>
                  <a:lnTo>
                    <a:pt x="966" y="1290"/>
                  </a:lnTo>
                  <a:lnTo>
                    <a:pt x="990" y="1282"/>
                  </a:lnTo>
                  <a:lnTo>
                    <a:pt x="994" y="1254"/>
                  </a:lnTo>
                  <a:lnTo>
                    <a:pt x="981" y="1231"/>
                  </a:lnTo>
                  <a:lnTo>
                    <a:pt x="983" y="1212"/>
                  </a:lnTo>
                  <a:lnTo>
                    <a:pt x="1020" y="1217"/>
                  </a:lnTo>
                  <a:lnTo>
                    <a:pt x="1057" y="1206"/>
                  </a:lnTo>
                  <a:lnTo>
                    <a:pt x="1057" y="1231"/>
                  </a:lnTo>
                  <a:lnTo>
                    <a:pt x="1047" y="1268"/>
                  </a:lnTo>
                  <a:lnTo>
                    <a:pt x="1029" y="1295"/>
                  </a:lnTo>
                  <a:lnTo>
                    <a:pt x="1025" y="1334"/>
                  </a:lnTo>
                  <a:lnTo>
                    <a:pt x="1049" y="1351"/>
                  </a:lnTo>
                  <a:lnTo>
                    <a:pt x="1082" y="1346"/>
                  </a:lnTo>
                  <a:lnTo>
                    <a:pt x="1101" y="1360"/>
                  </a:lnTo>
                  <a:lnTo>
                    <a:pt x="1119" y="1354"/>
                  </a:lnTo>
                  <a:lnTo>
                    <a:pt x="1125" y="1379"/>
                  </a:lnTo>
                  <a:lnTo>
                    <a:pt x="1110" y="1415"/>
                  </a:lnTo>
                  <a:lnTo>
                    <a:pt x="1123" y="1438"/>
                  </a:lnTo>
                  <a:lnTo>
                    <a:pt x="1125" y="1482"/>
                  </a:lnTo>
                  <a:lnTo>
                    <a:pt x="1147" y="1513"/>
                  </a:lnTo>
                  <a:lnTo>
                    <a:pt x="1175" y="1521"/>
                  </a:lnTo>
                  <a:lnTo>
                    <a:pt x="1195" y="1513"/>
                  </a:lnTo>
                  <a:lnTo>
                    <a:pt x="1204" y="1516"/>
                  </a:lnTo>
                  <a:lnTo>
                    <a:pt x="1241" y="1516"/>
                  </a:lnTo>
                  <a:lnTo>
                    <a:pt x="1274" y="1518"/>
                  </a:lnTo>
                  <a:lnTo>
                    <a:pt x="1283" y="1499"/>
                  </a:lnTo>
                  <a:lnTo>
                    <a:pt x="1254" y="1532"/>
                  </a:lnTo>
                  <a:lnTo>
                    <a:pt x="1234" y="1529"/>
                  </a:lnTo>
                  <a:lnTo>
                    <a:pt x="1215" y="1532"/>
                  </a:lnTo>
                  <a:lnTo>
                    <a:pt x="1175" y="1549"/>
                  </a:lnTo>
                  <a:lnTo>
                    <a:pt x="1143" y="1527"/>
                  </a:lnTo>
                  <a:lnTo>
                    <a:pt x="1112" y="1513"/>
                  </a:lnTo>
                  <a:lnTo>
                    <a:pt x="1099" y="1516"/>
                  </a:lnTo>
                  <a:lnTo>
                    <a:pt x="1101" y="1496"/>
                  </a:lnTo>
                  <a:lnTo>
                    <a:pt x="1099" y="1465"/>
                  </a:lnTo>
                  <a:lnTo>
                    <a:pt x="1073" y="1438"/>
                  </a:lnTo>
                  <a:lnTo>
                    <a:pt x="1018" y="1421"/>
                  </a:lnTo>
                  <a:lnTo>
                    <a:pt x="1009" y="1410"/>
                  </a:lnTo>
                  <a:lnTo>
                    <a:pt x="994" y="1412"/>
                  </a:lnTo>
                  <a:lnTo>
                    <a:pt x="979" y="1399"/>
                  </a:lnTo>
                  <a:lnTo>
                    <a:pt x="959" y="1385"/>
                  </a:lnTo>
                  <a:lnTo>
                    <a:pt x="933" y="1346"/>
                  </a:lnTo>
                  <a:lnTo>
                    <a:pt x="902" y="1334"/>
                  </a:lnTo>
                  <a:lnTo>
                    <a:pt x="885" y="1360"/>
                  </a:lnTo>
                  <a:lnTo>
                    <a:pt x="865" y="1340"/>
                  </a:lnTo>
                  <a:lnTo>
                    <a:pt x="841" y="1340"/>
                  </a:lnTo>
                  <a:lnTo>
                    <a:pt x="793" y="1326"/>
                  </a:lnTo>
                  <a:lnTo>
                    <a:pt x="706" y="1259"/>
                  </a:lnTo>
                  <a:lnTo>
                    <a:pt x="699" y="1190"/>
                  </a:lnTo>
                  <a:lnTo>
                    <a:pt x="690" y="1162"/>
                  </a:lnTo>
                  <a:lnTo>
                    <a:pt x="675" y="1142"/>
                  </a:lnTo>
                  <a:lnTo>
                    <a:pt x="655" y="1103"/>
                  </a:lnTo>
                  <a:lnTo>
                    <a:pt x="564" y="970"/>
                  </a:lnTo>
                  <a:lnTo>
                    <a:pt x="564" y="1020"/>
                  </a:lnTo>
                  <a:lnTo>
                    <a:pt x="621" y="1109"/>
                  </a:lnTo>
                  <a:lnTo>
                    <a:pt x="645" y="1184"/>
                  </a:lnTo>
                  <a:lnTo>
                    <a:pt x="610" y="1167"/>
                  </a:lnTo>
                  <a:lnTo>
                    <a:pt x="603" y="1123"/>
                  </a:lnTo>
                  <a:lnTo>
                    <a:pt x="557" y="1095"/>
                  </a:lnTo>
                  <a:lnTo>
                    <a:pt x="583" y="1078"/>
                  </a:lnTo>
                  <a:lnTo>
                    <a:pt x="522" y="1031"/>
                  </a:lnTo>
                  <a:lnTo>
                    <a:pt x="546" y="1003"/>
                  </a:lnTo>
                  <a:lnTo>
                    <a:pt x="524" y="947"/>
                  </a:lnTo>
                  <a:lnTo>
                    <a:pt x="450" y="830"/>
                  </a:lnTo>
                  <a:lnTo>
                    <a:pt x="441" y="763"/>
                  </a:lnTo>
                  <a:lnTo>
                    <a:pt x="446" y="713"/>
                  </a:lnTo>
                  <a:lnTo>
                    <a:pt x="465" y="657"/>
                  </a:lnTo>
                  <a:lnTo>
                    <a:pt x="465" y="602"/>
                  </a:lnTo>
                  <a:lnTo>
                    <a:pt x="450" y="568"/>
                  </a:lnTo>
                  <a:lnTo>
                    <a:pt x="492" y="557"/>
                  </a:lnTo>
                  <a:lnTo>
                    <a:pt x="441" y="490"/>
                  </a:lnTo>
                  <a:lnTo>
                    <a:pt x="444" y="460"/>
                  </a:lnTo>
                  <a:lnTo>
                    <a:pt x="422" y="418"/>
                  </a:lnTo>
                  <a:lnTo>
                    <a:pt x="430" y="393"/>
                  </a:lnTo>
                  <a:lnTo>
                    <a:pt x="415" y="379"/>
                  </a:lnTo>
                  <a:lnTo>
                    <a:pt x="413" y="351"/>
                  </a:lnTo>
                  <a:lnTo>
                    <a:pt x="398" y="329"/>
                  </a:lnTo>
                  <a:lnTo>
                    <a:pt x="415" y="309"/>
                  </a:lnTo>
                  <a:lnTo>
                    <a:pt x="391" y="295"/>
                  </a:lnTo>
                  <a:lnTo>
                    <a:pt x="371" y="315"/>
                  </a:lnTo>
                  <a:lnTo>
                    <a:pt x="343" y="276"/>
                  </a:lnTo>
                  <a:lnTo>
                    <a:pt x="312" y="265"/>
                  </a:lnTo>
                  <a:lnTo>
                    <a:pt x="269" y="265"/>
                  </a:lnTo>
                  <a:lnTo>
                    <a:pt x="240" y="301"/>
                  </a:lnTo>
                  <a:lnTo>
                    <a:pt x="227" y="290"/>
                  </a:lnTo>
                  <a:lnTo>
                    <a:pt x="251" y="242"/>
                  </a:lnTo>
                  <a:lnTo>
                    <a:pt x="229" y="251"/>
                  </a:lnTo>
                  <a:lnTo>
                    <a:pt x="186" y="301"/>
                  </a:lnTo>
                  <a:lnTo>
                    <a:pt x="140" y="345"/>
                  </a:lnTo>
                  <a:lnTo>
                    <a:pt x="98" y="357"/>
                  </a:lnTo>
                  <a:lnTo>
                    <a:pt x="28" y="401"/>
                  </a:lnTo>
                  <a:lnTo>
                    <a:pt x="0" y="398"/>
                  </a:lnTo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80680" y="0"/>
              <a:ext cx="705240" cy="657000"/>
            </a:xfrm>
            <a:custGeom>
              <a:avLst/>
              <a:gdLst/>
              <a:ahLst/>
              <a:rect l="l" t="t" r="r" b="b"/>
              <a:pathLst>
                <a:path w="483" h="408">
                  <a:moveTo>
                    <a:pt x="0" y="84"/>
                  </a:moveTo>
                  <a:lnTo>
                    <a:pt x="11" y="53"/>
                  </a:lnTo>
                  <a:lnTo>
                    <a:pt x="11" y="31"/>
                  </a:lnTo>
                  <a:lnTo>
                    <a:pt x="28" y="0"/>
                  </a:lnTo>
                  <a:lnTo>
                    <a:pt x="116" y="20"/>
                  </a:lnTo>
                  <a:lnTo>
                    <a:pt x="266" y="56"/>
                  </a:lnTo>
                  <a:lnTo>
                    <a:pt x="325" y="86"/>
                  </a:lnTo>
                  <a:lnTo>
                    <a:pt x="403" y="114"/>
                  </a:lnTo>
                  <a:lnTo>
                    <a:pt x="443" y="167"/>
                  </a:lnTo>
                  <a:lnTo>
                    <a:pt x="482" y="192"/>
                  </a:lnTo>
                  <a:lnTo>
                    <a:pt x="467" y="212"/>
                  </a:lnTo>
                  <a:lnTo>
                    <a:pt x="467" y="237"/>
                  </a:lnTo>
                  <a:lnTo>
                    <a:pt x="451" y="243"/>
                  </a:lnTo>
                  <a:lnTo>
                    <a:pt x="438" y="265"/>
                  </a:lnTo>
                  <a:lnTo>
                    <a:pt x="451" y="287"/>
                  </a:lnTo>
                  <a:lnTo>
                    <a:pt x="449" y="304"/>
                  </a:lnTo>
                  <a:lnTo>
                    <a:pt x="434" y="326"/>
                  </a:lnTo>
                  <a:lnTo>
                    <a:pt x="436" y="348"/>
                  </a:lnTo>
                  <a:lnTo>
                    <a:pt x="462" y="371"/>
                  </a:lnTo>
                  <a:lnTo>
                    <a:pt x="465" y="393"/>
                  </a:lnTo>
                  <a:lnTo>
                    <a:pt x="458" y="404"/>
                  </a:lnTo>
                  <a:lnTo>
                    <a:pt x="432" y="407"/>
                  </a:lnTo>
                  <a:lnTo>
                    <a:pt x="412" y="396"/>
                  </a:lnTo>
                  <a:lnTo>
                    <a:pt x="390" y="368"/>
                  </a:lnTo>
                  <a:lnTo>
                    <a:pt x="382" y="368"/>
                  </a:lnTo>
                  <a:lnTo>
                    <a:pt x="371" y="357"/>
                  </a:lnTo>
                  <a:lnTo>
                    <a:pt x="360" y="323"/>
                  </a:lnTo>
                  <a:lnTo>
                    <a:pt x="347" y="312"/>
                  </a:lnTo>
                  <a:lnTo>
                    <a:pt x="318" y="295"/>
                  </a:lnTo>
                  <a:lnTo>
                    <a:pt x="294" y="284"/>
                  </a:lnTo>
                  <a:lnTo>
                    <a:pt x="260" y="254"/>
                  </a:lnTo>
                  <a:lnTo>
                    <a:pt x="244" y="231"/>
                  </a:lnTo>
                  <a:lnTo>
                    <a:pt x="246" y="215"/>
                  </a:lnTo>
                  <a:lnTo>
                    <a:pt x="262" y="201"/>
                  </a:lnTo>
                  <a:lnTo>
                    <a:pt x="249" y="184"/>
                  </a:lnTo>
                  <a:lnTo>
                    <a:pt x="236" y="192"/>
                  </a:lnTo>
                  <a:lnTo>
                    <a:pt x="214" y="167"/>
                  </a:lnTo>
                  <a:lnTo>
                    <a:pt x="209" y="181"/>
                  </a:lnTo>
                  <a:lnTo>
                    <a:pt x="190" y="181"/>
                  </a:lnTo>
                  <a:lnTo>
                    <a:pt x="185" y="170"/>
                  </a:lnTo>
                  <a:lnTo>
                    <a:pt x="185" y="151"/>
                  </a:lnTo>
                  <a:lnTo>
                    <a:pt x="177" y="139"/>
                  </a:lnTo>
                  <a:lnTo>
                    <a:pt x="164" y="142"/>
                  </a:lnTo>
                  <a:lnTo>
                    <a:pt x="146" y="112"/>
                  </a:lnTo>
                  <a:lnTo>
                    <a:pt x="133" y="109"/>
                  </a:lnTo>
                  <a:lnTo>
                    <a:pt x="113" y="95"/>
                  </a:lnTo>
                  <a:lnTo>
                    <a:pt x="72" y="98"/>
                  </a:lnTo>
                  <a:lnTo>
                    <a:pt x="31" y="95"/>
                  </a:lnTo>
                  <a:lnTo>
                    <a:pt x="0" y="84"/>
                  </a:lnTo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40640" y="230400"/>
              <a:ext cx="449640" cy="338040"/>
            </a:xfrm>
            <a:custGeom>
              <a:avLst/>
              <a:gdLst/>
              <a:ahLst/>
              <a:rect l="l" t="t" r="r" b="b"/>
              <a:pathLst>
                <a:path w="308" h="210">
                  <a:moveTo>
                    <a:pt x="11" y="0"/>
                  </a:moveTo>
                  <a:lnTo>
                    <a:pt x="0" y="17"/>
                  </a:lnTo>
                  <a:lnTo>
                    <a:pt x="0" y="36"/>
                  </a:lnTo>
                  <a:lnTo>
                    <a:pt x="22" y="56"/>
                  </a:lnTo>
                  <a:lnTo>
                    <a:pt x="35" y="50"/>
                  </a:lnTo>
                  <a:lnTo>
                    <a:pt x="39" y="59"/>
                  </a:lnTo>
                  <a:lnTo>
                    <a:pt x="52" y="61"/>
                  </a:lnTo>
                  <a:lnTo>
                    <a:pt x="61" y="47"/>
                  </a:lnTo>
                  <a:lnTo>
                    <a:pt x="91" y="50"/>
                  </a:lnTo>
                  <a:lnTo>
                    <a:pt x="95" y="64"/>
                  </a:lnTo>
                  <a:lnTo>
                    <a:pt x="106" y="70"/>
                  </a:lnTo>
                  <a:lnTo>
                    <a:pt x="132" y="67"/>
                  </a:lnTo>
                  <a:lnTo>
                    <a:pt x="141" y="75"/>
                  </a:lnTo>
                  <a:lnTo>
                    <a:pt x="154" y="84"/>
                  </a:lnTo>
                  <a:lnTo>
                    <a:pt x="164" y="100"/>
                  </a:lnTo>
                  <a:lnTo>
                    <a:pt x="164" y="123"/>
                  </a:lnTo>
                  <a:lnTo>
                    <a:pt x="156" y="128"/>
                  </a:lnTo>
                  <a:lnTo>
                    <a:pt x="160" y="137"/>
                  </a:lnTo>
                  <a:lnTo>
                    <a:pt x="147" y="150"/>
                  </a:lnTo>
                  <a:lnTo>
                    <a:pt x="147" y="170"/>
                  </a:lnTo>
                  <a:lnTo>
                    <a:pt x="166" y="173"/>
                  </a:lnTo>
                  <a:lnTo>
                    <a:pt x="177" y="167"/>
                  </a:lnTo>
                  <a:lnTo>
                    <a:pt x="182" y="159"/>
                  </a:lnTo>
                  <a:lnTo>
                    <a:pt x="188" y="167"/>
                  </a:lnTo>
                  <a:lnTo>
                    <a:pt x="199" y="162"/>
                  </a:lnTo>
                  <a:lnTo>
                    <a:pt x="223" y="173"/>
                  </a:lnTo>
                  <a:lnTo>
                    <a:pt x="238" y="192"/>
                  </a:lnTo>
                  <a:lnTo>
                    <a:pt x="242" y="192"/>
                  </a:lnTo>
                  <a:lnTo>
                    <a:pt x="244" y="203"/>
                  </a:lnTo>
                  <a:lnTo>
                    <a:pt x="259" y="209"/>
                  </a:lnTo>
                  <a:lnTo>
                    <a:pt x="277" y="209"/>
                  </a:lnTo>
                  <a:lnTo>
                    <a:pt x="266" y="198"/>
                  </a:lnTo>
                  <a:lnTo>
                    <a:pt x="270" y="187"/>
                  </a:lnTo>
                  <a:lnTo>
                    <a:pt x="283" y="198"/>
                  </a:lnTo>
                  <a:lnTo>
                    <a:pt x="298" y="201"/>
                  </a:lnTo>
                  <a:lnTo>
                    <a:pt x="301" y="184"/>
                  </a:lnTo>
                  <a:lnTo>
                    <a:pt x="285" y="170"/>
                  </a:lnTo>
                  <a:lnTo>
                    <a:pt x="275" y="170"/>
                  </a:lnTo>
                  <a:lnTo>
                    <a:pt x="259" y="156"/>
                  </a:lnTo>
                  <a:lnTo>
                    <a:pt x="275" y="156"/>
                  </a:lnTo>
                  <a:lnTo>
                    <a:pt x="285" y="164"/>
                  </a:lnTo>
                  <a:lnTo>
                    <a:pt x="307" y="164"/>
                  </a:lnTo>
                  <a:lnTo>
                    <a:pt x="303" y="148"/>
                  </a:lnTo>
                  <a:lnTo>
                    <a:pt x="283" y="131"/>
                  </a:lnTo>
                  <a:lnTo>
                    <a:pt x="270" y="128"/>
                  </a:lnTo>
                  <a:lnTo>
                    <a:pt x="251" y="109"/>
                  </a:lnTo>
                  <a:lnTo>
                    <a:pt x="227" y="103"/>
                  </a:lnTo>
                  <a:lnTo>
                    <a:pt x="208" y="95"/>
                  </a:lnTo>
                  <a:lnTo>
                    <a:pt x="192" y="70"/>
                  </a:lnTo>
                  <a:lnTo>
                    <a:pt x="182" y="39"/>
                  </a:lnTo>
                  <a:lnTo>
                    <a:pt x="166" y="39"/>
                  </a:lnTo>
                  <a:lnTo>
                    <a:pt x="162" y="31"/>
                  </a:lnTo>
                  <a:lnTo>
                    <a:pt x="154" y="33"/>
                  </a:lnTo>
                  <a:lnTo>
                    <a:pt x="138" y="20"/>
                  </a:lnTo>
                  <a:lnTo>
                    <a:pt x="112" y="14"/>
                  </a:lnTo>
                  <a:lnTo>
                    <a:pt x="102" y="22"/>
                  </a:lnTo>
                  <a:lnTo>
                    <a:pt x="78" y="14"/>
                  </a:lnTo>
                  <a:lnTo>
                    <a:pt x="63" y="14"/>
                  </a:lnTo>
                  <a:lnTo>
                    <a:pt x="56" y="3"/>
                  </a:lnTo>
                  <a:lnTo>
                    <a:pt x="50" y="0"/>
                  </a:lnTo>
                  <a:lnTo>
                    <a:pt x="39" y="3"/>
                  </a:lnTo>
                  <a:lnTo>
                    <a:pt x="11" y="0"/>
                  </a:lnTo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95880" y="2110320"/>
              <a:ext cx="319680" cy="157680"/>
            </a:xfrm>
            <a:custGeom>
              <a:avLst/>
              <a:gdLst/>
              <a:ahLst/>
              <a:rect l="l" t="t" r="r" b="b"/>
              <a:pathLst>
                <a:path w="219" h="98">
                  <a:moveTo>
                    <a:pt x="0" y="49"/>
                  </a:moveTo>
                  <a:lnTo>
                    <a:pt x="19" y="20"/>
                  </a:lnTo>
                  <a:lnTo>
                    <a:pt x="28" y="20"/>
                  </a:lnTo>
                  <a:lnTo>
                    <a:pt x="43" y="6"/>
                  </a:lnTo>
                  <a:lnTo>
                    <a:pt x="60" y="6"/>
                  </a:lnTo>
                  <a:lnTo>
                    <a:pt x="65" y="3"/>
                  </a:lnTo>
                  <a:lnTo>
                    <a:pt x="71" y="0"/>
                  </a:lnTo>
                  <a:lnTo>
                    <a:pt x="93" y="17"/>
                  </a:lnTo>
                  <a:lnTo>
                    <a:pt x="99" y="29"/>
                  </a:lnTo>
                  <a:lnTo>
                    <a:pt x="104" y="23"/>
                  </a:lnTo>
                  <a:lnTo>
                    <a:pt x="121" y="34"/>
                  </a:lnTo>
                  <a:lnTo>
                    <a:pt x="132" y="34"/>
                  </a:lnTo>
                  <a:lnTo>
                    <a:pt x="140" y="43"/>
                  </a:lnTo>
                  <a:lnTo>
                    <a:pt x="155" y="49"/>
                  </a:lnTo>
                  <a:lnTo>
                    <a:pt x="155" y="63"/>
                  </a:lnTo>
                  <a:lnTo>
                    <a:pt x="183" y="63"/>
                  </a:lnTo>
                  <a:lnTo>
                    <a:pt x="190" y="77"/>
                  </a:lnTo>
                  <a:lnTo>
                    <a:pt x="207" y="77"/>
                  </a:lnTo>
                  <a:lnTo>
                    <a:pt x="218" y="94"/>
                  </a:lnTo>
                  <a:lnTo>
                    <a:pt x="212" y="97"/>
                  </a:lnTo>
                  <a:lnTo>
                    <a:pt x="207" y="91"/>
                  </a:lnTo>
                  <a:lnTo>
                    <a:pt x="205" y="88"/>
                  </a:lnTo>
                  <a:lnTo>
                    <a:pt x="190" y="91"/>
                  </a:lnTo>
                  <a:lnTo>
                    <a:pt x="186" y="94"/>
                  </a:lnTo>
                  <a:lnTo>
                    <a:pt x="173" y="97"/>
                  </a:lnTo>
                  <a:lnTo>
                    <a:pt x="153" y="97"/>
                  </a:lnTo>
                  <a:lnTo>
                    <a:pt x="140" y="97"/>
                  </a:lnTo>
                  <a:lnTo>
                    <a:pt x="140" y="88"/>
                  </a:lnTo>
                  <a:lnTo>
                    <a:pt x="121" y="66"/>
                  </a:lnTo>
                  <a:lnTo>
                    <a:pt x="121" y="51"/>
                  </a:lnTo>
                  <a:lnTo>
                    <a:pt x="99" y="51"/>
                  </a:lnTo>
                  <a:lnTo>
                    <a:pt x="91" y="43"/>
                  </a:lnTo>
                  <a:lnTo>
                    <a:pt x="84" y="51"/>
                  </a:lnTo>
                  <a:lnTo>
                    <a:pt x="78" y="40"/>
                  </a:lnTo>
                  <a:lnTo>
                    <a:pt x="71" y="40"/>
                  </a:lnTo>
                  <a:lnTo>
                    <a:pt x="71" y="26"/>
                  </a:lnTo>
                  <a:lnTo>
                    <a:pt x="65" y="20"/>
                  </a:lnTo>
                  <a:lnTo>
                    <a:pt x="45" y="23"/>
                  </a:lnTo>
                  <a:lnTo>
                    <a:pt x="32" y="40"/>
                  </a:lnTo>
                  <a:lnTo>
                    <a:pt x="17" y="43"/>
                  </a:lnTo>
                  <a:lnTo>
                    <a:pt x="0" y="49"/>
                  </a:lnTo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75240" y="2223000"/>
              <a:ext cx="211320" cy="133560"/>
            </a:xfrm>
            <a:custGeom>
              <a:avLst/>
              <a:gdLst/>
              <a:ahLst/>
              <a:rect l="l" t="t" r="r" b="b"/>
              <a:pathLst>
                <a:path w="145" h="83">
                  <a:moveTo>
                    <a:pt x="0" y="62"/>
                  </a:moveTo>
                  <a:lnTo>
                    <a:pt x="14" y="65"/>
                  </a:lnTo>
                  <a:lnTo>
                    <a:pt x="45" y="62"/>
                  </a:lnTo>
                  <a:lnTo>
                    <a:pt x="59" y="79"/>
                  </a:lnTo>
                  <a:lnTo>
                    <a:pt x="77" y="82"/>
                  </a:lnTo>
                  <a:lnTo>
                    <a:pt x="86" y="62"/>
                  </a:lnTo>
                  <a:lnTo>
                    <a:pt x="81" y="57"/>
                  </a:lnTo>
                  <a:lnTo>
                    <a:pt x="90" y="48"/>
                  </a:lnTo>
                  <a:lnTo>
                    <a:pt x="108" y="62"/>
                  </a:lnTo>
                  <a:lnTo>
                    <a:pt x="122" y="62"/>
                  </a:lnTo>
                  <a:lnTo>
                    <a:pt x="122" y="54"/>
                  </a:lnTo>
                  <a:lnTo>
                    <a:pt x="131" y="54"/>
                  </a:lnTo>
                  <a:lnTo>
                    <a:pt x="144" y="40"/>
                  </a:lnTo>
                  <a:lnTo>
                    <a:pt x="135" y="37"/>
                  </a:lnTo>
                  <a:lnTo>
                    <a:pt x="135" y="23"/>
                  </a:lnTo>
                  <a:lnTo>
                    <a:pt x="135" y="11"/>
                  </a:lnTo>
                  <a:lnTo>
                    <a:pt x="115" y="8"/>
                  </a:lnTo>
                  <a:lnTo>
                    <a:pt x="99" y="11"/>
                  </a:lnTo>
                  <a:lnTo>
                    <a:pt x="86" y="11"/>
                  </a:lnTo>
                  <a:lnTo>
                    <a:pt x="65" y="8"/>
                  </a:lnTo>
                  <a:lnTo>
                    <a:pt x="50" y="0"/>
                  </a:lnTo>
                  <a:lnTo>
                    <a:pt x="45" y="8"/>
                  </a:lnTo>
                  <a:lnTo>
                    <a:pt x="43" y="25"/>
                  </a:lnTo>
                  <a:lnTo>
                    <a:pt x="27" y="25"/>
                  </a:lnTo>
                  <a:lnTo>
                    <a:pt x="23" y="40"/>
                  </a:lnTo>
                  <a:lnTo>
                    <a:pt x="14" y="45"/>
                  </a:lnTo>
                  <a:lnTo>
                    <a:pt x="0" y="62"/>
                  </a:lnTo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44920" y="2598480"/>
              <a:ext cx="1318680" cy="2735280"/>
            </a:xfrm>
            <a:custGeom>
              <a:avLst/>
              <a:gdLst/>
              <a:ahLst/>
              <a:rect l="l" t="t" r="r" b="b"/>
              <a:pathLst>
                <a:path w="903" h="1698">
                  <a:moveTo>
                    <a:pt x="70" y="75"/>
                  </a:moveTo>
                  <a:lnTo>
                    <a:pt x="81" y="56"/>
                  </a:lnTo>
                  <a:lnTo>
                    <a:pt x="103" y="28"/>
                  </a:lnTo>
                  <a:lnTo>
                    <a:pt x="136" y="11"/>
                  </a:lnTo>
                  <a:lnTo>
                    <a:pt x="154" y="0"/>
                  </a:lnTo>
                  <a:lnTo>
                    <a:pt x="171" y="3"/>
                  </a:lnTo>
                  <a:lnTo>
                    <a:pt x="167" y="17"/>
                  </a:lnTo>
                  <a:lnTo>
                    <a:pt x="147" y="31"/>
                  </a:lnTo>
                  <a:lnTo>
                    <a:pt x="143" y="59"/>
                  </a:lnTo>
                  <a:lnTo>
                    <a:pt x="147" y="81"/>
                  </a:lnTo>
                  <a:lnTo>
                    <a:pt x="165" y="81"/>
                  </a:lnTo>
                  <a:lnTo>
                    <a:pt x="171" y="56"/>
                  </a:lnTo>
                  <a:lnTo>
                    <a:pt x="176" y="31"/>
                  </a:lnTo>
                  <a:lnTo>
                    <a:pt x="187" y="39"/>
                  </a:lnTo>
                  <a:lnTo>
                    <a:pt x="200" y="53"/>
                  </a:lnTo>
                  <a:lnTo>
                    <a:pt x="222" y="47"/>
                  </a:lnTo>
                  <a:lnTo>
                    <a:pt x="235" y="59"/>
                  </a:lnTo>
                  <a:lnTo>
                    <a:pt x="239" y="73"/>
                  </a:lnTo>
                  <a:lnTo>
                    <a:pt x="272" y="67"/>
                  </a:lnTo>
                  <a:lnTo>
                    <a:pt x="338" y="59"/>
                  </a:lnTo>
                  <a:lnTo>
                    <a:pt x="362" y="103"/>
                  </a:lnTo>
                  <a:lnTo>
                    <a:pt x="404" y="126"/>
                  </a:lnTo>
                  <a:lnTo>
                    <a:pt x="402" y="145"/>
                  </a:lnTo>
                  <a:lnTo>
                    <a:pt x="419" y="134"/>
                  </a:lnTo>
                  <a:lnTo>
                    <a:pt x="439" y="134"/>
                  </a:lnTo>
                  <a:lnTo>
                    <a:pt x="463" y="154"/>
                  </a:lnTo>
                  <a:lnTo>
                    <a:pt x="492" y="151"/>
                  </a:lnTo>
                  <a:lnTo>
                    <a:pt x="516" y="154"/>
                  </a:lnTo>
                  <a:lnTo>
                    <a:pt x="555" y="190"/>
                  </a:lnTo>
                  <a:lnTo>
                    <a:pt x="597" y="234"/>
                  </a:lnTo>
                  <a:lnTo>
                    <a:pt x="615" y="285"/>
                  </a:lnTo>
                  <a:lnTo>
                    <a:pt x="604" y="324"/>
                  </a:lnTo>
                  <a:lnTo>
                    <a:pt x="654" y="338"/>
                  </a:lnTo>
                  <a:lnTo>
                    <a:pt x="737" y="357"/>
                  </a:lnTo>
                  <a:lnTo>
                    <a:pt x="823" y="380"/>
                  </a:lnTo>
                  <a:lnTo>
                    <a:pt x="878" y="424"/>
                  </a:lnTo>
                  <a:lnTo>
                    <a:pt x="902" y="466"/>
                  </a:lnTo>
                  <a:lnTo>
                    <a:pt x="902" y="519"/>
                  </a:lnTo>
                  <a:lnTo>
                    <a:pt x="880" y="567"/>
                  </a:lnTo>
                  <a:lnTo>
                    <a:pt x="856" y="592"/>
                  </a:lnTo>
                  <a:lnTo>
                    <a:pt x="841" y="608"/>
                  </a:lnTo>
                  <a:lnTo>
                    <a:pt x="823" y="642"/>
                  </a:lnTo>
                  <a:lnTo>
                    <a:pt x="821" y="673"/>
                  </a:lnTo>
                  <a:lnTo>
                    <a:pt x="823" y="712"/>
                  </a:lnTo>
                  <a:lnTo>
                    <a:pt x="814" y="751"/>
                  </a:lnTo>
                  <a:lnTo>
                    <a:pt x="801" y="759"/>
                  </a:lnTo>
                  <a:lnTo>
                    <a:pt x="797" y="782"/>
                  </a:lnTo>
                  <a:lnTo>
                    <a:pt x="781" y="798"/>
                  </a:lnTo>
                  <a:lnTo>
                    <a:pt x="779" y="818"/>
                  </a:lnTo>
                  <a:lnTo>
                    <a:pt x="759" y="840"/>
                  </a:lnTo>
                  <a:lnTo>
                    <a:pt x="729" y="879"/>
                  </a:lnTo>
                  <a:lnTo>
                    <a:pt x="702" y="890"/>
                  </a:lnTo>
                  <a:lnTo>
                    <a:pt x="685" y="888"/>
                  </a:lnTo>
                  <a:lnTo>
                    <a:pt x="652" y="907"/>
                  </a:lnTo>
                  <a:lnTo>
                    <a:pt x="619" y="952"/>
                  </a:lnTo>
                  <a:lnTo>
                    <a:pt x="612" y="969"/>
                  </a:lnTo>
                  <a:lnTo>
                    <a:pt x="612" y="991"/>
                  </a:lnTo>
                  <a:lnTo>
                    <a:pt x="619" y="1016"/>
                  </a:lnTo>
                  <a:lnTo>
                    <a:pt x="604" y="1041"/>
                  </a:lnTo>
                  <a:lnTo>
                    <a:pt x="604" y="1061"/>
                  </a:lnTo>
                  <a:lnTo>
                    <a:pt x="577" y="1083"/>
                  </a:lnTo>
                  <a:lnTo>
                    <a:pt x="557" y="1100"/>
                  </a:lnTo>
                  <a:lnTo>
                    <a:pt x="542" y="1125"/>
                  </a:lnTo>
                  <a:lnTo>
                    <a:pt x="535" y="1150"/>
                  </a:lnTo>
                  <a:lnTo>
                    <a:pt x="514" y="1181"/>
                  </a:lnTo>
                  <a:lnTo>
                    <a:pt x="505" y="1175"/>
                  </a:lnTo>
                  <a:lnTo>
                    <a:pt x="487" y="1175"/>
                  </a:lnTo>
                  <a:lnTo>
                    <a:pt x="465" y="1186"/>
                  </a:lnTo>
                  <a:lnTo>
                    <a:pt x="481" y="1200"/>
                  </a:lnTo>
                  <a:lnTo>
                    <a:pt x="481" y="1228"/>
                  </a:lnTo>
                  <a:lnTo>
                    <a:pt x="478" y="1250"/>
                  </a:lnTo>
                  <a:lnTo>
                    <a:pt x="467" y="1267"/>
                  </a:lnTo>
                  <a:lnTo>
                    <a:pt x="439" y="1270"/>
                  </a:lnTo>
                  <a:lnTo>
                    <a:pt x="417" y="1278"/>
                  </a:lnTo>
                  <a:lnTo>
                    <a:pt x="406" y="1295"/>
                  </a:lnTo>
                  <a:lnTo>
                    <a:pt x="406" y="1323"/>
                  </a:lnTo>
                  <a:lnTo>
                    <a:pt x="380" y="1326"/>
                  </a:lnTo>
                  <a:lnTo>
                    <a:pt x="358" y="1323"/>
                  </a:lnTo>
                  <a:lnTo>
                    <a:pt x="351" y="1334"/>
                  </a:lnTo>
                  <a:lnTo>
                    <a:pt x="362" y="1345"/>
                  </a:lnTo>
                  <a:lnTo>
                    <a:pt x="356" y="1387"/>
                  </a:lnTo>
                  <a:lnTo>
                    <a:pt x="347" y="1423"/>
                  </a:lnTo>
                  <a:lnTo>
                    <a:pt x="318" y="1423"/>
                  </a:lnTo>
                  <a:lnTo>
                    <a:pt x="309" y="1437"/>
                  </a:lnTo>
                  <a:lnTo>
                    <a:pt x="312" y="1465"/>
                  </a:lnTo>
                  <a:lnTo>
                    <a:pt x="327" y="1465"/>
                  </a:lnTo>
                  <a:lnTo>
                    <a:pt x="338" y="1482"/>
                  </a:lnTo>
                  <a:lnTo>
                    <a:pt x="331" y="1510"/>
                  </a:lnTo>
                  <a:lnTo>
                    <a:pt x="316" y="1513"/>
                  </a:lnTo>
                  <a:lnTo>
                    <a:pt x="292" y="1524"/>
                  </a:lnTo>
                  <a:lnTo>
                    <a:pt x="285" y="1546"/>
                  </a:lnTo>
                  <a:lnTo>
                    <a:pt x="283" y="1580"/>
                  </a:lnTo>
                  <a:lnTo>
                    <a:pt x="268" y="1597"/>
                  </a:lnTo>
                  <a:lnTo>
                    <a:pt x="323" y="1652"/>
                  </a:lnTo>
                  <a:lnTo>
                    <a:pt x="338" y="1680"/>
                  </a:lnTo>
                  <a:lnTo>
                    <a:pt x="329" y="1697"/>
                  </a:lnTo>
                  <a:lnTo>
                    <a:pt x="305" y="1686"/>
                  </a:lnTo>
                  <a:lnTo>
                    <a:pt x="285" y="1664"/>
                  </a:lnTo>
                  <a:lnTo>
                    <a:pt x="257" y="1647"/>
                  </a:lnTo>
                  <a:lnTo>
                    <a:pt x="230" y="1619"/>
                  </a:lnTo>
                  <a:lnTo>
                    <a:pt x="213" y="1585"/>
                  </a:lnTo>
                  <a:lnTo>
                    <a:pt x="211" y="1557"/>
                  </a:lnTo>
                  <a:lnTo>
                    <a:pt x="215" y="1535"/>
                  </a:lnTo>
                  <a:lnTo>
                    <a:pt x="213" y="1354"/>
                  </a:lnTo>
                  <a:lnTo>
                    <a:pt x="206" y="1323"/>
                  </a:lnTo>
                  <a:lnTo>
                    <a:pt x="187" y="1289"/>
                  </a:lnTo>
                  <a:lnTo>
                    <a:pt x="187" y="1259"/>
                  </a:lnTo>
                  <a:lnTo>
                    <a:pt x="200" y="1223"/>
                  </a:lnTo>
                  <a:lnTo>
                    <a:pt x="211" y="1178"/>
                  </a:lnTo>
                  <a:lnTo>
                    <a:pt x="206" y="1133"/>
                  </a:lnTo>
                  <a:lnTo>
                    <a:pt x="204" y="1114"/>
                  </a:lnTo>
                  <a:lnTo>
                    <a:pt x="202" y="1089"/>
                  </a:lnTo>
                  <a:lnTo>
                    <a:pt x="208" y="1077"/>
                  </a:lnTo>
                  <a:lnTo>
                    <a:pt x="213" y="1027"/>
                  </a:lnTo>
                  <a:lnTo>
                    <a:pt x="208" y="1002"/>
                  </a:lnTo>
                  <a:lnTo>
                    <a:pt x="217" y="941"/>
                  </a:lnTo>
                  <a:lnTo>
                    <a:pt x="208" y="888"/>
                  </a:lnTo>
                  <a:lnTo>
                    <a:pt x="215" y="860"/>
                  </a:lnTo>
                  <a:lnTo>
                    <a:pt x="226" y="807"/>
                  </a:lnTo>
                  <a:lnTo>
                    <a:pt x="215" y="773"/>
                  </a:lnTo>
                  <a:lnTo>
                    <a:pt x="193" y="748"/>
                  </a:lnTo>
                  <a:lnTo>
                    <a:pt x="187" y="720"/>
                  </a:lnTo>
                  <a:lnTo>
                    <a:pt x="162" y="695"/>
                  </a:lnTo>
                  <a:lnTo>
                    <a:pt x="136" y="678"/>
                  </a:lnTo>
                  <a:lnTo>
                    <a:pt x="99" y="670"/>
                  </a:lnTo>
                  <a:lnTo>
                    <a:pt x="81" y="634"/>
                  </a:lnTo>
                  <a:lnTo>
                    <a:pt x="57" y="597"/>
                  </a:lnTo>
                  <a:lnTo>
                    <a:pt x="55" y="567"/>
                  </a:lnTo>
                  <a:lnTo>
                    <a:pt x="53" y="539"/>
                  </a:lnTo>
                  <a:lnTo>
                    <a:pt x="46" y="519"/>
                  </a:lnTo>
                  <a:lnTo>
                    <a:pt x="33" y="497"/>
                  </a:lnTo>
                  <a:lnTo>
                    <a:pt x="15" y="486"/>
                  </a:lnTo>
                  <a:lnTo>
                    <a:pt x="2" y="463"/>
                  </a:lnTo>
                  <a:lnTo>
                    <a:pt x="18" y="444"/>
                  </a:lnTo>
                  <a:lnTo>
                    <a:pt x="18" y="396"/>
                  </a:lnTo>
                  <a:lnTo>
                    <a:pt x="9" y="371"/>
                  </a:lnTo>
                  <a:lnTo>
                    <a:pt x="0" y="346"/>
                  </a:lnTo>
                  <a:lnTo>
                    <a:pt x="9" y="310"/>
                  </a:lnTo>
                  <a:lnTo>
                    <a:pt x="44" y="220"/>
                  </a:lnTo>
                  <a:lnTo>
                    <a:pt x="46" y="181"/>
                  </a:lnTo>
                  <a:lnTo>
                    <a:pt x="66" y="140"/>
                  </a:lnTo>
                  <a:lnTo>
                    <a:pt x="66" y="117"/>
                  </a:lnTo>
                  <a:lnTo>
                    <a:pt x="70" y="75"/>
                  </a:lnTo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547640" y="4572000"/>
            <a:ext cx="5943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Tahoma"/>
                <a:ea typeface="Arial"/>
              </a:rPr>
              <a:t>Robert A. Jon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Tahoma"/>
                <a:ea typeface="Arial"/>
              </a:rPr>
              <a:t>Memorial Medical Cent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Tahoma"/>
                <a:ea typeface="Arial"/>
              </a:rPr>
              <a:t>Adelaid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Tahoma"/>
                <a:ea typeface="Arial"/>
              </a:rPr>
              <a:t>South Austral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38280" y="36576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457200"/>
            <a:ext cx="9144000" cy="3124080"/>
          </a:xfrm>
          <a:prstGeom prst="rect">
            <a:avLst/>
          </a:prstGeom>
          <a:noFill/>
          <a:ln w="0">
            <a:noFill/>
          </a:ln>
          <a:effectLst>
            <a:outerShdw dist="56832" dir="19996359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ahoma"/>
                <a:ea typeface="Arial"/>
              </a:rPr>
              <a:t>Testosterone Replacement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ahoma"/>
                <a:ea typeface="Arial"/>
              </a:rPr>
              <a:t>for</a:t>
            </a:r>
            <a:br>
              <a:rPr sz="4000"/>
            </a:br>
            <a:r>
              <a:rPr b="1" lang="en-US" sz="4800" spc="-1" strike="noStrike">
                <a:solidFill>
                  <a:srgbClr val="ffff00"/>
                </a:solidFill>
                <a:latin typeface="Tahoma"/>
                <a:ea typeface="Arial"/>
              </a:rPr>
              <a:t>Men and Wome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7812000" y="4581360"/>
          <a:ext cx="487440" cy="459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812000" y="4581360"/>
                    <a:ext cx="48744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2819520" y="3645000"/>
          <a:ext cx="3504960" cy="533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819520" y="3645000"/>
                    <a:ext cx="35049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3" name="" descr=""/>
          <p:cNvPicPr/>
          <p:nvPr/>
        </p:nvPicPr>
        <p:blipFill>
          <a:blip r:embed="rId10"/>
          <a:stretch/>
        </p:blipFill>
        <p:spPr>
          <a:xfrm>
            <a:off x="4500720" y="350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0"/>
                            </p:stCondLst>
                            <p:childTnLst>
                              <p:par>
                                <p:cTn id="3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6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ahoma"/>
              </a:rPr>
              <a:t>Indications for testosterone replacemen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539640" y="2060280"/>
            <a:ext cx="83822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Symptom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Vulval discomfor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? Voiding dysfunc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Painful benign breast diseas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Tahoma"/>
              </a:rPr>
              <a:t>? Prevention of breast cancer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Osteoporosi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Dr. Robert A. J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4CD97-5E15-42DA-A95B-B3767EBB908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5E179FAA-AC94-4B7E-B5B9-23B1A762361A}" type="datetime3">
              <a:rPr lang="en-US"/>
              <a:t>July 29, 2026</a:t>
            </a:fld>
          </a:p>
        </p:txBody>
      </p:sp>
    </p:spTree>
  </p:cSld>
  <p:transition>
    <p:strips dir="ru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0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4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8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2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6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00"/>
                </a:solidFill>
                <a:uFillTx/>
                <a:latin typeface="Tahoma"/>
              </a:rPr>
              <a:t>Symptoms relieved</a:t>
            </a:r>
            <a:endParaRPr b="0" lang="en-US" sz="6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55280" y="1484280"/>
            <a:ext cx="7924680" cy="47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cc00"/>
              </a:buClr>
              <a:buSzPct val="12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Variable mood state-tearful or aggressive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12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oss of energy and stamina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12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mpaired concentration and memor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12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eneral skin and scalp hair drynes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12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oss of sexual arousabilit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12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ainful breast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12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Vulval skin dryness/ discomfort/ itching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12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Voiding disorder ?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12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Restored/ increased muscle strength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Dr. Robert A. J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AD4DC-C8F9-4110-9C96-05F87069A7B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30725EDA-4FFD-4593-89BE-9BB810F0CAE6}" type="datetime3">
              <a:rPr lang="en-US"/>
              <a:t>July 29, 2026</a:t>
            </a:fld>
          </a:p>
        </p:txBody>
      </p:sp>
    </p:spTree>
  </p:cSld>
  <p:transition>
    <p:strips dir="ru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9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3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7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1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5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9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3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7" dur="500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500"/>
                            </p:stCondLst>
                            <p:childTnLst>
                              <p:par>
                                <p:cTn id="19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1" dur="500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ahoma"/>
              </a:rPr>
              <a:t>Odds and end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900000" y="1773360"/>
            <a:ext cx="687240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may improve tachycardia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ems to suppress petit ma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(despite warnings on the P.I.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ome headaches improve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neck and back pai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mproves athletic competi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mproved sleep qualit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increases insulin sensitivit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lichen sclerosi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Dr. Robert A. J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6EBDB-3F83-4496-97AF-F664952E79D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87C8627E-63F0-4949-98BC-5284D5CA0953}" type="datetime3">
              <a:rPr lang="en-US"/>
              <a:t>July 29, 2026</a:t>
            </a:fld>
          </a:p>
        </p:txBody>
      </p:sp>
    </p:spTree>
  </p:cSld>
  <p:transition>
    <p:strips dir="ru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4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8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2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6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0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4" dur="5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500"/>
                            </p:stCondLst>
                            <p:childTnLst>
                              <p:par>
                                <p:cTn id="2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8" dur="5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2" dur="5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500"/>
                            </p:stCondLst>
                            <p:childTnLst>
                              <p:par>
                                <p:cTn id="24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6" dur="500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Objective aims of</a:t>
            </a:r>
            <a:br>
              <a:rPr sz="3200"/>
            </a:b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Androgen Replacement Therapy (ART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250920" y="1483920"/>
            <a:ext cx="864216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mproved quality of lif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crease bone density (5-12% p.a.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uppression benign breast diseas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eduction of the incidence of breast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ancer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aintain the cardioprotective effect of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R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mproved muscle strength (skeletal and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yocardial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Dr. Robert A. J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4F278-D2B7-4788-ADEE-66EFC03EAB0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6DDAC814-B435-4073-B5C8-1B29CD57AD0F}" type="datetime3">
              <a:rPr lang="en-US"/>
              <a:t>July 29, 2026</a:t>
            </a:fld>
          </a:p>
        </p:txBody>
      </p:sp>
    </p:spTree>
  </p:cSld>
  <p:transition>
    <p:strips dir="ru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9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3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7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1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5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9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ahoma"/>
              </a:rPr>
              <a:t>Side Effects </a:t>
            </a: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♀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250920" y="1628280"/>
            <a:ext cx="5256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vening restlessnes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xcess libid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nightmar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ossible relationship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disruptio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acial greasiness and acne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male type scalp hair los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acial hair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5724360" y="1557360"/>
            <a:ext cx="3162600" cy="476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Dr. Robert A. J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7D8D0-1D6B-417A-A138-1742F64B889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25CEEFBA-3EEA-4D2A-A0DD-9E79F6B86C1A}" type="datetime3">
              <a:rPr lang="en-US"/>
              <a:t>July 29, 2026</a:t>
            </a:fld>
          </a:p>
        </p:txBody>
      </p:sp>
    </p:spTree>
  </p:cSld>
  <p:transition>
    <p:strips dir="ru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2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6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0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4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500"/>
                            </p:stCondLst>
                            <p:childTnLst>
                              <p:par>
                                <p:cTn id="30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8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000"/>
                            </p:stCondLst>
                            <p:childTnLst>
                              <p:par>
                                <p:cTn id="31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2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500"/>
                            </p:stCondLst>
                            <p:childTnLst>
                              <p:par>
                                <p:cTn id="31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6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ahoma"/>
              </a:rPr>
              <a:t>Interpretation of blood tes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250920" y="1844640"/>
            <a:ext cx="8686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lood best taken in the morning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Tahoma"/>
              </a:rPr>
              <a:t>assay is not very accurat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isleading to do only total testosteron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lways request- “testosterone/SHBG”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nly free/active testosterone is releva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ontrol of the SHBG allows the effect or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ontrols excess replaceme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Dr. Robert A. J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1D20B-B2A6-4B7C-BDD5-B2BBCD766B4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5B9C01CA-85AB-494E-9036-6F09BCC48D03}" type="datetime3">
              <a:rPr lang="en-US"/>
              <a:t>July 29, 2026</a:t>
            </a:fld>
          </a:p>
        </p:txBody>
      </p:sp>
    </p:spTree>
  </p:cSld>
  <p:transition>
    <p:strips dir="ru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6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0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500"/>
                            </p:stCondLst>
                            <p:childTnLst>
                              <p:par>
                                <p:cTn id="35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4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8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2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6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ahoma"/>
              </a:rPr>
              <a:t>Preparations 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♂ &amp; ♀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38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ral- andrio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Tahoma"/>
              </a:rPr>
              <a:t>Patch- Androderm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jections- sustan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mplants- crystalline testosteron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opical-</a:t>
            </a: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locally ma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(cetomagrocol aqueous cream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not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ointment) 2-5%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or as Andro-Feme/ Andromen 1-10%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Dr. Robert A. J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FAB57-1130-49B2-87FB-AD23AB25AEA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24C9DCAA-B9DB-408E-9FB3-58875660EA5A}" type="datetime3">
              <a:rPr lang="en-US"/>
              <a:t>July 29, 2026</a:t>
            </a:fld>
          </a:p>
        </p:txBody>
      </p:sp>
    </p:spTree>
  </p:cSld>
  <p:transition>
    <p:strips dir="ru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9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3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7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1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5" dur="5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9" dur="5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ffff00"/>
                </a:solidFill>
                <a:latin typeface="Tahoma"/>
              </a:rPr>
              <a:t>Oestrogen and Testosterone Implants</a:t>
            </a:r>
            <a:endParaRPr b="0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547640" y="414936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Tahoma"/>
              </a:rPr>
              <a:t>Insertion techniqu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Tahoma"/>
              </a:rPr>
              <a:t>Dr Rob Baber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Tahoma"/>
              </a:rPr>
              <a:t>North Shore Menopause Clinic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Tahoma"/>
              </a:rPr>
              <a:t>4mins  50sec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Dr. Robert A. J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AD226-A13B-490E-B33D-F64D6A282D3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C04B613C-1710-403F-A1E1-1329A0E3549E}" type="datetime3">
              <a:rPr lang="en-US"/>
              <a:t>July 29, 2026</a:t>
            </a:fld>
          </a:p>
        </p:txBody>
      </p:sp>
    </p:spTree>
  </p:cSld>
  <p:transition>
    <p:strips dir="ru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A. Jon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0A38-5AA3-4310-B19B-3B1EC675CC96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32FA3-3D1D-4C0B-A93A-2A9BF237D219}" type="datetime3">
              <a:rPr lang="en-US"/>
              <a:t>July 29, 2026</a:t>
            </a:fld>
          </a:p>
        </p:txBody>
      </p:sp>
    </p:spTree>
  </p:cSld>
  <p:transition>
    <p:strips dir="ru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0" dur="216300" fill="hold"/>
                                        <p:tgtEl>
                                          <p:spTgt spid="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16300"/>
                            </p:stCondLst>
                            <p:childTnLst>
                              <p:par>
                                <p:cTn id="422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3" dur="1" fill="hold"/>
                                        <p:tgtEl>
                                          <p:spTgt spid="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here is very little data on the human female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here has been a data collection from my practice, undertaken on 512 women over 12 years.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A. J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E2A2-5CA2-4906-B7E1-E7E83014C00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7AA83-534D-4D80-B1A9-69E342396ECB}" type="datetime3">
              <a:rPr lang="en-US"/>
              <a:t>July 29, 2026</a:t>
            </a:fld>
          </a:p>
        </p:txBody>
      </p:sp>
    </p:spTree>
  </p:cSld>
  <p:transition>
    <p:strips dir="ru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2319480" y="620640"/>
            <a:ext cx="4506840" cy="57596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Tahoma"/>
              </a:rPr>
              <a:t>Presenting from the Premises of Port Power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A. J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4409-83B4-4C60-8FF5-2CFF6D09FD4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B0BA0-C85D-45FA-91BB-2AFFA8EFA8C3}" type="datetime3">
              <a:rPr lang="en-US"/>
              <a:t>July 29, 2026</a:t>
            </a:fld>
          </a:p>
        </p:txBody>
      </p:sp>
    </p:spTree>
  </p:cSld>
  <p:transition>
    <p:strips dir="r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914400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206064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  <a:ea typeface="Arial"/>
              </a:rPr>
              <a:t>My data is currently under continuing biostatistical analysis with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  <a:ea typeface="Arial"/>
              </a:rPr>
              <a:t>The National Institute of Health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  <a:ea typeface="Arial"/>
              </a:rPr>
              <a:t>Bethesda, Maryland, USA.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  <a:ea typeface="Arial"/>
              </a:rPr>
              <a:t>in an attempt to correlate the epidemiology with the basic scienc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28720" y="0"/>
            <a:ext cx="748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Arial"/>
              </a:rPr>
              <a:t>While my conclusions are therefore predominantly derived from my own clinical observations, there is current intense interest from the basic scientists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A. Jon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2D07-56D3-4947-B063-F758FED2B66C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AB87EF-4CB9-4D9B-9038-28337FA61834}" type="datetime3">
              <a:rPr lang="en-US"/>
              <a:t>July 29, 2026</a:t>
            </a:fld>
          </a:p>
        </p:txBody>
      </p:sp>
    </p:spTree>
  </p:cSld>
  <p:transition>
    <p:strips dir="ru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22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This analysis will focus mainly on the prevention of breast cancer but must include the parameters of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1258920" y="2637000"/>
            <a:ext cx="6705720" cy="36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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DL/LDL cholesterol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40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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one densit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addition t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</a:t>
            </a:r>
            <a:r>
              <a:rPr b="0" lang="en-AU" sz="4000" spc="-1" strike="noStrike">
                <a:solidFill>
                  <a:srgbClr val="ffff00"/>
                </a:solidFill>
                <a:latin typeface="Tahoma"/>
                <a:ea typeface="Arial"/>
              </a:rPr>
              <a:t> </a:t>
            </a:r>
            <a:r>
              <a:rPr b="0" lang="en-AU" sz="4000" spc="-1" strike="noStrike">
                <a:solidFill>
                  <a:srgbClr val="ffff00"/>
                </a:solidFill>
                <a:latin typeface="Tahoma"/>
                <a:ea typeface="Arial"/>
              </a:rPr>
              <a:t>	</a:t>
            </a:r>
            <a:r>
              <a:rPr b="0" lang="en-AU" sz="4000" spc="-1" strike="noStrike">
                <a:solidFill>
                  <a:srgbClr val="ffff00"/>
                </a:solidFill>
                <a:latin typeface="Times New Roman"/>
              </a:rPr>
              <a:t>Breast cance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A. J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C87A-BAAB-4832-9609-3CBA900AEB2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29F4ED-62DB-4F97-8FF3-940560D75CFF}" type="datetime3">
              <a:rPr lang="en-US"/>
              <a:t>July 29, 2026</a:t>
            </a:fld>
          </a:p>
        </p:txBody>
      </p:sp>
    </p:spTree>
  </p:cSld>
  <p:transition>
    <p:strips dir="ru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1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5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500"/>
                            </p:stCondLst>
                            <p:childTnLst>
                              <p:par>
                                <p:cTn id="46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9" dur="2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 u="sng">
                <a:solidFill>
                  <a:srgbClr val="ffff00"/>
                </a:solidFill>
                <a:uFillTx/>
                <a:latin typeface="Tahoma"/>
              </a:rPr>
              <a:t>Breast cancer result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893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Tahoma"/>
              </a:rPr>
              <a:t>Study group(ERT+ART)</a:t>
            </a:r>
            <a:r>
              <a:rPr b="0" lang="en-AU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AU" sz="2400" spc="-1" strike="noStrike">
                <a:solidFill>
                  <a:srgbClr val="ffff00"/>
                </a:solidFill>
                <a:latin typeface="Tahoma"/>
              </a:rPr>
              <a:t>7</a:t>
            </a:r>
            <a:r>
              <a:rPr b="1" lang="en-AU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AU" sz="2400" spc="-1" strike="noStrike">
                <a:solidFill>
                  <a:srgbClr val="ffff00"/>
                </a:solidFill>
                <a:latin typeface="Tahoma"/>
              </a:rPr>
              <a:t>breast cancer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Tahoma"/>
              </a:rPr>
              <a:t>Expected incidence ERT only)</a:t>
            </a:r>
            <a:r>
              <a:rPr b="0" lang="en-AU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AU" sz="2400" spc="-1" strike="noStrike">
                <a:solidFill>
                  <a:srgbClr val="ffff00"/>
                </a:solidFill>
                <a:latin typeface="Tahoma"/>
              </a:rPr>
              <a:t>12(14)    “        “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Tahoma"/>
              </a:rPr>
              <a:t>However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Tahoma"/>
              </a:rPr>
              <a:t>the 10-year breast cancer ‘free survival rate’ for patients in the trial was</a:t>
            </a:r>
            <a:r>
              <a:rPr b="0" lang="en-AU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ffff00"/>
                </a:solidFill>
                <a:latin typeface="Tahoma"/>
              </a:rPr>
              <a:t>&lt;</a:t>
            </a:r>
            <a:r>
              <a:rPr b="1" lang="en-AU" sz="2400" spc="-1" strike="noStrike">
                <a:solidFill>
                  <a:srgbClr val="ffff00"/>
                </a:solidFill>
                <a:latin typeface="Tahoma"/>
              </a:rPr>
              <a:t>97.41%.(no. reduced from 8 to 7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AU" sz="1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AU" sz="1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AU" sz="1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AU" sz="1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AU" sz="1400" spc="-1" strike="noStrike">
                <a:solidFill>
                  <a:srgbClr val="ffff00"/>
                </a:solidFill>
                <a:latin typeface="Tahoma"/>
              </a:rPr>
              <a:t>(95% c.i. 95.5-99.29%)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Tahoma"/>
              </a:rPr>
              <a:t>Compared to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Tahoma"/>
              </a:rPr>
              <a:t>the </a:t>
            </a:r>
            <a:r>
              <a:rPr b="0" lang="en-AU" sz="2400" spc="-1" strike="noStrike" u="sng">
                <a:solidFill>
                  <a:srgbClr val="ffff00"/>
                </a:solidFill>
                <a:uFillTx/>
                <a:latin typeface="Tahoma"/>
              </a:rPr>
              <a:t>expected</a:t>
            </a:r>
            <a:r>
              <a:rPr b="0" lang="en-AU" sz="2400" spc="-1" strike="noStrike">
                <a:solidFill>
                  <a:srgbClr val="ffff00"/>
                </a:solidFill>
                <a:latin typeface="Tahoma"/>
              </a:rPr>
              <a:t> rate of</a:t>
            </a:r>
            <a:r>
              <a:rPr b="0" lang="en-AU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AU" sz="2400" spc="-1" strike="noStrike">
                <a:solidFill>
                  <a:srgbClr val="ffff00"/>
                </a:solidFill>
                <a:latin typeface="Tahoma"/>
              </a:rPr>
              <a:t>97.52%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Tahoma"/>
              </a:rPr>
              <a:t>It would appear then that the survival from the diagnosis breast cancer did not differ from that of the South Australian population at large of whom 44.3% were taking oestrogens bu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Tahoma"/>
              </a:rPr>
              <a:t>may be shown to be reduced to statistical significance when compared to a population of 100% oestrogen users</a:t>
            </a: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Dr. Robert A. J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554FD-840A-4EBC-881D-8ED57B5FD6E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D9B70DB3-2C99-455B-8BBE-7AAD5B3D8122}" type="datetime3">
              <a:rPr lang="en-US"/>
              <a:t>July 29, 2026</a:t>
            </a:fld>
          </a:p>
        </p:txBody>
      </p:sp>
    </p:spTree>
  </p:cSld>
  <p:transition>
    <p:strips dir="ru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500"/>
                            </p:stCondLst>
                            <p:childTnLst>
                              <p:par>
                                <p:cTn id="4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500"/>
                            </p:stCondLst>
                            <p:childTnLst>
                              <p:par>
                                <p:cTn id="4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500"/>
                            </p:stCondLst>
                            <p:childTnLst>
                              <p:par>
                                <p:cTn id="5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0"/>
                            </p:stCondLst>
                            <p:childTnLst>
                              <p:par>
                                <p:cTn id="528" nodeType="afterEffect" fill="hold" presetClass="entr" presetID="55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 u="sng">
                <a:solidFill>
                  <a:srgbClr val="ffff00"/>
                </a:solidFill>
                <a:uFillTx/>
                <a:latin typeface="Tahoma"/>
              </a:rPr>
              <a:t>Bone density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250560" y="1557360"/>
            <a:ext cx="4321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Tahoma"/>
              </a:rPr>
              <a:t>The initial improvement in bone density of only 3.1% in either area fell short of expectation as did the overall loss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Tahoma"/>
              </a:rPr>
              <a:t>Declining densities in smaller numbers was attributed to non- responders to HR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4932360" y="1906560"/>
          <a:ext cx="3527280" cy="202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2360" y="1906560"/>
                    <a:ext cx="352728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4932360" y="4149720"/>
          <a:ext cx="3738600" cy="2147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32360" y="4149720"/>
                    <a:ext cx="373860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5586840" y="3860640"/>
            <a:ext cx="255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ffff00"/>
                </a:solidFill>
                <a:latin typeface="Tahoma"/>
                <a:ea typeface="Arial"/>
              </a:rPr>
              <a:t>Change in Hip Densit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51120" y="1484280"/>
            <a:ext cx="30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ffff00"/>
                </a:solidFill>
                <a:latin typeface="Tahoma"/>
                <a:ea typeface="Arial"/>
              </a:rPr>
              <a:t>Change in Lumbar Densit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Dr. Robert A. J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83316-D5FB-417E-B803-B946F4A8D5F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7447EF4F-8FD4-429B-B72D-46AD57E2A06C}" type="datetime3">
              <a:rPr lang="en-US"/>
              <a:t>July 29, 2026</a:t>
            </a:fld>
          </a:p>
        </p:txBody>
      </p:sp>
    </p:spTree>
  </p:cSld>
  <p:transition>
    <p:strips dir="ru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35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 u="sng">
                <a:solidFill>
                  <a:srgbClr val="ffff00"/>
                </a:solidFill>
                <a:uFillTx/>
                <a:latin typeface="Tahoma"/>
              </a:rPr>
              <a:t>Cholesterol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2447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It would appear that there was no serious adverse effect by the testosterone on these two markers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The mean levels while varying over time, would be acceptable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5940360" y="4437000"/>
          <a:ext cx="2952720" cy="197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4437000"/>
                    <a:ext cx="2952720" cy="19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6357600" y="393372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ffff00"/>
                </a:solidFill>
                <a:latin typeface="Tahoma"/>
                <a:ea typeface="Arial"/>
              </a:rPr>
              <a:t>LDL Cholestero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5796000" y="1749600"/>
          <a:ext cx="3097080" cy="2054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96000" y="1749600"/>
                    <a:ext cx="3097080" cy="20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6214680" y="1341360"/>
            <a:ext cx="19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ffff00"/>
                </a:solidFill>
                <a:latin typeface="Tahoma"/>
                <a:ea typeface="Arial"/>
              </a:rPr>
              <a:t>HDL Cholestero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A. J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CA39-1C6B-463F-8C17-9B7EE53F9FB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0A06A-BC6D-49EB-A096-96224644A7CB}" type="datetime3">
              <a:rPr lang="en-US"/>
              <a:t>July 29, 2026</a:t>
            </a:fld>
          </a:p>
        </p:txBody>
      </p:sp>
    </p:spTree>
  </p:cSld>
  <p:transition>
    <p:strips dir="ru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78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2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500"/>
                            </p:stCondLst>
                            <p:childTnLst>
                              <p:par>
                                <p:cTn id="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3000"/>
                            </p:stCondLst>
                            <p:childTnLst>
                              <p:par>
                                <p:cTn id="5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ahoma"/>
                <a:ea typeface="Arial"/>
              </a:rPr>
              <a:t>The Male Menopau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32000" y="2349360"/>
            <a:ext cx="648000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  <a:ea typeface="Arial"/>
              </a:rPr>
              <a:t>Good news and bad news!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Arial"/>
              </a:rPr>
              <a:t>The bad news is that the male menopause does exist…it is a reality and should be taken seriously..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Dr. Robert A. Jon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88E29-8174-4266-8599-722F1E9DB7CD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122C63DD-6886-4CDE-94E6-DEA02460357C}" type="datetime3">
              <a:rPr lang="en-US"/>
              <a:t>July 29, 2026</a:t>
            </a:fld>
          </a:p>
        </p:txBody>
      </p:sp>
    </p:spTree>
  </p:cSld>
  <p:transition>
    <p:strips dir="ru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000"/>
                            </p:stCondLst>
                            <p:childTnLst>
                              <p:par>
                                <p:cTn id="62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4000"/>
                            </p:stCondLst>
                            <p:childTnLst>
                              <p:par>
                                <p:cTn id="626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8550"/>
                            </p:stCondLst>
                            <p:childTnLst>
                              <p:par>
                                <p:cTn id="632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633" dur="2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32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Tahoma"/>
              </a:rPr>
              <a:t>The good news is that it is synchronous with</a:t>
            </a:r>
            <a:endParaRPr b="0" lang="en-US" sz="7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476360" y="55897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Prof. David Purdie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>
            <a:off x="2700360" y="3645000"/>
            <a:ext cx="36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3300"/>
                </a:solidFill>
                <a:latin typeface="Tahoma"/>
                <a:ea typeface="Arial"/>
              </a:rPr>
              <a:t>death!</a:t>
            </a:r>
            <a:endParaRPr b="0" lang="en-US" sz="8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A. J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A191-08B3-418A-98D3-8795B862A88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F5DE3D-8338-4031-8A71-E21E06721A8B}" type="datetime3">
              <a:rPr lang="en-US"/>
              <a:t>July 29, 2026</a:t>
            </a:fld>
          </a:p>
        </p:txBody>
      </p:sp>
    </p:spTree>
  </p:cSld>
  <p:transition>
    <p:strips dir="ru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6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4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507960" y="704880"/>
            <a:ext cx="8128080" cy="54482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1862280" y="4653000"/>
            <a:ext cx="5419440" cy="13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rumpy old men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A. Jon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3944-D20A-4520-AFAE-809EA38F462F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5D48E4-3051-4E89-9DD7-DD5D9F33E2C7}" type="datetime3">
              <a:rPr lang="en-US"/>
              <a:t>July 29, 2026</a:t>
            </a:fld>
          </a:p>
        </p:txBody>
      </p:sp>
    </p:spTree>
  </p:cSld>
  <p:transition>
    <p:strips dir="ru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3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000" spc="-1" strike="noStrike">
                <a:solidFill>
                  <a:srgbClr val="ffff00"/>
                </a:solidFill>
                <a:latin typeface="Tahoma"/>
              </a:rPr>
              <a:t>Testosterone can be dangerous stuff!</a:t>
            </a:r>
            <a:endParaRPr b="0" lang="en-US" sz="6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A. J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7A03-C404-47BC-B4E3-7FF330297CF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B839A0-BD5F-4FB9-8EBA-4A4F07607B2C}" type="datetime3">
              <a:rPr lang="en-US"/>
              <a:t>July 29, 2026</a:t>
            </a:fld>
          </a:p>
        </p:txBody>
      </p:sp>
    </p:spTree>
  </p:cSld>
  <p:transition>
    <p:strips dir="ru"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3" dur="2000" fill="hold"/>
                                        <p:tgtEl>
                                          <p:spTgt spid="3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0" y="-106200"/>
            <a:ext cx="9144000" cy="6235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A. Jon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7EE3-0F23-4860-A612-82E262AB939E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8A622-5C38-43B1-B059-568E5C661953}" type="datetime3">
              <a:rPr lang="en-US"/>
              <a:t>July 29, 2026</a:t>
            </a:fld>
          </a:p>
        </p:txBody>
      </p:sp>
    </p:spTree>
  </p:cSld>
  <p:transition>
    <p:strips dir="ru"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9" dur="41431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3352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  <a:ea typeface="Arial"/>
              </a:rPr>
              <a:t>While testosterone replacement is being used in women with good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  <a:ea typeface="Arial"/>
              </a:rPr>
              <a:t>effect…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ahoma"/>
                <a:ea typeface="Arial"/>
              </a:rPr>
              <a:t>it is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  <a:ea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  <a:ea typeface="Arial"/>
              </a:rPr>
              <a:t>used without the approval of the Australian Drug Evaluation Committee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  <a:ea typeface="Arial"/>
              </a:rPr>
              <a:t>…and the individual practitioner must take individual responsibility for it’s us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Dr. Robert A. Jon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B1D4C-D4AA-4876-8C62-36976B1301C6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3A0AD3F5-2434-4861-BAEB-86B50DF47501}" type="datetime3">
              <a:rPr lang="en-US"/>
              <a:t>July 29, 2026</a:t>
            </a:fld>
          </a:p>
        </p:txBody>
      </p:sp>
    </p:spTree>
  </p:cSld>
  <p:transition>
    <p:strips dir="r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ahoma"/>
              </a:rPr>
              <a:t>Partial androgen deficiency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lang="en-US" sz="4000" spc="-1" strike="noStrike" u="sng">
                <a:solidFill>
                  <a:srgbClr val="ffff00"/>
                </a:solidFill>
                <a:uFillTx/>
                <a:latin typeface="Tahoma"/>
              </a:rPr>
              <a:t>PADAM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”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11280" y="2060640"/>
            <a:ext cx="7921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ffcc00"/>
              </a:buClr>
              <a:buSzPct val="12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should be distinguished from absolute deficiency (agonadism, Klinefelter’s, haemochromatosis, pituitary tumours etc.)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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multiple aetiologies (alchohol, obesity, stress, aging etc.)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Dr. Robert A. J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AF3F3-74FA-4FD7-B043-CD941183EC9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D676D12B-A6AB-4F7C-992A-A1E4035BFC2A}" type="datetime3">
              <a:rPr lang="en-US"/>
              <a:t>July 29, 2026</a:t>
            </a:fld>
          </a:p>
        </p:txBody>
      </p:sp>
    </p:spTree>
  </p:cSld>
  <p:transition>
    <p:strips dir="ru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800"/>
                            </p:stCondLst>
                            <p:childTnLst>
                              <p:par>
                                <p:cTn id="706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ahoma"/>
              </a:rPr>
              <a:t>Symptom complex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371600" y="21333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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recisely the same as for women except for breast soreness and vulval skin problem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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uggestion that cholesterol profile may be improved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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ectation that osteoporosis will be improved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Dr. Robert A. J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ECF8F-7C75-4DD4-9E3F-7F2E434CC51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B82737AD-38ED-4730-AAF8-5F77CAF28826}" type="datetime3">
              <a:rPr lang="en-US"/>
              <a:t>July 29, 2026</a:t>
            </a:fld>
          </a:p>
        </p:txBody>
      </p:sp>
    </p:spTree>
  </p:cSld>
  <p:transition>
    <p:strips dir="ru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23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700"/>
                            </p:stCondLst>
                            <p:childTnLst>
                              <p:par>
                                <p:cTn id="72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27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550"/>
                            </p:stCondLst>
                            <p:childTnLst>
                              <p:par>
                                <p:cTn id="72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31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685800" y="228600"/>
            <a:ext cx="7645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ahoma"/>
                <a:ea typeface="Arial"/>
              </a:rPr>
              <a:t>Obes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144792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Arial"/>
              </a:rPr>
              <a:t>Appetite results from the expression of neuropeptide Y by the hypothalamu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Arial"/>
              </a:rPr>
              <a:t>Leptin is expressed as a function of the ‘ob gene’ in the fat deposit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Arial"/>
              </a:rPr>
              <a:t>Leptin induces negative feedback on neuropeptideY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Arial"/>
              </a:rPr>
              <a:t>Testosterone decreases the production of leptin and may therefore increase appeti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Arial"/>
              </a:rPr>
              <a:t>This may be overcome by an increase in B.M.R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A. Jon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65AF-007A-419D-8D2A-C0A92712FFEE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1D4EC1-CA68-4B0C-AB6E-C51346B796A0}" type="datetime3">
              <a:rPr lang="en-US"/>
              <a:t>July 29, 2026</a:t>
            </a:fld>
          </a:p>
        </p:txBody>
      </p:sp>
    </p:spTree>
  </p:cSld>
  <p:transition>
    <p:strips dir="ru"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4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8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500"/>
                            </p:stCondLst>
                            <p:childTnLst>
                              <p:par>
                                <p:cTn id="75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2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000"/>
                            </p:stCondLst>
                            <p:childTnLst>
                              <p:par>
                                <p:cTn id="75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6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500"/>
                            </p:stCondLst>
                            <p:childTnLst>
                              <p:par>
                                <p:cTn id="7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60" dur="5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85800" y="228600"/>
            <a:ext cx="7645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ahoma"/>
                <a:ea typeface="Arial"/>
              </a:rPr>
              <a:t>A.R.T. and C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Arial"/>
              </a:rPr>
              <a:t>No improvement in CAD rates for offspring of fathers (white males) with premature coronary death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Arial"/>
              </a:rPr>
              <a:t>Low endogenous testosterone correlates with increased coronary rat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Arial"/>
              </a:rPr>
              <a:t>Disagreement about effect on HDL/LDL and triglycerides- ? transient benefit- ? result of oestrogen production by aromatis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Arial"/>
              </a:rPr>
              <a:t>No change in carbohydrate metabolis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A. Jon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3037-6241-40CD-8CFB-16E75FE4084E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52A6E9-22B1-44E6-B85B-1593C08E162B}" type="datetime3">
              <a:rPr lang="en-US"/>
              <a:t>July 29, 2026</a:t>
            </a:fld>
          </a:p>
        </p:txBody>
      </p:sp>
    </p:spTree>
  </p:cSld>
  <p:transition>
    <p:strips dir="ru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3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7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7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1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5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685800" y="228600"/>
            <a:ext cx="7645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ahoma"/>
                <a:ea typeface="Arial"/>
              </a:rPr>
              <a:t>A.R.T. and Neuropsych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0920" y="2060640"/>
            <a:ext cx="868680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85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Arial"/>
              </a:rPr>
              <a:t>General anabolic and energising effec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28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Arial"/>
              </a:rPr>
              <a:t>e.g. high dose ART to depressed males improves affec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285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Arial"/>
              </a:rPr>
              <a:t>? A degree of aromatisation of  testosterone to oestradiol centrally (catechol oestrogens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285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Wingdings" charset="2"/>
              <a:buChar char=""/>
              <a:tabLst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Arial"/>
              </a:rPr>
              <a:t>Oestrogen displaces albumen bound tryptophane (the precursor of serotonin), effectively increasing serotonin uptak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A. Jon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73DB-D19C-43DC-A1CD-50CA2F4A64E2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E2D4D-D46D-4974-A3B8-E662C7D6C01E}" type="datetime3">
              <a:rPr lang="en-US"/>
              <a:t>July 29, 2026</a:t>
            </a:fld>
          </a:p>
        </p:txBody>
      </p:sp>
    </p:spTree>
  </p:cSld>
  <p:transition>
    <p:strips dir="ru"/>
  </p:transition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8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02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500"/>
                            </p:stCondLst>
                            <p:childTnLst>
                              <p:par>
                                <p:cTn id="8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06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2000"/>
                            </p:stCondLst>
                            <p:childTnLst>
                              <p:par>
                                <p:cTn id="80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10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ahoma"/>
              </a:rPr>
              <a:t>Suggested Managemen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324000" y="1052280"/>
            <a:ext cx="84960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deal with lifestyle issues: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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dietary control (central obesity and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hyperinsulinism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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ubstance abuse (drugs, alchohol,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moking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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exercise and stress reduc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rial of testosteron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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andriol, androderm, andromen or testosteron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implan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3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Correct both and look for spontaneous recover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Dr. Robert A. J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84B0C-4878-44A0-8321-866B78C5977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3533D092-172D-4FEC-B6FC-C98BD5171135}" type="datetime3">
              <a:rPr lang="en-US"/>
              <a:t>July 29, 2026</a:t>
            </a:fld>
          </a:p>
        </p:txBody>
      </p:sp>
    </p:spTree>
  </p:cSld>
  <p:transition>
    <p:strips dir="ru"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0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3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000"/>
                            </p:stCondLst>
                            <p:childTnLst>
                              <p:par>
                                <p:cTn id="82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500"/>
                            </p:stCondLst>
                            <p:childTnLst>
                              <p:par>
                                <p:cTn id="82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31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35" dur="5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500"/>
                            </p:stCondLst>
                            <p:childTnLst>
                              <p:par>
                                <p:cTn id="83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39" dur="5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3000"/>
                            </p:stCondLst>
                            <p:childTnLst>
                              <p:par>
                                <p:cTn id="84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3" dur="5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500"/>
                            </p:stCondLst>
                            <p:childTnLst>
                              <p:par>
                                <p:cTn id="84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7" dur="500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356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ffff00"/>
                </a:solidFill>
                <a:latin typeface="Tahoma"/>
              </a:rPr>
              <a:t>Beware the</a:t>
            </a:r>
            <a:endParaRPr b="0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320" name="" descr="My 204 .5 kg pumpkin"/>
          <p:cNvPicPr/>
          <p:nvPr/>
        </p:nvPicPr>
        <p:blipFill>
          <a:blip r:embed="rId2"/>
          <a:stretch/>
        </p:blipFill>
        <p:spPr>
          <a:xfrm>
            <a:off x="3635280" y="0"/>
            <a:ext cx="4967280" cy="64533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835280" y="4653000"/>
            <a:ext cx="51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0" spc="-1" strike="noStrike">
                <a:solidFill>
                  <a:srgbClr val="ffff00"/>
                </a:solidFill>
                <a:latin typeface="Tahoma"/>
                <a:ea typeface="Arial"/>
              </a:rPr>
              <a:t>prostate!!</a:t>
            </a:r>
            <a:endParaRPr b="0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35772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ffff00"/>
                </a:solidFill>
                <a:latin typeface="Tahoma"/>
                <a:ea typeface="Arial"/>
              </a:rPr>
              <a:t>pumpkin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A. J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5290-4F44-433F-91BB-AF5B34332B20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01B52F-230D-4F50-9691-64D4A00000A9}" type="datetime3">
              <a:rPr lang="en-US"/>
              <a:t>July 29, 2026</a:t>
            </a:fld>
          </a:p>
        </p:txBody>
      </p:sp>
    </p:spTree>
  </p:cSld>
  <p:transition>
    <p:strips dir="ru"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0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500"/>
                            </p:stCondLst>
                            <p:childTnLst>
                              <p:par>
                                <p:cTn id="8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4500"/>
                            </p:stCondLst>
                            <p:childTnLst>
                              <p:par>
                                <p:cTn id="87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2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7500"/>
                            </p:stCondLst>
                            <p:childTnLst>
                              <p:par>
                                <p:cTn id="87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9500"/>
                            </p:stCondLst>
                            <p:childTnLst>
                              <p:par>
                                <p:cTn id="880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88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8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8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8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1916280"/>
            <a:ext cx="31320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ahoma"/>
              </a:rPr>
              <a:t>Something to aspire to…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4565520" y="260280"/>
            <a:ext cx="4578480" cy="612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A. J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C9BB-6CAB-405C-B37D-5DB21C8C1A1B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50F7B0-E31D-44DA-9CC2-B51FEC7D6225}" type="datetime3">
              <a:rPr lang="en-US"/>
              <a:t>July 29, 2026</a:t>
            </a:fld>
          </a:p>
        </p:txBody>
      </p:sp>
    </p:spTree>
  </p:cSld>
  <p:transition>
    <p:strips dir="ru"/>
  </p:transition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0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2000"/>
                            </p:stCondLst>
                            <p:childTnLst>
                              <p:par>
                                <p:cTn id="8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4000"/>
                            </p:stCondLst>
                            <p:childTnLst>
                              <p:par>
                                <p:cTn id="90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85800" y="1219320"/>
            <a:ext cx="3809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600" spc="-1" strike="noStrike">
                <a:solidFill>
                  <a:srgbClr val="ffff00"/>
                </a:solidFill>
                <a:latin typeface="Tahoma"/>
                <a:ea typeface="Arial"/>
              </a:rPr>
              <a:t>Can we be seen to be producing a long living  gener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600" spc="-1" strike="noStrike">
                <a:solidFill>
                  <a:srgbClr val="ffff00"/>
                </a:solidFill>
                <a:latin typeface="Tahoma"/>
                <a:ea typeface="Arial"/>
              </a:rPr>
              <a:t>of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600" spc="-1" strike="noStrike">
                <a:solidFill>
                  <a:srgbClr val="ffff00"/>
                </a:solidFill>
                <a:latin typeface="Tahoma"/>
                <a:ea typeface="Arial"/>
              </a:rPr>
              <a:t> </a:t>
            </a:r>
            <a:r>
              <a:rPr b="1" i="1" lang="en-AU" sz="3600" spc="-1" strike="noStrike">
                <a:solidFill>
                  <a:srgbClr val="ffff00"/>
                </a:solidFill>
                <a:latin typeface="Tahoma"/>
                <a:ea typeface="Arial"/>
              </a:rPr>
              <a:t>superwome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600" spc="-1" strike="noStrike">
                <a:solidFill>
                  <a:srgbClr val="ffff00"/>
                </a:solidFill>
                <a:latin typeface="Tahoma"/>
                <a:ea typeface="Arial"/>
              </a:rPr>
              <a:t>(and men-?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5003640" y="2133720"/>
          <a:ext cx="12258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3640" y="2133720"/>
                    <a:ext cx="1225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 u="sng">
                <a:solidFill>
                  <a:srgbClr val="ffff00"/>
                </a:solidFill>
                <a:uFillTx/>
                <a:latin typeface="Tahoma"/>
                <a:ea typeface="Arial"/>
              </a:rPr>
              <a:t>Ultimate objectiv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907240" y="2792160"/>
            <a:ext cx="2399760" cy="3673800"/>
            <a:chOff x="5907240" y="2792160"/>
            <a:chExt cx="2399760" cy="3673800"/>
          </a:xfrm>
        </p:grpSpPr>
        <p:sp>
          <p:nvSpPr>
            <p:cNvPr id="330" name=""/>
            <p:cNvSpPr/>
            <p:nvPr/>
          </p:nvSpPr>
          <p:spPr>
            <a:xfrm rot="699000">
              <a:off x="6959880" y="3357720"/>
              <a:ext cx="409320" cy="753840"/>
            </a:xfrm>
            <a:custGeom>
              <a:avLst/>
              <a:gdLst/>
              <a:ahLst/>
              <a:rect l="l" t="t" r="r" b="b"/>
              <a:pathLst>
                <a:path w="492" h="584">
                  <a:moveTo>
                    <a:pt x="150" y="211"/>
                  </a:moveTo>
                  <a:lnTo>
                    <a:pt x="178" y="130"/>
                  </a:lnTo>
                  <a:lnTo>
                    <a:pt x="214" y="48"/>
                  </a:lnTo>
                  <a:lnTo>
                    <a:pt x="268" y="7"/>
                  </a:lnTo>
                  <a:lnTo>
                    <a:pt x="342" y="0"/>
                  </a:lnTo>
                  <a:lnTo>
                    <a:pt x="403" y="28"/>
                  </a:lnTo>
                  <a:lnTo>
                    <a:pt x="446" y="72"/>
                  </a:lnTo>
                  <a:lnTo>
                    <a:pt x="477" y="154"/>
                  </a:lnTo>
                  <a:lnTo>
                    <a:pt x="492" y="252"/>
                  </a:lnTo>
                  <a:lnTo>
                    <a:pt x="492" y="354"/>
                  </a:lnTo>
                  <a:lnTo>
                    <a:pt x="467" y="467"/>
                  </a:lnTo>
                  <a:lnTo>
                    <a:pt x="403" y="538"/>
                  </a:lnTo>
                  <a:lnTo>
                    <a:pt x="339" y="584"/>
                  </a:lnTo>
                  <a:lnTo>
                    <a:pt x="278" y="579"/>
                  </a:lnTo>
                  <a:lnTo>
                    <a:pt x="224" y="531"/>
                  </a:lnTo>
                  <a:lnTo>
                    <a:pt x="178" y="450"/>
                  </a:lnTo>
                  <a:lnTo>
                    <a:pt x="146" y="378"/>
                  </a:lnTo>
                  <a:lnTo>
                    <a:pt x="146" y="286"/>
                  </a:lnTo>
                  <a:lnTo>
                    <a:pt x="0" y="266"/>
                  </a:lnTo>
                  <a:lnTo>
                    <a:pt x="18" y="215"/>
                  </a:lnTo>
                  <a:lnTo>
                    <a:pt x="150" y="211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699000">
              <a:off x="7251480" y="2828880"/>
              <a:ext cx="535320" cy="1681560"/>
            </a:xfrm>
            <a:custGeom>
              <a:avLst/>
              <a:gdLst/>
              <a:ahLst/>
              <a:rect l="l" t="t" r="r" b="b"/>
              <a:pathLst>
                <a:path w="641" h="1307">
                  <a:moveTo>
                    <a:pt x="15" y="1297"/>
                  </a:moveTo>
                  <a:lnTo>
                    <a:pt x="0" y="1232"/>
                  </a:lnTo>
                  <a:lnTo>
                    <a:pt x="36" y="1180"/>
                  </a:lnTo>
                  <a:lnTo>
                    <a:pt x="152" y="1119"/>
                  </a:lnTo>
                  <a:lnTo>
                    <a:pt x="256" y="1051"/>
                  </a:lnTo>
                  <a:lnTo>
                    <a:pt x="354" y="937"/>
                  </a:lnTo>
                  <a:lnTo>
                    <a:pt x="489" y="781"/>
                  </a:lnTo>
                  <a:lnTo>
                    <a:pt x="525" y="718"/>
                  </a:lnTo>
                  <a:lnTo>
                    <a:pt x="543" y="657"/>
                  </a:lnTo>
                  <a:lnTo>
                    <a:pt x="535" y="596"/>
                  </a:lnTo>
                  <a:lnTo>
                    <a:pt x="503" y="482"/>
                  </a:lnTo>
                  <a:lnTo>
                    <a:pt x="426" y="339"/>
                  </a:lnTo>
                  <a:lnTo>
                    <a:pt x="341" y="260"/>
                  </a:lnTo>
                  <a:lnTo>
                    <a:pt x="266" y="216"/>
                  </a:lnTo>
                  <a:lnTo>
                    <a:pt x="206" y="209"/>
                  </a:lnTo>
                  <a:lnTo>
                    <a:pt x="174" y="216"/>
                  </a:lnTo>
                  <a:lnTo>
                    <a:pt x="171" y="185"/>
                  </a:lnTo>
                  <a:lnTo>
                    <a:pt x="244" y="175"/>
                  </a:lnTo>
                  <a:lnTo>
                    <a:pt x="329" y="175"/>
                  </a:lnTo>
                  <a:lnTo>
                    <a:pt x="269" y="106"/>
                  </a:lnTo>
                  <a:lnTo>
                    <a:pt x="234" y="51"/>
                  </a:lnTo>
                  <a:lnTo>
                    <a:pt x="259" y="31"/>
                  </a:lnTo>
                  <a:lnTo>
                    <a:pt x="354" y="124"/>
                  </a:lnTo>
                  <a:lnTo>
                    <a:pt x="373" y="137"/>
                  </a:lnTo>
                  <a:lnTo>
                    <a:pt x="354" y="65"/>
                  </a:lnTo>
                  <a:lnTo>
                    <a:pt x="341" y="10"/>
                  </a:lnTo>
                  <a:lnTo>
                    <a:pt x="354" y="0"/>
                  </a:lnTo>
                  <a:lnTo>
                    <a:pt x="386" y="10"/>
                  </a:lnTo>
                  <a:lnTo>
                    <a:pt x="414" y="137"/>
                  </a:lnTo>
                  <a:lnTo>
                    <a:pt x="429" y="134"/>
                  </a:lnTo>
                  <a:lnTo>
                    <a:pt x="429" y="34"/>
                  </a:lnTo>
                  <a:lnTo>
                    <a:pt x="458" y="24"/>
                  </a:lnTo>
                  <a:lnTo>
                    <a:pt x="478" y="41"/>
                  </a:lnTo>
                  <a:lnTo>
                    <a:pt x="468" y="175"/>
                  </a:lnTo>
                  <a:lnTo>
                    <a:pt x="461" y="229"/>
                  </a:lnTo>
                  <a:lnTo>
                    <a:pt x="478" y="339"/>
                  </a:lnTo>
                  <a:lnTo>
                    <a:pt x="535" y="455"/>
                  </a:lnTo>
                  <a:lnTo>
                    <a:pt x="595" y="589"/>
                  </a:lnTo>
                  <a:lnTo>
                    <a:pt x="641" y="688"/>
                  </a:lnTo>
                  <a:lnTo>
                    <a:pt x="638" y="739"/>
                  </a:lnTo>
                  <a:lnTo>
                    <a:pt x="553" y="832"/>
                  </a:lnTo>
                  <a:lnTo>
                    <a:pt x="436" y="948"/>
                  </a:lnTo>
                  <a:lnTo>
                    <a:pt x="341" y="1061"/>
                  </a:lnTo>
                  <a:lnTo>
                    <a:pt x="224" y="1212"/>
                  </a:lnTo>
                  <a:lnTo>
                    <a:pt x="127" y="1287"/>
                  </a:lnTo>
                  <a:lnTo>
                    <a:pt x="54" y="1307"/>
                  </a:lnTo>
                  <a:lnTo>
                    <a:pt x="15" y="1297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699000">
              <a:off x="5982480" y="4209480"/>
              <a:ext cx="982080" cy="844200"/>
            </a:xfrm>
            <a:custGeom>
              <a:avLst/>
              <a:gdLst/>
              <a:ahLst/>
              <a:rect l="l" t="t" r="r" b="b"/>
              <a:pathLst>
                <a:path w="1174" h="658">
                  <a:moveTo>
                    <a:pt x="238" y="531"/>
                  </a:moveTo>
                  <a:lnTo>
                    <a:pt x="409" y="524"/>
                  </a:lnTo>
                  <a:lnTo>
                    <a:pt x="564" y="504"/>
                  </a:lnTo>
                  <a:lnTo>
                    <a:pt x="660" y="480"/>
                  </a:lnTo>
                  <a:lnTo>
                    <a:pt x="799" y="402"/>
                  </a:lnTo>
                  <a:lnTo>
                    <a:pt x="898" y="327"/>
                  </a:lnTo>
                  <a:lnTo>
                    <a:pt x="1026" y="235"/>
                  </a:lnTo>
                  <a:lnTo>
                    <a:pt x="1086" y="177"/>
                  </a:lnTo>
                  <a:lnTo>
                    <a:pt x="1132" y="136"/>
                  </a:lnTo>
                  <a:lnTo>
                    <a:pt x="1174" y="92"/>
                  </a:lnTo>
                  <a:lnTo>
                    <a:pt x="1174" y="44"/>
                  </a:lnTo>
                  <a:lnTo>
                    <a:pt x="1128" y="0"/>
                  </a:lnTo>
                  <a:lnTo>
                    <a:pt x="1100" y="10"/>
                  </a:lnTo>
                  <a:lnTo>
                    <a:pt x="1022" y="102"/>
                  </a:lnTo>
                  <a:lnTo>
                    <a:pt x="937" y="207"/>
                  </a:lnTo>
                  <a:lnTo>
                    <a:pt x="852" y="306"/>
                  </a:lnTo>
                  <a:lnTo>
                    <a:pt x="727" y="388"/>
                  </a:lnTo>
                  <a:lnTo>
                    <a:pt x="621" y="442"/>
                  </a:lnTo>
                  <a:lnTo>
                    <a:pt x="504" y="470"/>
                  </a:lnTo>
                  <a:lnTo>
                    <a:pt x="341" y="473"/>
                  </a:lnTo>
                  <a:lnTo>
                    <a:pt x="245" y="473"/>
                  </a:lnTo>
                  <a:lnTo>
                    <a:pt x="164" y="412"/>
                  </a:lnTo>
                  <a:lnTo>
                    <a:pt x="142" y="371"/>
                  </a:lnTo>
                  <a:lnTo>
                    <a:pt x="107" y="371"/>
                  </a:lnTo>
                  <a:lnTo>
                    <a:pt x="132" y="422"/>
                  </a:lnTo>
                  <a:lnTo>
                    <a:pt x="170" y="470"/>
                  </a:lnTo>
                  <a:lnTo>
                    <a:pt x="75" y="449"/>
                  </a:lnTo>
                  <a:lnTo>
                    <a:pt x="4" y="439"/>
                  </a:lnTo>
                  <a:lnTo>
                    <a:pt x="4" y="459"/>
                  </a:lnTo>
                  <a:lnTo>
                    <a:pt x="67" y="473"/>
                  </a:lnTo>
                  <a:lnTo>
                    <a:pt x="110" y="500"/>
                  </a:lnTo>
                  <a:lnTo>
                    <a:pt x="149" y="504"/>
                  </a:lnTo>
                  <a:lnTo>
                    <a:pt x="89" y="524"/>
                  </a:lnTo>
                  <a:lnTo>
                    <a:pt x="0" y="544"/>
                  </a:lnTo>
                  <a:lnTo>
                    <a:pt x="4" y="565"/>
                  </a:lnTo>
                  <a:lnTo>
                    <a:pt x="32" y="572"/>
                  </a:lnTo>
                  <a:lnTo>
                    <a:pt x="117" y="544"/>
                  </a:lnTo>
                  <a:lnTo>
                    <a:pt x="170" y="541"/>
                  </a:lnTo>
                  <a:lnTo>
                    <a:pt x="139" y="572"/>
                  </a:lnTo>
                  <a:lnTo>
                    <a:pt x="89" y="623"/>
                  </a:lnTo>
                  <a:lnTo>
                    <a:pt x="67" y="636"/>
                  </a:lnTo>
                  <a:lnTo>
                    <a:pt x="85" y="658"/>
                  </a:lnTo>
                  <a:lnTo>
                    <a:pt x="128" y="633"/>
                  </a:lnTo>
                  <a:lnTo>
                    <a:pt x="185" y="582"/>
                  </a:lnTo>
                  <a:lnTo>
                    <a:pt x="238" y="531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699000">
              <a:off x="6855840" y="4260240"/>
              <a:ext cx="577080" cy="1165680"/>
            </a:xfrm>
            <a:custGeom>
              <a:avLst/>
              <a:gdLst/>
              <a:ahLst/>
              <a:rect l="l" t="t" r="r" b="b"/>
              <a:pathLst>
                <a:path w="689" h="906">
                  <a:moveTo>
                    <a:pt x="43" y="102"/>
                  </a:moveTo>
                  <a:lnTo>
                    <a:pt x="72" y="30"/>
                  </a:lnTo>
                  <a:lnTo>
                    <a:pt x="118" y="0"/>
                  </a:lnTo>
                  <a:lnTo>
                    <a:pt x="160" y="0"/>
                  </a:lnTo>
                  <a:lnTo>
                    <a:pt x="203" y="20"/>
                  </a:lnTo>
                  <a:lnTo>
                    <a:pt x="245" y="61"/>
                  </a:lnTo>
                  <a:lnTo>
                    <a:pt x="267" y="132"/>
                  </a:lnTo>
                  <a:lnTo>
                    <a:pt x="278" y="204"/>
                  </a:lnTo>
                  <a:lnTo>
                    <a:pt x="299" y="275"/>
                  </a:lnTo>
                  <a:lnTo>
                    <a:pt x="338" y="354"/>
                  </a:lnTo>
                  <a:lnTo>
                    <a:pt x="405" y="435"/>
                  </a:lnTo>
                  <a:lnTo>
                    <a:pt x="470" y="490"/>
                  </a:lnTo>
                  <a:lnTo>
                    <a:pt x="565" y="531"/>
                  </a:lnTo>
                  <a:lnTo>
                    <a:pt x="647" y="592"/>
                  </a:lnTo>
                  <a:lnTo>
                    <a:pt x="689" y="653"/>
                  </a:lnTo>
                  <a:lnTo>
                    <a:pt x="682" y="704"/>
                  </a:lnTo>
                  <a:lnTo>
                    <a:pt x="672" y="766"/>
                  </a:lnTo>
                  <a:lnTo>
                    <a:pt x="640" y="807"/>
                  </a:lnTo>
                  <a:lnTo>
                    <a:pt x="587" y="858"/>
                  </a:lnTo>
                  <a:lnTo>
                    <a:pt x="509" y="895"/>
                  </a:lnTo>
                  <a:lnTo>
                    <a:pt x="449" y="906"/>
                  </a:lnTo>
                  <a:lnTo>
                    <a:pt x="363" y="888"/>
                  </a:lnTo>
                  <a:lnTo>
                    <a:pt x="285" y="847"/>
                  </a:lnTo>
                  <a:lnTo>
                    <a:pt x="203" y="786"/>
                  </a:lnTo>
                  <a:lnTo>
                    <a:pt x="147" y="715"/>
                  </a:lnTo>
                  <a:lnTo>
                    <a:pt x="93" y="623"/>
                  </a:lnTo>
                  <a:lnTo>
                    <a:pt x="50" y="517"/>
                  </a:lnTo>
                  <a:lnTo>
                    <a:pt x="22" y="425"/>
                  </a:lnTo>
                  <a:lnTo>
                    <a:pt x="8" y="337"/>
                  </a:lnTo>
                  <a:lnTo>
                    <a:pt x="0" y="214"/>
                  </a:lnTo>
                  <a:lnTo>
                    <a:pt x="22" y="132"/>
                  </a:lnTo>
                  <a:lnTo>
                    <a:pt x="43" y="102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699000">
              <a:off x="7224480" y="4890240"/>
              <a:ext cx="985680" cy="1056240"/>
            </a:xfrm>
            <a:custGeom>
              <a:avLst/>
              <a:gdLst/>
              <a:ahLst/>
              <a:rect l="l" t="t" r="r" b="b"/>
              <a:pathLst>
                <a:path w="1181" h="823">
                  <a:moveTo>
                    <a:pt x="132" y="260"/>
                  </a:moveTo>
                  <a:lnTo>
                    <a:pt x="245" y="167"/>
                  </a:lnTo>
                  <a:lnTo>
                    <a:pt x="384" y="82"/>
                  </a:lnTo>
                  <a:lnTo>
                    <a:pt x="472" y="30"/>
                  </a:lnTo>
                  <a:lnTo>
                    <a:pt x="543" y="13"/>
                  </a:lnTo>
                  <a:lnTo>
                    <a:pt x="599" y="0"/>
                  </a:lnTo>
                  <a:lnTo>
                    <a:pt x="649" y="20"/>
                  </a:lnTo>
                  <a:lnTo>
                    <a:pt x="681" y="85"/>
                  </a:lnTo>
                  <a:lnTo>
                    <a:pt x="703" y="260"/>
                  </a:lnTo>
                  <a:lnTo>
                    <a:pt x="703" y="471"/>
                  </a:lnTo>
                  <a:lnTo>
                    <a:pt x="703" y="607"/>
                  </a:lnTo>
                  <a:lnTo>
                    <a:pt x="728" y="690"/>
                  </a:lnTo>
                  <a:lnTo>
                    <a:pt x="777" y="676"/>
                  </a:lnTo>
                  <a:lnTo>
                    <a:pt x="813" y="625"/>
                  </a:lnTo>
                  <a:lnTo>
                    <a:pt x="883" y="566"/>
                  </a:lnTo>
                  <a:lnTo>
                    <a:pt x="993" y="532"/>
                  </a:lnTo>
                  <a:lnTo>
                    <a:pt x="1068" y="532"/>
                  </a:lnTo>
                  <a:lnTo>
                    <a:pt x="1181" y="552"/>
                  </a:lnTo>
                  <a:lnTo>
                    <a:pt x="1175" y="593"/>
                  </a:lnTo>
                  <a:lnTo>
                    <a:pt x="1150" y="628"/>
                  </a:lnTo>
                  <a:lnTo>
                    <a:pt x="1111" y="635"/>
                  </a:lnTo>
                  <a:lnTo>
                    <a:pt x="1068" y="614"/>
                  </a:lnTo>
                  <a:lnTo>
                    <a:pt x="1004" y="586"/>
                  </a:lnTo>
                  <a:lnTo>
                    <a:pt x="940" y="586"/>
                  </a:lnTo>
                  <a:lnTo>
                    <a:pt x="855" y="639"/>
                  </a:lnTo>
                  <a:lnTo>
                    <a:pt x="802" y="717"/>
                  </a:lnTo>
                  <a:lnTo>
                    <a:pt x="791" y="782"/>
                  </a:lnTo>
                  <a:lnTo>
                    <a:pt x="769" y="823"/>
                  </a:lnTo>
                  <a:lnTo>
                    <a:pt x="684" y="819"/>
                  </a:lnTo>
                  <a:lnTo>
                    <a:pt x="681" y="758"/>
                  </a:lnTo>
                  <a:lnTo>
                    <a:pt x="653" y="669"/>
                  </a:lnTo>
                  <a:lnTo>
                    <a:pt x="642" y="576"/>
                  </a:lnTo>
                  <a:lnTo>
                    <a:pt x="649" y="454"/>
                  </a:lnTo>
                  <a:lnTo>
                    <a:pt x="639" y="280"/>
                  </a:lnTo>
                  <a:lnTo>
                    <a:pt x="632" y="167"/>
                  </a:lnTo>
                  <a:lnTo>
                    <a:pt x="611" y="126"/>
                  </a:lnTo>
                  <a:lnTo>
                    <a:pt x="568" y="85"/>
                  </a:lnTo>
                  <a:lnTo>
                    <a:pt x="522" y="85"/>
                  </a:lnTo>
                  <a:lnTo>
                    <a:pt x="457" y="126"/>
                  </a:lnTo>
                  <a:lnTo>
                    <a:pt x="372" y="205"/>
                  </a:lnTo>
                  <a:lnTo>
                    <a:pt x="267" y="307"/>
                  </a:lnTo>
                  <a:lnTo>
                    <a:pt x="160" y="403"/>
                  </a:lnTo>
                  <a:lnTo>
                    <a:pt x="107" y="433"/>
                  </a:lnTo>
                  <a:lnTo>
                    <a:pt x="43" y="433"/>
                  </a:lnTo>
                  <a:lnTo>
                    <a:pt x="0" y="389"/>
                  </a:lnTo>
                  <a:lnTo>
                    <a:pt x="4" y="318"/>
                  </a:lnTo>
                  <a:lnTo>
                    <a:pt x="47" y="280"/>
                  </a:lnTo>
                  <a:lnTo>
                    <a:pt x="96" y="270"/>
                  </a:lnTo>
                  <a:lnTo>
                    <a:pt x="132" y="26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699000">
              <a:off x="7080480" y="5295960"/>
              <a:ext cx="672840" cy="1113120"/>
            </a:xfrm>
            <a:custGeom>
              <a:avLst/>
              <a:gdLst/>
              <a:ahLst/>
              <a:rect l="l" t="t" r="r" b="b"/>
              <a:pathLst>
                <a:path w="808" h="864">
                  <a:moveTo>
                    <a:pt x="0" y="73"/>
                  </a:moveTo>
                  <a:lnTo>
                    <a:pt x="25" y="18"/>
                  </a:lnTo>
                  <a:lnTo>
                    <a:pt x="78" y="0"/>
                  </a:lnTo>
                  <a:lnTo>
                    <a:pt x="152" y="8"/>
                  </a:lnTo>
                  <a:lnTo>
                    <a:pt x="170" y="59"/>
                  </a:lnTo>
                  <a:lnTo>
                    <a:pt x="142" y="258"/>
                  </a:lnTo>
                  <a:lnTo>
                    <a:pt x="138" y="409"/>
                  </a:lnTo>
                  <a:lnTo>
                    <a:pt x="131" y="494"/>
                  </a:lnTo>
                  <a:lnTo>
                    <a:pt x="131" y="511"/>
                  </a:lnTo>
                  <a:lnTo>
                    <a:pt x="148" y="594"/>
                  </a:lnTo>
                  <a:lnTo>
                    <a:pt x="195" y="607"/>
                  </a:lnTo>
                  <a:lnTo>
                    <a:pt x="255" y="594"/>
                  </a:lnTo>
                  <a:lnTo>
                    <a:pt x="343" y="546"/>
                  </a:lnTo>
                  <a:lnTo>
                    <a:pt x="439" y="522"/>
                  </a:lnTo>
                  <a:lnTo>
                    <a:pt x="545" y="504"/>
                  </a:lnTo>
                  <a:lnTo>
                    <a:pt x="662" y="491"/>
                  </a:lnTo>
                  <a:lnTo>
                    <a:pt x="747" y="491"/>
                  </a:lnTo>
                  <a:lnTo>
                    <a:pt x="786" y="501"/>
                  </a:lnTo>
                  <a:lnTo>
                    <a:pt x="808" y="526"/>
                  </a:lnTo>
                  <a:lnTo>
                    <a:pt x="797" y="563"/>
                  </a:lnTo>
                  <a:lnTo>
                    <a:pt x="744" y="594"/>
                  </a:lnTo>
                  <a:lnTo>
                    <a:pt x="694" y="638"/>
                  </a:lnTo>
                  <a:lnTo>
                    <a:pt x="648" y="700"/>
                  </a:lnTo>
                  <a:lnTo>
                    <a:pt x="619" y="752"/>
                  </a:lnTo>
                  <a:lnTo>
                    <a:pt x="595" y="803"/>
                  </a:lnTo>
                  <a:lnTo>
                    <a:pt x="577" y="864"/>
                  </a:lnTo>
                  <a:lnTo>
                    <a:pt x="552" y="864"/>
                  </a:lnTo>
                  <a:lnTo>
                    <a:pt x="531" y="840"/>
                  </a:lnTo>
                  <a:lnTo>
                    <a:pt x="524" y="772"/>
                  </a:lnTo>
                  <a:lnTo>
                    <a:pt x="574" y="711"/>
                  </a:lnTo>
                  <a:lnTo>
                    <a:pt x="641" y="638"/>
                  </a:lnTo>
                  <a:lnTo>
                    <a:pt x="704" y="584"/>
                  </a:lnTo>
                  <a:lnTo>
                    <a:pt x="733" y="567"/>
                  </a:lnTo>
                  <a:lnTo>
                    <a:pt x="744" y="543"/>
                  </a:lnTo>
                  <a:lnTo>
                    <a:pt x="716" y="526"/>
                  </a:lnTo>
                  <a:lnTo>
                    <a:pt x="619" y="526"/>
                  </a:lnTo>
                  <a:lnTo>
                    <a:pt x="499" y="546"/>
                  </a:lnTo>
                  <a:lnTo>
                    <a:pt x="404" y="577"/>
                  </a:lnTo>
                  <a:lnTo>
                    <a:pt x="300" y="635"/>
                  </a:lnTo>
                  <a:lnTo>
                    <a:pt x="212" y="675"/>
                  </a:lnTo>
                  <a:lnTo>
                    <a:pt x="117" y="679"/>
                  </a:lnTo>
                  <a:lnTo>
                    <a:pt x="78" y="665"/>
                  </a:lnTo>
                  <a:lnTo>
                    <a:pt x="56" y="614"/>
                  </a:lnTo>
                  <a:lnTo>
                    <a:pt x="42" y="543"/>
                  </a:lnTo>
                  <a:lnTo>
                    <a:pt x="35" y="409"/>
                  </a:lnTo>
                  <a:lnTo>
                    <a:pt x="21" y="172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A. Jon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1DD2-703E-4FEC-9574-A05259DEEFFB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6FA226-44D5-4746-8786-F709BD89B1BA}" type="datetime3">
              <a:rPr lang="en-US"/>
              <a:t>July 29, 2026</a:t>
            </a:fld>
          </a:p>
        </p:txBody>
      </p:sp>
    </p:spTree>
  </p:cSld>
  <p:transition>
    <p:strips dir="ru"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00"/>
                            </p:stCondLst>
                            <p:childTnLst>
                              <p:par>
                                <p:cTn id="9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500"/>
                            </p:stCondLst>
                            <p:childTnLst>
                              <p:par>
                                <p:cTn id="9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500"/>
                            </p:stCondLst>
                            <p:childTnLst>
                              <p:par>
                                <p:cTn id="9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human ovary produces more testosterone than oestrogen- weight for weigh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28240" y="2707920"/>
            <a:ext cx="8915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postmenopausal ovary continues to produce testosterone after the cessation of follicular activity cuts off the supply of oestrogen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Dr. Robert A. J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CE736-D952-429F-8FC2-C8F086CB8E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92BA7DD8-C276-40FC-A677-AD49BCE47AFE}" type="datetime3">
              <a:rPr lang="en-US"/>
              <a:t>July 29, 2026</a:t>
            </a:fld>
          </a:p>
        </p:txBody>
      </p:sp>
    </p:spTree>
  </p:cSld>
  <p:transition>
    <p:strips dir="ru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5280" y="-360"/>
            <a:ext cx="88934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As the ovary fails, it continues to produce testosterone and perhaps in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increased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 amounts…for a variable number of years.</a:t>
            </a:r>
            <a:br>
              <a:rPr sz="4000"/>
            </a:br>
            <a:br>
              <a:rPr sz="1800"/>
            </a:br>
            <a:br>
              <a:rPr sz="18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his is the so called…</a:t>
            </a:r>
            <a:br>
              <a:rPr sz="4000"/>
            </a:br>
            <a:br>
              <a:rPr sz="10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 “continuation of ovarian function postmenopausally”.</a:t>
            </a:r>
            <a:br>
              <a:rPr sz="1000"/>
            </a:br>
            <a:br>
              <a:rPr sz="10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i.e. progressive androgenisation!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Dr. Robert A. J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C003E-708D-4DF8-8B10-A0B30D59929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7B3C01E1-55A3-47DA-AFE1-54E833C14F15}" type="datetime3">
              <a:rPr lang="en-US"/>
              <a:t>July 29, 2026</a:t>
            </a:fld>
          </a:p>
        </p:txBody>
      </p:sp>
    </p:spTree>
  </p:cSld>
  <p:transition>
    <p:strips dir="ru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3055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With the introduction of HRT (oestrogen only or ERT), testosterone status falls to zero.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is is due to two factor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4191120"/>
            <a:ext cx="830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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essation of production from the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vary by suppression of LH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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inding of testosterone by SHBG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A. J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0E3E-A357-42D4-8875-40C4D4EF896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16230-D2FC-4AEB-AE3F-78281E381332}" type="datetime3">
              <a:rPr lang="en-US"/>
              <a:t>July 29, 2026</a:t>
            </a:fld>
          </a:p>
        </p:txBody>
      </p:sp>
    </p:spTree>
  </p:cSld>
  <p:transition>
    <p:strips dir="ru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It follows therefore, that any woman taking oestrogen or producing excess oestrogens is relatively or absolutely testosterone deficient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e.g.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he oral contraceptive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multicystic ovary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oestrogen replacement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A. J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12AB-2337-43C7-8C22-18B71612AF6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647FFF-51E8-4E5E-B3BA-968DE9E41657}" type="datetime3">
              <a:rPr lang="en-US"/>
              <a:t>July 29, 2026</a:t>
            </a:fld>
          </a:p>
        </p:txBody>
      </p:sp>
    </p:spTree>
  </p:cSld>
  <p:transition>
    <p:strips dir="r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10480" cy="59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Oestrogen and progesterone are the mainstay of ERT.</a:t>
            </a:r>
            <a:br>
              <a:rPr sz="40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estosterone may still be viewed as the,</a:t>
            </a:r>
            <a:br>
              <a:rPr sz="1800"/>
            </a:br>
            <a:br>
              <a:rPr sz="7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“Cinderella of the hormonal ball”…</a:t>
            </a:r>
            <a:br>
              <a:rPr sz="4000"/>
            </a:br>
            <a:br>
              <a:rPr sz="4000"/>
            </a:br>
            <a:r>
              <a:rPr b="0" lang="en-US" sz="4000" spc="-1" strike="noStrike" u="sng">
                <a:solidFill>
                  <a:srgbClr val="ffff00"/>
                </a:solidFill>
                <a:uFillTx/>
                <a:latin typeface="Tahoma"/>
              </a:rPr>
              <a:t>but she got to marry Prince Charming!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    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A. J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44C5-08A7-48B8-B4C2-7B35583DF83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F5EB25-35F0-43FA-8C4E-C735D111AB2E}" type="datetime3">
              <a:rPr lang="en-US"/>
              <a:t>July 29, 2026</a:t>
            </a:fld>
          </a:p>
        </p:txBody>
      </p:sp>
    </p:spTree>
  </p:cSld>
  <p:transition>
    <p:strips dir="r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00"/>
                </a:solidFill>
                <a:uFillTx/>
                <a:latin typeface="Tahoma"/>
              </a:rPr>
              <a:t>Symptoms</a:t>
            </a:r>
            <a:endParaRPr b="0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228240" y="1557360"/>
            <a:ext cx="8915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estosterone replacement is generally regarded as indicated for loss of libido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ahoma"/>
              </a:rPr>
              <a:t>(by a predominantly male profession)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…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.. and while this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may be true, other symptoms are of greater importance.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Dr. Robert A. J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55EAA-7307-46A2-9E6C-63733F9DAF8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F65F0A26-6595-4704-9824-E82EE94ACFC2}" type="datetime3">
              <a:rPr lang="en-US"/>
              <a:t>July 29, 2026</a:t>
            </a:fld>
          </a:p>
        </p:txBody>
      </p:sp>
    </p:spTree>
  </p:cSld>
  <p:transition>
    <p:strips dir="r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9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2T00:23:26Z</dcterms:created>
  <dc:creator>Dr. Robert Anthony Jones</dc:creator>
  <dc:description/>
  <dc:language>en-US</dc:language>
  <cp:lastModifiedBy>Lea Hoffman</cp:lastModifiedBy>
  <dcterms:modified xsi:type="dcterms:W3CDTF">2002-09-11T02:27:40Z</dcterms:modified>
  <cp:revision>36</cp:revision>
  <dc:subject/>
  <dc:title>Testosterone replacement 2002</dc:title>
</cp:coreProperties>
</file>