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25D-4512-4043-8EEE-77C098D6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E45-B3F1-4BE3-9160-BDF64D2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2C4-3FB9-403E-ABF8-4A2CD7D1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931-6212-446D-A032-18E4F1B5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4E5-5F8A-4E49-8316-65B2FD77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FEB6-D63B-4F2D-9662-7358BA0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E7C-1310-44E9-A527-5770321F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49C-B4ED-414C-92BE-8DB3F00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1D0-DD09-4D35-BDF4-C682832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3DD9-D716-4913-BF4D-6A5C5C9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DB9-8FFA-4AFF-8DDE-FBD5532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D96-3C58-46BA-8D11-8DF93C3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789-59A9-478D-9D04-9C17A773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23B-FCF8-42A6-A5B6-7E9A939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D0AB-1542-45FC-A437-889317B9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16F1-F2CA-4025-8577-DDA77C7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D30-DA2B-48DC-BE32-8E64BC56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3D0-043E-466C-8009-ADF187A4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CD5-C960-4538-8E3B-3263B2F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728-ADBA-455D-AD24-F20C26C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68E-EB62-4433-9056-0406D1B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F7F-F88B-4460-BCC7-BDFA575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75F-A739-480F-8749-13474D4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C04-E5A6-4498-B86A-11275D0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68D-3DC7-4A6B-ACEA-DB9ACA01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5936-526A-4D59-95A9-3446DA08FAA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Testosterone</a:t>
            </a:r>
            <a:br>
              <a:rPr sz="7200"/>
            </a:b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7200"/>
            </a:b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Breast Cancer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1814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“ABC Stud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implistic idea emerged that if  oestrogen was at least a promoter of breast cancer, and if testosterone reduced breast stimulation, might it not be shown to decrease the incidence of breast cancer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244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retrospective data collection was undertak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list of patients receiving testosterone were drawn from the computer billing record and contacted by telephone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interview was conducted by a research assistant with a standardised questionnaire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data included in addition to basic clinical information,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819520"/>
            <a:ext cx="746748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benign breas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HDL/ L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hip and spine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otal no. attempted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36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uccessful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20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Unable to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 11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Gone o/s or i/s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Date of Incidence of the Cancer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76520" y="1943280"/>
          <a:ext cx="687708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43280"/>
                    <a:ext cx="687708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010280" y="5867280"/>
            <a:ext cx="898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244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A survival analysis for the study group was undertaken.</a:t>
            </a:r>
            <a:br>
              <a:rPr sz="3600"/>
            </a:br>
            <a:br>
              <a:rPr sz="3600"/>
            </a:b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starting date for the measurement of survival time was the date of first testosterone implant.</a:t>
            </a:r>
            <a:br>
              <a:rPr sz="3600"/>
            </a:b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end time was the date of last follow up for those women not diagnosed with breast cancer, and date of diagnosis for those women diagnosed with breast cancer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urvival time was compared with data taken from the S. A. Cancer Registry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00200" y="5335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he 10-year breast cancer free survival rate for patients in the trial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209680"/>
            <a:ext cx="6629400" cy="12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ff3300"/>
                </a:solidFill>
                <a:latin typeface="Times New Roman"/>
              </a:rPr>
              <a:t>97.41%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(95% confidence interval of 95.53% to 99.29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962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AU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pected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 10-year breast cancer free survival rate for patients in the trial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562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ffffff"/>
                </a:solidFill>
                <a:latin typeface="Times New Roman"/>
              </a:rPr>
              <a:t>97.52%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000000"/>
                </a:solidFill>
                <a:latin typeface="Times New Roman"/>
              </a:rPr>
              <a:t>It would appear then that the survival from the diagnosis breast cancer did not differ from that of the South Australian population at large of whom 44.3% were taking oestrogens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is is a preliminary view of data collected on women receiving testosterone with oestrogen replacement in the menopause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se data are yet to be finally analysed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It would have been optimal to compare the study group with women taking oestrogen alone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statistical estimate was made of expected rates if 100% of the women in the Omnibus Study had been taking oestrog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R.R. of 1.35 (Beral et al) was used in this exercise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44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. A. Health Omnibus Study tells us that in 1997  the current use of oestrogen was a maximum of 44.3% and the ‘ever use’ was 63.6%,  and that only 5.4% of these had ever used testosterone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calculation shows that the </a:t>
            </a:r>
            <a:r>
              <a:rPr b="1" i="1" lang="en-AU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pected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10-year breast cancer free survival rate for patients in the trial w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9625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It might therefore be suspected that if the testosterone users were compared with oestrogen only users, the incidence of breast cancer would be re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43828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3399"/>
                </a:solidFill>
                <a:latin typeface="Times New Roman"/>
              </a:rPr>
              <a:t>?? 92% 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562720" y="990720"/>
            <a:ext cx="314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imes New Roman"/>
              </a:rPr>
              <a:t>Thank you for   your atten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59424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20 women received testosterone and oestrogen by implant over 12 years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current population of women receiving both testosterone and oestrogen in my practice at that time was: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1000+/- patien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Oestrogen was given at 6-12 month intervals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estosterone was given at 5-6 monthly intervals. 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The dose of testosterone varied between 50 and 100 mgm and rarely 150 mgm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dose of implant was selected on subjective response, checked  by objective measurement and reduced if adverse side effects emerged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measured total level would often exceed the premenopausal “normal range”.</a:t>
            </a:r>
            <a:br>
              <a:rPr sz="4400"/>
            </a:br>
            <a:br>
              <a:rPr sz="20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relevant level would be the bioavailable range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(testosterone </a:t>
            </a:r>
            <a:r>
              <a:rPr b="1" i="1" lang="en-AU" sz="4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HBG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“testosterone index”)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Originally the testosterone was used in line with conventional medical wisdom to improve libido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Quite quickly it became apparent that this was not the major benefit that the hormone could confer on the woman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s the years passed, it was noted that the testosterone appeared to have the capacity to reduce oestrogen stimulated breast soreness and the incidence of abnormal mammograms was reduced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44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only possible exception to this would be when the woman was inadequately replaced with oestrog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Under these circumstances it is believed that there may have been increased aromatisation of testosterone to oestrogen within the breast tissu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23:32:11Z</dcterms:created>
  <dc:creator>Robert A Jones</dc:creator>
  <dc:description/>
  <dc:language>en-US</dc:language>
  <cp:lastModifiedBy>Dr Robert A. Jones</cp:lastModifiedBy>
  <dcterms:modified xsi:type="dcterms:W3CDTF">2003-04-09T05:08:39Z</dcterms:modified>
  <cp:revision>18</cp:revision>
  <dc:subject/>
  <dc:title>Testosterone and Breast Cancer</dc:title>
</cp:coreProperties>
</file>